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09F-40DB-456D-9256-9DA9273C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2B1-A2E5-463B-B463-2FF7955B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D43-D5B5-4FAB-BA0F-119453E6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A38-CDAE-4004-BB13-C998D7D4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12F-4501-4D50-8D85-582A3DC4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545-0A54-4324-B01B-55A84B29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F77-C9E0-4294-AA2B-5BCAFB7C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8B4-1E11-4CE6-B206-3C750858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0E9-B3F5-4B38-8BED-3A42AC7A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28F-EF18-48B6-B868-C96B8A97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7D9-85D2-43D7-BFD2-B744138C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CD15-B9F7-4FC9-AF9F-9F4D2E71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3EDB-BF3F-403D-9457-DEDABD558F6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685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hat is the Life Time of Pro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8195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estimate in real application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9862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ilure logic in real applications. (in case of temperature 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3367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mperature ch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3900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ess of filled resin in sens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36720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05520" y="3747960"/>
          <a:ext cx="3206520" cy="21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747960"/>
                    <a:ext cx="3206520" cy="2156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334120" y="420516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n stress in se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42051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45100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eak of electric compone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150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eak of sealing by resi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511956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rack, break of resi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55008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580536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ction failure ,  Isolation brea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59084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fe time of proximity sensor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19717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imity sensor does not contain the deteriorate compon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27664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TTF (MIL 217f) : over 20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094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tio of returned products from market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914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Failure rate = 1 fit  (=1x10</a:t>
            </a:r>
            <a:r>
              <a:rPr b="1" lang="ja-JP" sz="18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pcs/hou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385920"/>
            <a:ext cx="75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w to predict the real life? (In case of temperature change cycl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1143000"/>
            <a:ext cx="71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 general formula, the relation between temp and life is as follow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79680" y="3503520"/>
            <a:ext cx="379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38440" y="365616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emperature change (deg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460600" y="1623600"/>
            <a:ext cx="0" cy="187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455480" y="209484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ime (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11320" y="1806480"/>
            <a:ext cx="2968920" cy="1519200"/>
          </a:xfrm>
          <a:custGeom>
            <a:avLst/>
            <a:gdLst/>
            <a:ahLst/>
            <a:rect l="l" t="t" r="r" b="b"/>
            <a:pathLst>
              <a:path w="1870" h="957">
                <a:moveTo>
                  <a:pt x="1870" y="957"/>
                </a:moveTo>
                <a:cubicBezTo>
                  <a:pt x="1378" y="948"/>
                  <a:pt x="887" y="939"/>
                  <a:pt x="603" y="850"/>
                </a:cubicBezTo>
                <a:cubicBezTo>
                  <a:pt x="319" y="761"/>
                  <a:pt x="269" y="567"/>
                  <a:pt x="168" y="425"/>
                </a:cubicBezTo>
                <a:cubicBezTo>
                  <a:pt x="67" y="283"/>
                  <a:pt x="33" y="14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70280" y="1758960"/>
            <a:ext cx="258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=c*T</a:t>
            </a:r>
            <a:r>
              <a:rPr b="0" lang="ja-JP" sz="2400" spc="-1" strike="noStrike" baseline="48000">
                <a:solidFill>
                  <a:srgbClr val="000000"/>
                </a:solidFill>
                <a:latin typeface="Times New Roman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70280" y="22654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: life time (number of temp cyc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70280" y="26305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,n : constant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99080" y="29257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: temperature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46640" y="3981600"/>
            <a:ext cx="393480" cy="436320"/>
          </a:xfrm>
          <a:prstGeom prst="downArrow">
            <a:avLst>
              <a:gd name="adj1" fmla="val 50000"/>
              <a:gd name="adj2" fmla="val 277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52520" y="4449600"/>
            <a:ext cx="71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 possible to estimate the value of C,n on real applicat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6640" y="4756320"/>
            <a:ext cx="393480" cy="350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7080" y="5927760"/>
            <a:ext cx="78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MRON decided the internal judgment criteria for H/S test from experi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1120" y="5138640"/>
            <a:ext cx="71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OMRON has experience in prox mark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73280" y="5529240"/>
            <a:ext cx="393840" cy="35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3840" y="627372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H/S test: -40 to 85 degC 100 cycle and comparison with competitors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08240" y="735120"/>
            <a:ext cx="78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ed long time to predict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chose the acceleration test by Heat Shock (H/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5:45:00Z</dcterms:created>
  <dc:creator>NHA0019E</dc:creator>
  <dc:description/>
  <dc:language>en-US</dc:language>
  <cp:lastModifiedBy>NHA0019E</cp:lastModifiedBy>
  <dcterms:modified xsi:type="dcterms:W3CDTF">2005-02-23T12:54:29Z</dcterms:modified>
  <cp:revision>2</cp:revision>
  <dc:subject/>
  <dc:title>PowerPoint プレゼンテーション</dc:title>
</cp:coreProperties>
</file>