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9D66-87BD-4B7E-994E-BE6579AD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681-8A89-49F1-BA74-8C58E2B1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EC6E-D2B1-428A-A88D-BDA0F370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C7E5-C33F-4D67-B4E0-522D58B5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8F43-65D2-4F13-BADD-C769695E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82E4-0BC5-4E0B-9B5E-510675BC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DE65-4C6C-4DE4-AFA1-4AEFB5BD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87C0-769E-4123-9812-0D9614B3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F7D2-AFC5-4DB5-B1BA-B50110AA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C61E-1CF1-485F-BD1C-E44ACE3F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A456-9746-4C06-8A5A-AA5ECF86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ECFA-A848-4722-BB7C-611F47F6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0196-0FE6-4185-8619-5AF7CC70046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609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ogen Free cable for E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6765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halogen free cable is available in E2A se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ep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81200" y="251604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er sheath = P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36640" y="299556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lator = TPE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59280" y="3400560"/>
            <a:ext cx="60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Verdana"/>
              </a:rPr>
              <a:t>thermoplastic elastomer ether ester block copoly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50840" y="458460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is type can be realized by modification reque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762120"/>
            <a:ext cx="61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halogen free cable of E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22724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2A-*******-WH-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35160" y="2060640"/>
            <a:ext cx="1752480" cy="1752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66800" y="2352600"/>
            <a:ext cx="533520" cy="5335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43120" y="2962440"/>
            <a:ext cx="533520" cy="533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00320" y="2657520"/>
            <a:ext cx="533520" cy="533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87400" y="2487600"/>
            <a:ext cx="297000" cy="2682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40000" y="2797200"/>
            <a:ext cx="297000" cy="2682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68400" y="3106800"/>
            <a:ext cx="297000" cy="2682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595600" y="3308400"/>
            <a:ext cx="1450800" cy="49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86360" y="328140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PE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2622600" y="3012840"/>
            <a:ext cx="1465200" cy="50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59360" y="36590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2360" y="4551480"/>
            <a:ext cx="795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logen free cable of E2A also has higher cable bending resis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1640" y="5060880"/>
            <a:ext cx="69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00 times bend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180deg 500g we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36640" y="5419800"/>
            <a:ext cx="69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(DIN VDE 0472 Teil 6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ep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98560" y="74916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halogen free cable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868400" y="2604960"/>
          <a:ext cx="449604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2604960"/>
                    <a:ext cx="44960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5877000" y="2111400"/>
            <a:ext cx="28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ogen free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392800" y="2460600"/>
            <a:ext cx="550800" cy="4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ep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95480" y="4194000"/>
            <a:ext cx="72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) water proof level = IP67 (IEC 60947-5-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00360" y="1139760"/>
            <a:ext cx="46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e as standard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07:38:03Z</dcterms:created>
  <dc:creator>NHA0019E</dc:creator>
  <dc:description/>
  <dc:language>en-US</dc:language>
  <cp:lastModifiedBy>NHA0019E</cp:lastModifiedBy>
  <dcterms:modified xsi:type="dcterms:W3CDTF">2005-09-06T11:29:19Z</dcterms:modified>
  <cp:revision>7</cp:revision>
  <dc:subject/>
  <dc:title>PowerPoint プレゼンテーション</dc:title>
</cp:coreProperties>
</file>