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605-4A5B-4E97-8500-C8A82640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681-46EB-48F0-BF6F-7771D018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CEC-A62D-4D45-A220-6B2CF0DF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F68-675C-478B-A91A-22DDA7FE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F13-ADEE-4C72-9892-4AAFB806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572-8A75-42CB-A8C3-3AD99829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59A-976D-45E2-BF24-593307A8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104-E88E-42FD-89F6-27E36EA9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962-38C5-45B1-B267-60B1220F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BE3-2A84-4CDD-A2F6-BD5AC962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260-F2CC-4308-907A-4A9567D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4A1-F8EB-423B-88CD-F40AE62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AEDD-D06F-475C-B5F2-F4A21174D9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29000" y="1066680"/>
          <a:ext cx="214308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066680"/>
                    <a:ext cx="21430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0948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Report for CONTRINEX 700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41911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ng distan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8S=3mm, M8NS=6mm, M12S=6mm, M12NS=10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4724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inless steel fa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8=t0.2mm, M12=t0,4mm, M18=0.6mm, M30=1.0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5029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ame sensing distance for all kinds of metal mater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562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x3 Prox in Europe market are using this CONTRINEX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019920"/>
            <a:ext cx="7238880" cy="45972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RON is only one player compete by own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86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de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45720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18S=10mm, M18NS=20mm, M30S=20mm, M12NS=40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808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proof test (hot and cold water cycle tes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752480" y="5105520"/>
            <a:ext cx="32767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Times New Roman"/>
              </a:rPr>
              <a:t>Criter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) Drift of Sr should be less than 10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) Insulation resistance should be more than  10M oh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( measured by 500V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3) Dielectric strength should be more than 1000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(1000V / 1 minute Leakage current should &lt;1 mA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7200" y="3959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304560" y="1981080"/>
            <a:ext cx="228600" cy="990720"/>
            <a:chOff x="304560" y="1981080"/>
            <a:chExt cx="228600" cy="990720"/>
          </a:xfrm>
        </p:grpSpPr>
        <p:sp>
          <p:nvSpPr>
            <p:cNvPr id="1131" name=""/>
            <p:cNvSpPr/>
            <p:nvPr/>
          </p:nvSpPr>
          <p:spPr>
            <a:xfrm flipV="1">
              <a:off x="501480" y="23544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304560" y="1981080"/>
              <a:ext cx="228600" cy="990720"/>
              <a:chOff x="304560" y="1981080"/>
              <a:chExt cx="228600" cy="99072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514440" y="24447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383760" y="23209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93120" y="22978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395280" y="22201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394200" y="22068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402480" y="21924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394200" y="2176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95640" y="2176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76640" y="22068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468360" y="21949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476640" y="21780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482400" y="23378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481320" y="23000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394560" y="23378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383760" y="23378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83760" y="23209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392040" y="22986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304560" y="2955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304920" y="2938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 flipV="1">
                <a:off x="304560" y="29221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304920" y="2905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304560" y="2889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04920" y="28731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 flipV="1">
                <a:off x="304560" y="2856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04920" y="2840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flipV="1">
                <a:off x="304560" y="2823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304920" y="28069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 flipV="1">
                <a:off x="304560" y="2790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304920" y="2773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 flipV="1">
                <a:off x="304560" y="2757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304920" y="2741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304560" y="27241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304920" y="2707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 flipV="1">
                <a:off x="304560" y="26910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304920" y="26744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 flipV="1">
                <a:off x="304560" y="2657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304920" y="2641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 flipV="1">
                <a:off x="304560" y="2624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304920" y="26082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 flipV="1">
                <a:off x="304560" y="2591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304920" y="25804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V="1">
                <a:off x="507240" y="2955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 flipV="1">
                <a:off x="507240" y="2938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507240" y="29221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507240" y="2905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507240" y="2889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 flipV="1">
                <a:off x="507240" y="28731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V="1">
                <a:off x="507240" y="2856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 flipV="1">
                <a:off x="507240" y="2840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507240" y="2823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 flipV="1">
                <a:off x="507240" y="28069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507240" y="2790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507240" y="2773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507240" y="2757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 flipV="1">
                <a:off x="507240" y="2741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V="1">
                <a:off x="507240" y="27241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 flipV="1">
                <a:off x="507240" y="2707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V="1">
                <a:off x="507240" y="26910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 flipV="1">
                <a:off x="507240" y="26744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507240" y="2657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 flipV="1">
                <a:off x="507240" y="2641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507240" y="2624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507240" y="26082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507240" y="2591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514080" y="25779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31560" y="29718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371160" y="24080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334080" y="24174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384840" y="23533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6200000">
                <a:off x="336240" y="20523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322560" y="24444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>
                <a:off x="334440" y="24184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507960" y="24451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384840" y="23518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489600" y="23209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 flipV="1">
                <a:off x="393840" y="22809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>
                <a:off x="394200" y="2266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402480" y="22514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394200" y="2237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95640" y="22370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476640" y="2266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468360" y="22514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476640" y="22381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6200000">
                <a:off x="424800" y="22021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6200000">
                <a:off x="425880" y="22629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30480" y="2939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31200" y="29062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31200" y="2872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30480" y="2840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31200" y="28072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30480" y="2774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31200" y="2740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31200" y="2707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30480" y="2674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30480" y="2642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22920" y="25743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30480" y="25128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30480" y="25455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29040" y="26082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329040" y="24465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9040" y="24786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22920" y="24440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3840" y="22665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3840" y="22510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3840" y="22068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95280" y="21916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84840" y="24076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" name=""/>
          <p:cNvSpPr/>
          <p:nvPr/>
        </p:nvSpPr>
        <p:spPr>
          <a:xfrm>
            <a:off x="685800" y="2438280"/>
            <a:ext cx="838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0880" y="3657600"/>
            <a:ext cx="137160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0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7524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981080" y="3959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1904760" y="2209680"/>
            <a:ext cx="228600" cy="990720"/>
            <a:chOff x="1904760" y="2209680"/>
            <a:chExt cx="228600" cy="990720"/>
          </a:xfrm>
        </p:grpSpPr>
        <p:sp>
          <p:nvSpPr>
            <p:cNvPr id="1246" name=""/>
            <p:cNvSpPr/>
            <p:nvPr/>
          </p:nvSpPr>
          <p:spPr>
            <a:xfrm flipV="1">
              <a:off x="2101680" y="25830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1904760" y="2209680"/>
              <a:ext cx="228600" cy="990720"/>
              <a:chOff x="1904760" y="2209680"/>
              <a:chExt cx="228600" cy="990720"/>
            </a:xfrm>
          </p:grpSpPr>
          <p:sp>
            <p:nvSpPr>
              <p:cNvPr id="1248" name=""/>
              <p:cNvSpPr/>
              <p:nvPr/>
            </p:nvSpPr>
            <p:spPr>
              <a:xfrm flipV="1">
                <a:off x="2114640" y="26733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1983960" y="25495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993320" y="25264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1995480" y="24487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1994400" y="24354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002680" y="24210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1994400" y="2405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995840" y="24051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2076840" y="24354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2068560" y="24235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2076840" y="24066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2082600" y="2566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081520" y="25286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1994760" y="2566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1983960" y="25664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983960" y="25495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1992240" y="25272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 flipV="1">
                <a:off x="1904760" y="3183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1905120" y="3167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1904760" y="3151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905120" y="3134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 flipV="1">
                <a:off x="1904760" y="3117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905120" y="31017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>
                <a:off x="1904760" y="3084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905120" y="3068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 flipV="1">
                <a:off x="1904760" y="3052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1905120" y="3035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 flipV="1">
                <a:off x="1904760" y="3018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1905120" y="30024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 flipV="1">
                <a:off x="1904760" y="2985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1905120" y="2969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flipV="1">
                <a:off x="1904760" y="29527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1905120" y="2936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 flipV="1">
                <a:off x="1904760" y="2919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1905120" y="29030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 flipV="1">
                <a:off x="1904760" y="2886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1905120" y="28699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 flipV="1">
                <a:off x="1904760" y="2853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1905120" y="2836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 flipV="1">
                <a:off x="1904760" y="2820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1905120" y="28090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2107440" y="3183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 flipV="1">
                <a:off x="2107440" y="3167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2107440" y="3151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 flipV="1">
                <a:off x="2107440" y="3134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2107440" y="3117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 flipV="1">
                <a:off x="2107440" y="31017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2107440" y="3084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 flipV="1">
                <a:off x="2107440" y="3068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2107440" y="3052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 flipV="1">
                <a:off x="2107440" y="3035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2107440" y="3018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2107440" y="30024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2107440" y="2985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flipV="1">
                <a:off x="2107440" y="2969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2107440" y="29527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 flipV="1">
                <a:off x="2107440" y="2936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2107440" y="2919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 flipV="1">
                <a:off x="2107440" y="29030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2107440" y="2886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 flipV="1">
                <a:off x="2107440" y="28699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2107440" y="2853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 flipV="1">
                <a:off x="2107440" y="2836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2107440" y="2820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flipV="1">
                <a:off x="2114280" y="28065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931760" y="32004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1971360" y="26366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34280" y="26460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1985040" y="25819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16200000">
                <a:off x="1936440" y="22809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1922760" y="26730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1934640" y="26470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2108160" y="26737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1985040" y="25804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2089800" y="25495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 flipV="1">
                <a:off x="1994040" y="25095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994400" y="2495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2002680" y="24800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1994400" y="24656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995840" y="24656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2076840" y="2495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2068560" y="24800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2076840" y="24667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16200000">
                <a:off x="2025000" y="24307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6200000">
                <a:off x="2026080" y="24915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930680" y="31680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931400" y="3135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931400" y="3101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930680" y="3068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931400" y="30358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930680" y="3002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931400" y="2968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931400" y="2936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930680" y="29034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930680" y="2870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923120" y="28029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930680" y="27414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930680" y="27741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929240" y="2836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1929240" y="26751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929240" y="27072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23120" y="26726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994040" y="24951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994040" y="24796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994040" y="24354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995480" y="24202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985040" y="26362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>
            <a:off x="2286000" y="3657600"/>
            <a:ext cx="1371600" cy="121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5760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10840" y="441972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Hot water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70 de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80880" y="4419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old wa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 to 5 de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990360" y="3504960"/>
            <a:ext cx="228600" cy="990360"/>
            <a:chOff x="990360" y="3504960"/>
            <a:chExt cx="228600" cy="990360"/>
          </a:xfrm>
        </p:grpSpPr>
        <p:sp>
          <p:nvSpPr>
            <p:cNvPr id="1361" name=""/>
            <p:cNvSpPr/>
            <p:nvPr/>
          </p:nvSpPr>
          <p:spPr>
            <a:xfrm flipV="1">
              <a:off x="1187280" y="38779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990360" y="3504960"/>
              <a:ext cx="228600" cy="990360"/>
              <a:chOff x="990360" y="3504960"/>
              <a:chExt cx="228600" cy="990360"/>
            </a:xfrm>
          </p:grpSpPr>
          <p:sp>
            <p:nvSpPr>
              <p:cNvPr id="1363" name=""/>
              <p:cNvSpPr/>
              <p:nvPr/>
            </p:nvSpPr>
            <p:spPr>
              <a:xfrm flipV="1">
                <a:off x="1200240" y="39682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1069560" y="3844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078920" y="382176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1081080" y="374400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1080000" y="3730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1088280" y="371628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1080000" y="37008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081440" y="37004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162440" y="3730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1154160" y="371880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1162440" y="370188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1168200" y="3861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1167120" y="38235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1080360" y="3861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1069560" y="38613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069560" y="38448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1077840" y="382248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 flipV="1">
                <a:off x="990360" y="4478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990720" y="4462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 flipV="1">
                <a:off x="990360" y="4446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990720" y="4429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 flipV="1">
                <a:off x="990360" y="4412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990720" y="4396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 flipV="1">
                <a:off x="990360" y="4379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990720" y="4363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 flipV="1">
                <a:off x="990360" y="4347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990720" y="4330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flipV="1">
                <a:off x="990360" y="4313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990720" y="4297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 flipV="1">
                <a:off x="990360" y="4280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990720" y="4264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 flipV="1">
                <a:off x="990360" y="4248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990720" y="4231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 flipV="1">
                <a:off x="990360" y="42148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90720" y="4197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 flipV="1">
                <a:off x="990360" y="41814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990720" y="41648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flipV="1">
                <a:off x="990360" y="41482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990720" y="41320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flipV="1">
                <a:off x="990360" y="4115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990720" y="410436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1193040" y="4478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 flipV="1">
                <a:off x="1193040" y="4462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1193040" y="4446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 flipV="1">
                <a:off x="1193040" y="4429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1193040" y="4412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flipV="1">
                <a:off x="1193040" y="4396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1193040" y="4379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 flipV="1">
                <a:off x="1193040" y="4363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1193040" y="4347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 flipV="1">
                <a:off x="1193040" y="4330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1193040" y="4313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1193040" y="4297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1193040" y="4280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 flipV="1">
                <a:off x="1193040" y="4264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1193040" y="4248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 flipV="1">
                <a:off x="1193040" y="4231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1193040" y="42148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 flipV="1">
                <a:off x="1193040" y="4197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1193040" y="41814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 flipV="1">
                <a:off x="1193040" y="41648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1193040" y="41482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 flipV="1">
                <a:off x="1193040" y="41320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1193040" y="4115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 flipV="1">
                <a:off x="1199880" y="410184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017360" y="44953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>
                <a:off x="1056960" y="39315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019880" y="394128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V="1">
                <a:off x="1070640" y="387720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6200000">
                <a:off x="1022040" y="357624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V="1">
                <a:off x="1008360" y="39679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1020240" y="394236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V="1">
                <a:off x="1193760" y="396900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1070640" y="387576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1175400" y="3844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 flipV="1">
                <a:off x="1079640" y="38044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0000" y="3790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V="1">
                <a:off x="1088280" y="37753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080000" y="3760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081440" y="3760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162440" y="3790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1154160" y="37753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162440" y="376200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6200000">
                <a:off x="1110600" y="37256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6200000">
                <a:off x="1111680" y="37868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016280" y="4462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017000" y="4430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017000" y="4395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016280" y="4363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017000" y="4330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016280" y="4298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017000" y="4263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017000" y="4231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016280" y="4198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016280" y="4165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008720" y="40978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016280" y="40366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016280" y="40690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14840" y="4131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1014840" y="39700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014840" y="400248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008720" y="39675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079640" y="379044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079640" y="37749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079640" y="373068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081080" y="37155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070640" y="39312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0" name=""/>
          <p:cNvSpPr/>
          <p:nvPr/>
        </p:nvSpPr>
        <p:spPr>
          <a:xfrm rot="19449000">
            <a:off x="639360" y="29858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2819160" y="3504960"/>
            <a:ext cx="228600" cy="990360"/>
            <a:chOff x="2819160" y="3504960"/>
            <a:chExt cx="228600" cy="990360"/>
          </a:xfrm>
        </p:grpSpPr>
        <p:sp>
          <p:nvSpPr>
            <p:cNvPr id="1472" name=""/>
            <p:cNvSpPr/>
            <p:nvPr/>
          </p:nvSpPr>
          <p:spPr>
            <a:xfrm flipV="1">
              <a:off x="3016080" y="38779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2819160" y="3504960"/>
              <a:ext cx="228600" cy="990360"/>
              <a:chOff x="2819160" y="3504960"/>
              <a:chExt cx="228600" cy="990360"/>
            </a:xfrm>
          </p:grpSpPr>
          <p:sp>
            <p:nvSpPr>
              <p:cNvPr id="1474" name=""/>
              <p:cNvSpPr/>
              <p:nvPr/>
            </p:nvSpPr>
            <p:spPr>
              <a:xfrm flipV="1">
                <a:off x="3029040" y="39682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2898360" y="3844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907720" y="382176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2909880" y="374400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2908800" y="3730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2917080" y="371628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2908800" y="37008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910240" y="37004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2991240" y="3730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2982960" y="371880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2991240" y="370188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2997000" y="3861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2995920" y="38235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2909160" y="3861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2898360" y="38613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898360" y="38448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2906640" y="382248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 flipV="1">
                <a:off x="2819160" y="4478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2819520" y="4462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 flipV="1">
                <a:off x="2819160" y="4446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2819520" y="4429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 flipV="1">
                <a:off x="2819160" y="4412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2819520" y="4396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 flipV="1">
                <a:off x="2819160" y="4379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2819520" y="4363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 flipV="1">
                <a:off x="2819160" y="4347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2819520" y="4330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 flipV="1">
                <a:off x="2819160" y="4313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2819520" y="4297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 flipV="1">
                <a:off x="2819160" y="4280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2819520" y="4264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 flipV="1">
                <a:off x="2819160" y="4248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2819520" y="4231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 flipV="1">
                <a:off x="2819160" y="42148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2819520" y="4197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flipV="1">
                <a:off x="2819160" y="41814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19520" y="41648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 flipV="1">
                <a:off x="2819160" y="41482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819520" y="41320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flipV="1">
                <a:off x="2819160" y="4115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2819520" y="410436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3021840" y="4478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flipV="1">
                <a:off x="3021840" y="4462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3021840" y="4446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flipV="1">
                <a:off x="3021840" y="4429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3021840" y="4412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 flipV="1">
                <a:off x="3021840" y="4396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3021840" y="4379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 flipV="1">
                <a:off x="3021840" y="4363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3021840" y="4347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flipV="1">
                <a:off x="3021840" y="4330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3021840" y="4313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flipV="1">
                <a:off x="3021840" y="4297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3021840" y="4280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 flipV="1">
                <a:off x="3021840" y="4264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3021840" y="4248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 flipV="1">
                <a:off x="3021840" y="4231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3021840" y="42148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 flipV="1">
                <a:off x="3021840" y="4197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021840" y="41814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 flipV="1">
                <a:off x="3021840" y="41648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3021840" y="41482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 flipV="1">
                <a:off x="3021840" y="41320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3021840" y="4115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 flipV="1">
                <a:off x="3028680" y="410184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846160" y="44953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>
                <a:off x="2885760" y="39315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>
                <a:off x="2848680" y="394128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2899440" y="387720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6200000">
                <a:off x="2850840" y="357624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2837160" y="39679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2849040" y="394236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3022560" y="396900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2899440" y="387576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3004200" y="3844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 flipV="1">
                <a:off x="2908440" y="38044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2908800" y="3790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2917080" y="37753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2908800" y="3760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910240" y="3760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2991240" y="3790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2982960" y="37753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2991240" y="376200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16200000">
                <a:off x="2939400" y="37256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6200000">
                <a:off x="2940480" y="37868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5080" y="4462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845800" y="4430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845800" y="4395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45080" y="4363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845800" y="4330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845080" y="4298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45800" y="4263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845800" y="4231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845080" y="4198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845080" y="4165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837520" y="40978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845080" y="40366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845080" y="40690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843640" y="4131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2843640" y="39700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843640" y="400248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837520" y="39675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908440" y="379044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908440" y="37749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908440" y="373068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909880" y="37155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899440" y="39312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1" name=""/>
          <p:cNvSpPr/>
          <p:nvPr/>
        </p:nvSpPr>
        <p:spPr>
          <a:xfrm rot="19164600">
            <a:off x="2438280" y="312372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3580920" y="1904760"/>
            <a:ext cx="228600" cy="990360"/>
            <a:chOff x="3580920" y="1904760"/>
            <a:chExt cx="228600" cy="990360"/>
          </a:xfrm>
        </p:grpSpPr>
        <p:sp>
          <p:nvSpPr>
            <p:cNvPr id="1583" name=""/>
            <p:cNvSpPr/>
            <p:nvPr/>
          </p:nvSpPr>
          <p:spPr>
            <a:xfrm flipV="1">
              <a:off x="3777840" y="22777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4" name=""/>
            <p:cNvGrpSpPr/>
            <p:nvPr/>
          </p:nvGrpSpPr>
          <p:grpSpPr>
            <a:xfrm>
              <a:off x="3580920" y="1904760"/>
              <a:ext cx="228600" cy="990360"/>
              <a:chOff x="3580920" y="1904760"/>
              <a:chExt cx="228600" cy="990360"/>
            </a:xfrm>
          </p:grpSpPr>
          <p:sp>
            <p:nvSpPr>
              <p:cNvPr id="1585" name=""/>
              <p:cNvSpPr/>
              <p:nvPr/>
            </p:nvSpPr>
            <p:spPr>
              <a:xfrm flipV="1">
                <a:off x="3790800" y="23680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3660120" y="22442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69480" y="222156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3671640" y="214380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3670560" y="21304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3678840" y="211608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3670560" y="21006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72000" y="21002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753000" y="21304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3744720" y="211860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753000" y="210168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3758760" y="2261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3757680" y="22233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3670920" y="2261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3660120" y="22611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60120" y="22446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3668400" y="222228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 flipV="1">
                <a:off x="3580920" y="2878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3581280" y="2862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flipV="1">
                <a:off x="3580920" y="2845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3581280" y="2829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 flipV="1">
                <a:off x="3580920" y="2812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V="1">
                <a:off x="3581280" y="27964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 flipV="1">
                <a:off x="3580920" y="2779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3581280" y="2763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 flipV="1">
                <a:off x="3580920" y="2746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3581280" y="27302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H="1" flipV="1">
                <a:off x="3580920" y="2713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V="1">
                <a:off x="3581280" y="26971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 flipV="1">
                <a:off x="3580920" y="2680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V="1">
                <a:off x="3581280" y="2664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 flipV="1">
                <a:off x="3580920" y="2647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>
                <a:off x="3581280" y="2630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 flipV="1">
                <a:off x="3580920" y="2614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3581280" y="2597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 flipV="1">
                <a:off x="3580920" y="25812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3581280" y="2564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 flipV="1">
                <a:off x="3580920" y="2548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3581280" y="25318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3580920" y="2514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3581280" y="250416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3783600" y="2878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flipV="1">
                <a:off x="3783600" y="2862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>
                <a:off x="3783600" y="2845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 flipV="1">
                <a:off x="3783600" y="2829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3783600" y="2812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flipV="1">
                <a:off x="3783600" y="27964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3783600" y="2779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 flipV="1">
                <a:off x="3783600" y="2763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3783600" y="2746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 flipV="1">
                <a:off x="3783600" y="27302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3783600" y="2713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H="1" flipV="1">
                <a:off x="3783600" y="26971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3783600" y="2680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 flipV="1">
                <a:off x="3783600" y="2664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3783600" y="2647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H="1" flipV="1">
                <a:off x="3783600" y="2630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3783600" y="2614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H="1" flipV="1">
                <a:off x="3783600" y="2597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3783600" y="25812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 flipV="1">
                <a:off x="3783600" y="2564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3783600" y="2548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 flipV="1">
                <a:off x="3783600" y="25318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3783600" y="2514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flipV="1">
                <a:off x="3790440" y="250164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607920" y="28951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3647520" y="23313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>
                <a:off x="3610440" y="234108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3661200" y="227700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16200000">
                <a:off x="3612600" y="197604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3598920" y="23677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3610800" y="234216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3784320" y="236880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>
                <a:off x="3661200" y="227556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3765960" y="22442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 flipV="1">
                <a:off x="3670200" y="22042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3670560" y="2190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3678840" y="21751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3670560" y="2160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672000" y="21603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3753000" y="2190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3744720" y="21751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3753000" y="216180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16200000">
                <a:off x="3701160" y="21254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16200000">
                <a:off x="3702240" y="21866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06840" y="2862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607560" y="2829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07560" y="2795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606840" y="27633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607560" y="27306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606840" y="2697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607560" y="2663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607560" y="2631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606840" y="25981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606840" y="25653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599280" y="24976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606840" y="24364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606840" y="24688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605400" y="25315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3605400" y="23698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605400" y="240228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599280" y="23673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670200" y="219024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670200" y="21747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670200" y="213048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671640" y="21153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661200" y="23310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2" name=""/>
          <p:cNvSpPr/>
          <p:nvPr/>
        </p:nvSpPr>
        <p:spPr>
          <a:xfrm flipV="1" rot="2151000">
            <a:off x="1294920" y="312372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 rot="2151000">
            <a:off x="3181320" y="2967480"/>
            <a:ext cx="219240" cy="478080"/>
          </a:xfrm>
          <a:prstGeom prst="downArrow">
            <a:avLst>
              <a:gd name="adj1" fmla="val 50000"/>
              <a:gd name="adj2" fmla="val 5451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380160" y="1523880"/>
            <a:ext cx="685800" cy="457200"/>
          </a:xfrm>
          <a:custGeom>
            <a:avLst/>
            <a:gdLst>
              <a:gd name="textAreaLeft" fmla="*/ 228600 w 685800"/>
              <a:gd name="textAreaRight" fmla="*/ 587520 w 6858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066680" y="1523880"/>
            <a:ext cx="2438640" cy="152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514600" y="2438280"/>
            <a:ext cx="838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min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429000" y="1523880"/>
            <a:ext cx="152280" cy="381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12480" y="1152360"/>
            <a:ext cx="33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original test (to simulate the real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105520" y="1928880"/>
            <a:ext cx="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105520" y="451656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10552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rot="10800000">
            <a:off x="4189320" y="1927080"/>
            <a:ext cx="60660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eat cycle (ti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956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72000" y="327672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562720" y="2127240"/>
            <a:ext cx="457200" cy="2389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257800" y="4602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791320" y="1330200"/>
            <a:ext cx="1904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8 shielded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562720" y="1752480"/>
            <a:ext cx="5331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477120" y="4282920"/>
            <a:ext cx="663480" cy="2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550200" y="40384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373800" y="4541760"/>
            <a:ext cx="16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N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and 700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464160" y="515628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8 = 30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464160" y="541188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2 = 17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464160" y="568152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8 = 5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478560" y="593712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0 = over 50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33680" y="563400"/>
            <a:ext cx="1562040" cy="40291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76600" y="2630520"/>
            <a:ext cx="1228680" cy="150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85960" y="4135320"/>
            <a:ext cx="12193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1937880" y="5349960"/>
            <a:ext cx="2705040" cy="295200"/>
          </a:xfrm>
          <a:custGeom>
            <a:avLst/>
            <a:gdLst>
              <a:gd name="textAreaLeft" fmla="*/ 0 w 2705040"/>
              <a:gd name="textAreaRight" fmla="*/ 2705400 w 2705040"/>
              <a:gd name="textAreaTop" fmla="*/ 38160 h 295200"/>
              <a:gd name="textAreaBottom" fmla="*/ 257040 h 295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4145040"/>
            <a:ext cx="390600" cy="295200"/>
          </a:xfrm>
          <a:custGeom>
            <a:avLst/>
            <a:gdLst>
              <a:gd name="textAreaLeft" fmla="*/ 67680 w 390600"/>
              <a:gd name="textAreaRight" fmla="*/ 322920 w 390600"/>
              <a:gd name="textAreaTop" fmla="*/ 51120 h 295200"/>
              <a:gd name="textAreaBottom" fmla="*/ 24408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000" y="21600"/>
                </a:lnTo>
                <a:lnTo>
                  <a:pt x="36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3887640"/>
            <a:ext cx="381240" cy="238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145040"/>
            <a:ext cx="12384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781000" y="706320"/>
            <a:ext cx="1026000" cy="597240"/>
            <a:chOff x="2781000" y="706320"/>
            <a:chExt cx="1026000" cy="597240"/>
          </a:xfrm>
        </p:grpSpPr>
        <p:sp>
          <p:nvSpPr>
            <p:cNvPr id="59" name=""/>
            <p:cNvSpPr/>
            <p:nvPr/>
          </p:nvSpPr>
          <p:spPr>
            <a:xfrm>
              <a:off x="2781360" y="706320"/>
              <a:ext cx="1025640" cy="59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53800" y="706320"/>
              <a:ext cx="680760" cy="406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7400" y="706320"/>
              <a:ext cx="172440" cy="21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68160" y="706320"/>
              <a:ext cx="172440" cy="21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1360" y="732240"/>
              <a:ext cx="172440" cy="227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1360" y="743760"/>
              <a:ext cx="17244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781000" y="743760"/>
              <a:ext cx="16020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34560" y="732240"/>
              <a:ext cx="172440" cy="227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4560" y="743760"/>
              <a:ext cx="17244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34200" y="743760"/>
              <a:ext cx="16020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7400" y="706320"/>
              <a:ext cx="16020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059280" y="720720"/>
              <a:ext cx="16020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68160" y="706320"/>
              <a:ext cx="16020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395160" y="706320"/>
              <a:ext cx="14508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676600" y="668160"/>
            <a:ext cx="1238040" cy="38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1306440"/>
            <a:ext cx="1219320" cy="1019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90760" y="563400"/>
            <a:ext cx="158760" cy="4026240"/>
            <a:chOff x="2390760" y="563400"/>
            <a:chExt cx="158760" cy="4026240"/>
          </a:xfrm>
        </p:grpSpPr>
        <p:sp>
          <p:nvSpPr>
            <p:cNvPr id="76" name=""/>
            <p:cNvSpPr/>
            <p:nvPr/>
          </p:nvSpPr>
          <p:spPr>
            <a:xfrm rot="16200000">
              <a:off x="2391480" y="5623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2391480" y="7311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2391480" y="8881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2391480" y="104544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2391480" y="12027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391480" y="13716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2391480" y="15289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2391480" y="168588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2391480" y="18432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2392920" y="2013480"/>
              <a:ext cx="15408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2391480" y="21693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2391480" y="23263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2391480" y="248364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391480" y="26553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2392920" y="2811240"/>
              <a:ext cx="15408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2391480" y="29667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2391480" y="313884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2391480" y="330768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2391480" y="34650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2391480" y="36219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2391480" y="377928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2391480" y="39481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2391480" y="410544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2391480" y="42624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2391480" y="44316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079880" y="563400"/>
            <a:ext cx="158760" cy="4026240"/>
            <a:chOff x="4079880" y="563400"/>
            <a:chExt cx="158760" cy="4026240"/>
          </a:xfrm>
        </p:grpSpPr>
        <p:sp>
          <p:nvSpPr>
            <p:cNvPr id="102" name=""/>
            <p:cNvSpPr/>
            <p:nvPr/>
          </p:nvSpPr>
          <p:spPr>
            <a:xfrm flipH="1" rot="5400000">
              <a:off x="4080240" y="5623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080240" y="7311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080240" y="8881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4080240" y="104544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4080240" y="12027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4080240" y="13716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5400000">
              <a:off x="4080240" y="15289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4080240" y="168588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4080240" y="18432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5400000">
              <a:off x="4081680" y="2013480"/>
              <a:ext cx="15408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5400000">
              <a:off x="4080240" y="21693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rot="5400000">
              <a:off x="4080240" y="23263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rot="5400000">
              <a:off x="4080240" y="248364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rot="5400000">
              <a:off x="4080240" y="26553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5400000">
              <a:off x="4081680" y="2811240"/>
              <a:ext cx="15408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4080240" y="29667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5400000">
              <a:off x="4080240" y="313884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5400000">
              <a:off x="4080240" y="330768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5400000">
              <a:off x="4080240" y="34650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5400000">
              <a:off x="4080240" y="362196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5400000">
              <a:off x="4080240" y="377928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rot="5400000">
              <a:off x="4080240" y="394812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4080240" y="410544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rot="5400000">
              <a:off x="4080240" y="42624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5400000">
              <a:off x="4080240" y="4431600"/>
              <a:ext cx="156960" cy="15876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676600" y="668160"/>
            <a:ext cx="47520" cy="202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24120" y="706320"/>
            <a:ext cx="57240" cy="1057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706320"/>
            <a:ext cx="57240" cy="1057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67120" y="706320"/>
            <a:ext cx="47520" cy="1981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934920"/>
            <a:ext cx="1314360" cy="307080"/>
          </a:xfrm>
          <a:prstGeom prst="wedgeRectCallout">
            <a:avLst>
              <a:gd name="adj1" fmla="val 79541"/>
              <a:gd name="adj2" fmla="val -645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Metal c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609480"/>
            <a:ext cx="2971800" cy="520200"/>
          </a:xfrm>
          <a:prstGeom prst="wedgeRectCallout">
            <a:avLst>
              <a:gd name="adj1" fmla="val -84879"/>
              <a:gd name="adj2" fmla="val -1853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coils : outside coil is for reduce the influence from metal c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057400"/>
            <a:ext cx="1943280" cy="733320"/>
          </a:xfrm>
          <a:prstGeom prst="wedgeRectCallout">
            <a:avLst>
              <a:gd name="adj1" fmla="val 82986"/>
              <a:gd name="adj2" fmla="val -24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ex PCB shie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so on front of sensing f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2440" y="4021200"/>
            <a:ext cx="1409760" cy="307080"/>
          </a:xfrm>
          <a:prstGeom prst="wedgeRectCallout">
            <a:avLst>
              <a:gd name="adj1" fmla="val -127023"/>
              <a:gd name="adj2" fmla="val -64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29240" y="2325600"/>
            <a:ext cx="2152440" cy="307080"/>
          </a:xfrm>
          <a:prstGeom prst="wedgeRectCallout">
            <a:avLst>
              <a:gd name="adj1" fmla="val -95129"/>
              <a:gd name="adj2" fmla="val -132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st filled re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10160" y="3373560"/>
            <a:ext cx="1942920" cy="307080"/>
          </a:xfrm>
          <a:prstGeom prst="wedgeRectCallout">
            <a:avLst>
              <a:gd name="adj1" fmla="val -97050"/>
              <a:gd name="adj2" fmla="val -45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illed re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676520"/>
            <a:ext cx="2514600" cy="307080"/>
          </a:xfrm>
          <a:prstGeom prst="wedgeRectCallout">
            <a:avLst>
              <a:gd name="adj1" fmla="val -102143"/>
              <a:gd name="adj2" fmla="val -201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 case for outside c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895480"/>
            <a:ext cx="2000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to 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648240" y="2925720"/>
            <a:ext cx="100008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809880"/>
            <a:ext cx="1886040" cy="520200"/>
          </a:xfrm>
          <a:prstGeom prst="wedgeRectCallout">
            <a:avLst>
              <a:gd name="adj1" fmla="val 86601"/>
              <a:gd name="adj2" fmla="val -144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ness for distance adjusting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535640"/>
            <a:ext cx="1295280" cy="307080"/>
          </a:xfrm>
          <a:prstGeom prst="wedgeRectCallout">
            <a:avLst>
              <a:gd name="adj1" fmla="val 167004"/>
              <a:gd name="adj2" fmla="val -172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bber sh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29040" y="4602240"/>
            <a:ext cx="2791080" cy="426960"/>
          </a:xfrm>
          <a:prstGeom prst="wedgeRectCallout">
            <a:avLst>
              <a:gd name="adj1" fmla="val -92319"/>
              <a:gd name="adj2" fmla="val -11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Optical waveguide for 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954680"/>
            <a:ext cx="1181160" cy="307080"/>
          </a:xfrm>
          <a:prstGeom prst="wedgeRectCallout">
            <a:avLst>
              <a:gd name="adj1" fmla="val 162337"/>
              <a:gd name="adj2" fmla="val -221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447920"/>
            <a:ext cx="1199880" cy="307080"/>
          </a:xfrm>
          <a:prstGeom prst="wedgeRectCallout">
            <a:avLst>
              <a:gd name="adj1" fmla="val 162805"/>
              <a:gd name="adj2" fmla="val 87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76320"/>
            <a:ext cx="464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of Shielde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390840" y="1106280"/>
            <a:ext cx="133560" cy="49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295280"/>
            <a:ext cx="3048120" cy="304920"/>
          </a:xfrm>
          <a:prstGeom prst="wedgeRectCallout">
            <a:avLst>
              <a:gd name="adj1" fmla="val -89791"/>
              <a:gd name="adj2" fmla="val -101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rrite core is connected to SG 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4760" y="2335320"/>
            <a:ext cx="116208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1040" y="1316160"/>
            <a:ext cx="199800" cy="2809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7440" y="2544840"/>
            <a:ext cx="390600" cy="1247760"/>
          </a:xfrm>
          <a:custGeom>
            <a:avLst/>
            <a:gdLst/>
            <a:ahLst/>
            <a:rect l="l" t="t" r="r" b="b"/>
            <a:pathLst>
              <a:path w="33" h="105">
                <a:moveTo>
                  <a:pt x="33" y="0"/>
                </a:moveTo>
                <a:cubicBezTo>
                  <a:pt x="21" y="18"/>
                  <a:pt x="10" y="36"/>
                  <a:pt x="5" y="53"/>
                </a:cubicBezTo>
                <a:cubicBezTo>
                  <a:pt x="0" y="70"/>
                  <a:pt x="0" y="87"/>
                  <a:pt x="0" y="105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4120" y="2525760"/>
            <a:ext cx="876240" cy="1609560"/>
          </a:xfrm>
          <a:custGeom>
            <a:avLst/>
            <a:gdLst/>
            <a:ahLst/>
            <a:rect l="l" t="t" r="r" b="b"/>
            <a:pathLst>
              <a:path w="65" h="122">
                <a:moveTo>
                  <a:pt x="51" y="105"/>
                </a:moveTo>
                <a:cubicBezTo>
                  <a:pt x="53" y="99"/>
                  <a:pt x="52" y="98"/>
                  <a:pt x="59" y="99"/>
                </a:cubicBezTo>
                <a:cubicBezTo>
                  <a:pt x="62" y="104"/>
                  <a:pt x="65" y="113"/>
                  <a:pt x="58" y="117"/>
                </a:cubicBezTo>
                <a:cubicBezTo>
                  <a:pt x="55" y="119"/>
                  <a:pt x="50" y="120"/>
                  <a:pt x="46" y="121"/>
                </a:cubicBezTo>
                <a:cubicBezTo>
                  <a:pt x="45" y="121"/>
                  <a:pt x="43" y="122"/>
                  <a:pt x="43" y="122"/>
                </a:cubicBezTo>
                <a:cubicBezTo>
                  <a:pt x="25" y="120"/>
                  <a:pt x="32" y="113"/>
                  <a:pt x="27" y="98"/>
                </a:cubicBezTo>
                <a:cubicBezTo>
                  <a:pt x="27" y="68"/>
                  <a:pt x="27" y="38"/>
                  <a:pt x="26" y="8"/>
                </a:cubicBezTo>
                <a:cubicBezTo>
                  <a:pt x="26" y="4"/>
                  <a:pt x="18" y="0"/>
                  <a:pt x="18" y="0"/>
                </a:cubicBezTo>
                <a:cubicBezTo>
                  <a:pt x="9" y="2"/>
                  <a:pt x="9" y="10"/>
                  <a:pt x="6" y="18"/>
                </a:cubicBezTo>
                <a:cubicBezTo>
                  <a:pt x="5" y="21"/>
                  <a:pt x="3" y="27"/>
                  <a:pt x="3" y="27"/>
                </a:cubicBezTo>
                <a:cubicBezTo>
                  <a:pt x="2" y="35"/>
                  <a:pt x="1" y="42"/>
                  <a:pt x="0" y="50"/>
                </a:cubicBezTo>
                <a:cubicBezTo>
                  <a:pt x="1" y="68"/>
                  <a:pt x="1" y="60"/>
                  <a:pt x="1" y="73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011400"/>
            <a:ext cx="1876680" cy="569880"/>
          </a:xfrm>
          <a:prstGeom prst="wedgeRectCallout">
            <a:avLst>
              <a:gd name="adj1" fmla="val 92638"/>
              <a:gd name="adj2" fmla="val -143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 gap between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s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5334120"/>
            <a:ext cx="708660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ystem needs additional parts (coil) to reduce the metal case infl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6156360"/>
            <a:ext cx="7086600" cy="3988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icated structure of sensing distance adjus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314440" y="563400"/>
            <a:ext cx="1882080" cy="6284520"/>
            <a:chOff x="2314440" y="563400"/>
            <a:chExt cx="1882080" cy="6284520"/>
          </a:xfrm>
        </p:grpSpPr>
        <p:sp>
          <p:nvSpPr>
            <p:cNvPr id="156" name=""/>
            <p:cNvSpPr/>
            <p:nvPr/>
          </p:nvSpPr>
          <p:spPr>
            <a:xfrm>
              <a:off x="2476080" y="563400"/>
              <a:ext cx="1562400" cy="40276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18640" y="2628000"/>
              <a:ext cx="1227960" cy="1505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29440" y="4133160"/>
              <a:ext cx="1217160" cy="457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881000" y="5349240"/>
              <a:ext cx="2703960" cy="293400"/>
            </a:xfrm>
            <a:custGeom>
              <a:avLst/>
              <a:gdLst>
                <a:gd name="textAreaLeft" fmla="*/ 0 w 2703960"/>
                <a:gd name="textAreaRight" fmla="*/ 2704320 w 2703960"/>
                <a:gd name="textAreaTop" fmla="*/ 37800 h 293400"/>
                <a:gd name="textAreaBottom" fmla="*/ 25560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67560" y="4143960"/>
              <a:ext cx="390600" cy="293400"/>
            </a:xfrm>
            <a:custGeom>
              <a:avLst/>
              <a:gdLst>
                <a:gd name="textAreaLeft" fmla="*/ 67680 w 390600"/>
                <a:gd name="textAreaRight" fmla="*/ 322920 w 390600"/>
                <a:gd name="textAreaTop" fmla="*/ 50760 h 293400"/>
                <a:gd name="textAreaBottom" fmla="*/ 24264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96160" y="3886920"/>
              <a:ext cx="379800" cy="23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2960" y="4143960"/>
              <a:ext cx="124920" cy="256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18640" y="666720"/>
              <a:ext cx="1227960" cy="1533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4440" y="1370520"/>
              <a:ext cx="159840" cy="3217680"/>
              <a:chOff x="2314440" y="1370520"/>
              <a:chExt cx="159840" cy="3217680"/>
            </a:xfrm>
          </p:grpSpPr>
          <p:sp>
            <p:nvSpPr>
              <p:cNvPr id="165" name=""/>
              <p:cNvSpPr/>
              <p:nvPr/>
            </p:nvSpPr>
            <p:spPr>
              <a:xfrm rot="16200000">
                <a:off x="2318760" y="1365840"/>
                <a:ext cx="1508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6200000">
                <a:off x="2317680" y="1537200"/>
                <a:ext cx="15300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2313360" y="169488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6200000">
                <a:off x="2318760" y="1851480"/>
                <a:ext cx="1508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200000">
                <a:off x="2313360" y="200808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6200000">
                <a:off x="2313360" y="217872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2317680" y="2336400"/>
                <a:ext cx="15300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200000">
                <a:off x="2313360" y="249408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200000">
                <a:off x="2317680" y="2651760"/>
                <a:ext cx="15300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6200000">
                <a:off x="2313360" y="281808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200000">
                <a:off x="2318760" y="2974680"/>
                <a:ext cx="1508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6200000">
                <a:off x="2313360" y="313128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200000">
                <a:off x="2317680" y="3288960"/>
                <a:ext cx="15300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00000">
                <a:off x="2318760" y="3460680"/>
                <a:ext cx="1508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200000">
                <a:off x="2313360" y="361728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00000">
                <a:off x="2317680" y="3774960"/>
                <a:ext cx="15300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2318760" y="3946680"/>
                <a:ext cx="1508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2313360" y="411408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200000">
                <a:off x="2318760" y="4270680"/>
                <a:ext cx="1508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00000">
                <a:off x="2313360" y="4427280"/>
                <a:ext cx="161640" cy="15984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038840" y="1381320"/>
              <a:ext cx="157680" cy="3215520"/>
              <a:chOff x="4038840" y="1381320"/>
              <a:chExt cx="157680" cy="3215520"/>
            </a:xfrm>
          </p:grpSpPr>
          <p:sp>
            <p:nvSpPr>
              <p:cNvPr id="186" name=""/>
              <p:cNvSpPr/>
              <p:nvPr/>
            </p:nvSpPr>
            <p:spPr>
              <a:xfrm flipH="1" rot="5400000">
                <a:off x="4041000" y="1378800"/>
                <a:ext cx="1530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5400000">
                <a:off x="4041000" y="1549080"/>
                <a:ext cx="1530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5400000">
                <a:off x="4036680" y="1706400"/>
                <a:ext cx="1616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5400000">
                <a:off x="4041000" y="1864080"/>
                <a:ext cx="1530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5400000">
                <a:off x="4037760" y="2020320"/>
                <a:ext cx="1594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5400000">
                <a:off x="4036680" y="2191680"/>
                <a:ext cx="1616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5400000">
                <a:off x="4042080" y="2348280"/>
                <a:ext cx="1508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4036680" y="2504520"/>
                <a:ext cx="1616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400000">
                <a:off x="4041000" y="2661840"/>
                <a:ext cx="1530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5400000">
                <a:off x="4036680" y="2828160"/>
                <a:ext cx="1616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5400000">
                <a:off x="4041000" y="2985480"/>
                <a:ext cx="1530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5400000">
                <a:off x="4036680" y="3142800"/>
                <a:ext cx="1616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5400000">
                <a:off x="4042080" y="3299400"/>
                <a:ext cx="1508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5400000">
                <a:off x="4041000" y="3470760"/>
                <a:ext cx="1530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5400000">
                <a:off x="4036680" y="3628080"/>
                <a:ext cx="1616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5400000">
                <a:off x="4042080" y="3784680"/>
                <a:ext cx="1508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5400000">
                <a:off x="4041000" y="3956040"/>
                <a:ext cx="1530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5400000">
                <a:off x="4036680" y="4122000"/>
                <a:ext cx="1616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5400000">
                <a:off x="4041000" y="4279680"/>
                <a:ext cx="1530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5400000">
                <a:off x="4036680" y="4437000"/>
                <a:ext cx="161640" cy="15768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618640" y="2200320"/>
              <a:ext cx="12279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34520" y="1180800"/>
              <a:ext cx="198360" cy="2943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99840" y="2543760"/>
              <a:ext cx="390600" cy="124596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0"/>
                  </a:moveTo>
                  <a:cubicBezTo>
                    <a:pt x="21" y="18"/>
                    <a:pt x="10" y="36"/>
                    <a:pt x="5" y="53"/>
                  </a:cubicBezTo>
                  <a:cubicBezTo>
                    <a:pt x="0" y="70"/>
                    <a:pt x="0" y="87"/>
                    <a:pt x="0" y="105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68320" y="2524320"/>
              <a:ext cx="874080" cy="160884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51" y="105"/>
                  </a:moveTo>
                  <a:cubicBezTo>
                    <a:pt x="53" y="99"/>
                    <a:pt x="52" y="98"/>
                    <a:pt x="59" y="99"/>
                  </a:cubicBezTo>
                  <a:cubicBezTo>
                    <a:pt x="62" y="104"/>
                    <a:pt x="65" y="113"/>
                    <a:pt x="58" y="117"/>
                  </a:cubicBezTo>
                  <a:cubicBezTo>
                    <a:pt x="55" y="119"/>
                    <a:pt x="50" y="120"/>
                    <a:pt x="46" y="121"/>
                  </a:cubicBezTo>
                  <a:cubicBezTo>
                    <a:pt x="45" y="121"/>
                    <a:pt x="43" y="122"/>
                    <a:pt x="43" y="122"/>
                  </a:cubicBezTo>
                  <a:cubicBezTo>
                    <a:pt x="25" y="120"/>
                    <a:pt x="32" y="113"/>
                    <a:pt x="27" y="98"/>
                  </a:cubicBezTo>
                  <a:cubicBezTo>
                    <a:pt x="27" y="68"/>
                    <a:pt x="27" y="38"/>
                    <a:pt x="26" y="8"/>
                  </a:cubicBezTo>
                  <a:cubicBezTo>
                    <a:pt x="26" y="4"/>
                    <a:pt x="18" y="0"/>
                    <a:pt x="18" y="0"/>
                  </a:cubicBezTo>
                  <a:cubicBezTo>
                    <a:pt x="9" y="2"/>
                    <a:pt x="9" y="10"/>
                    <a:pt x="6" y="18"/>
                  </a:cubicBezTo>
                  <a:cubicBezTo>
                    <a:pt x="5" y="21"/>
                    <a:pt x="3" y="27"/>
                    <a:pt x="3" y="27"/>
                  </a:cubicBezTo>
                  <a:cubicBezTo>
                    <a:pt x="2" y="35"/>
                    <a:pt x="1" y="42"/>
                    <a:pt x="0" y="50"/>
                  </a:cubicBezTo>
                  <a:cubicBezTo>
                    <a:pt x="1" y="68"/>
                    <a:pt x="1" y="60"/>
                    <a:pt x="1" y="73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3332520" y="1180800"/>
              <a:ext cx="75240" cy="75240"/>
            </a:xfrm>
            <a:prstGeom prst="rtTriangl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705040" y="705600"/>
              <a:ext cx="1064160" cy="473400"/>
              <a:chOff x="2705040" y="705600"/>
              <a:chExt cx="1064160" cy="473400"/>
            </a:xfrm>
          </p:grpSpPr>
          <p:sp>
            <p:nvSpPr>
              <p:cNvPr id="212" name=""/>
              <p:cNvSpPr/>
              <p:nvPr/>
            </p:nvSpPr>
            <p:spPr>
              <a:xfrm>
                <a:off x="2705040" y="705600"/>
                <a:ext cx="1064160" cy="473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55880" y="705600"/>
                <a:ext cx="265320" cy="255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52680" y="705600"/>
                <a:ext cx="265320" cy="255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55880" y="705600"/>
                <a:ext cx="24732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863440" y="712080"/>
                <a:ext cx="25740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52680" y="705600"/>
                <a:ext cx="257400" cy="2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3396960" y="705600"/>
                <a:ext cx="2210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57520" y="666720"/>
              <a:ext cx="1161000" cy="38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71000" y="666720"/>
              <a:ext cx="47160" cy="1980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57520" y="666720"/>
              <a:ext cx="47160" cy="2027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33840" y="839880"/>
            <a:ext cx="2781360" cy="307080"/>
          </a:xfrm>
          <a:prstGeom prst="wedgeRectCallout">
            <a:avLst>
              <a:gd name="adj1" fmla="val -83439"/>
              <a:gd name="adj2" fmla="val -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ion c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62440" y="4021200"/>
            <a:ext cx="1562040" cy="307080"/>
          </a:xfrm>
          <a:prstGeom prst="wedgeRectCallout">
            <a:avLst>
              <a:gd name="adj1" fmla="val -119490"/>
              <a:gd name="adj2" fmla="val -64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29240" y="2325600"/>
            <a:ext cx="1771560" cy="307080"/>
          </a:xfrm>
          <a:prstGeom prst="wedgeRectCallout">
            <a:avLst>
              <a:gd name="adj1" fmla="val -114055"/>
              <a:gd name="adj2" fmla="val -196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filled re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33840" y="3544920"/>
            <a:ext cx="1562040" cy="307080"/>
          </a:xfrm>
          <a:prstGeom prst="wedgeRectCallout">
            <a:avLst>
              <a:gd name="adj1" fmla="val -104259"/>
              <a:gd name="adj2" fmla="val -127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nd filled re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67400" y="1163520"/>
            <a:ext cx="1885680" cy="307080"/>
          </a:xfrm>
          <a:prstGeom prst="wedgeRectCallout">
            <a:avLst>
              <a:gd name="adj1" fmla="val -110601"/>
              <a:gd name="adj2" fmla="val -98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rrite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29240" y="3087720"/>
            <a:ext cx="2000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to 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648240" y="2935440"/>
            <a:ext cx="97128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1677960"/>
            <a:ext cx="4181760" cy="428760"/>
          </a:xfrm>
          <a:prstGeom prst="wedgeRectCallout">
            <a:avLst>
              <a:gd name="adj1" fmla="val -78930"/>
              <a:gd name="adj2" fmla="val -152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rrite is connected to SG directly by conductive gl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76320"/>
            <a:ext cx="464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of Non-Shielde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29040" y="4602240"/>
            <a:ext cx="2791080" cy="426960"/>
          </a:xfrm>
          <a:prstGeom prst="wedgeRectCallout">
            <a:avLst>
              <a:gd name="adj1" fmla="val -92319"/>
              <a:gd name="adj2" fmla="val -11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Optical waveguide for 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934920"/>
            <a:ext cx="1314360" cy="307080"/>
          </a:xfrm>
          <a:prstGeom prst="wedgeRectCallout">
            <a:avLst>
              <a:gd name="adj1" fmla="val 79541"/>
              <a:gd name="adj2" fmla="val -645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Metal c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2057400"/>
            <a:ext cx="1943280" cy="733320"/>
          </a:xfrm>
          <a:prstGeom prst="wedgeRectCallout">
            <a:avLst>
              <a:gd name="adj1" fmla="val 79893"/>
              <a:gd name="adj2" fmla="val -24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ex PCB shie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so on front of sensing f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809880"/>
            <a:ext cx="1886040" cy="520200"/>
          </a:xfrm>
          <a:prstGeom prst="wedgeRectCallout">
            <a:avLst>
              <a:gd name="adj1" fmla="val 86601"/>
              <a:gd name="adj2" fmla="val -144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ness for distance adjusting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4535640"/>
            <a:ext cx="1295280" cy="307080"/>
          </a:xfrm>
          <a:prstGeom prst="wedgeRectCallout">
            <a:avLst>
              <a:gd name="adj1" fmla="val 158916"/>
              <a:gd name="adj2" fmla="val -172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bber sh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954680"/>
            <a:ext cx="1181160" cy="307080"/>
          </a:xfrm>
          <a:prstGeom prst="wedgeRectCallout">
            <a:avLst>
              <a:gd name="adj1" fmla="val 162337"/>
              <a:gd name="adj2" fmla="val -221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447920"/>
            <a:ext cx="1199880" cy="307080"/>
          </a:xfrm>
          <a:prstGeom prst="wedgeRectCallout">
            <a:avLst>
              <a:gd name="adj1" fmla="val 156597"/>
              <a:gd name="adj2" fmla="val 102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3011400"/>
            <a:ext cx="1876680" cy="569880"/>
          </a:xfrm>
          <a:prstGeom prst="wedgeRectCallout">
            <a:avLst>
              <a:gd name="adj1" fmla="val 92638"/>
              <a:gd name="adj2" fmla="val -143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 gap between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s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371600" y="1752480"/>
            <a:ext cx="6889320" cy="4662720"/>
            <a:chOff x="1371600" y="1752480"/>
            <a:chExt cx="6889320" cy="466272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1374120" y="1752480"/>
              <a:ext cx="6886800" cy="238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1381680" y="4113000"/>
              <a:ext cx="6854400" cy="230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"/>
            <p:cNvGrpSpPr/>
            <p:nvPr/>
          </p:nvGrpSpPr>
          <p:grpSpPr>
            <a:xfrm>
              <a:off x="7637040" y="3289320"/>
              <a:ext cx="389880" cy="288000"/>
              <a:chOff x="7637040" y="3289320"/>
              <a:chExt cx="389880" cy="288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714800" y="3289320"/>
                <a:ext cx="225720" cy="288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37040" y="329580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7040" y="340596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44600" y="352260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02000" y="3295800"/>
                <a:ext cx="11664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02000" y="3405960"/>
                <a:ext cx="11664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09920" y="352260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675920" y="2871000"/>
              <a:ext cx="376560" cy="248760"/>
              <a:chOff x="7675920" y="2871000"/>
              <a:chExt cx="376560" cy="248760"/>
            </a:xfrm>
          </p:grpSpPr>
          <p:sp>
            <p:nvSpPr>
              <p:cNvPr id="251" name=""/>
              <p:cNvSpPr/>
              <p:nvPr/>
            </p:nvSpPr>
            <p:spPr>
              <a:xfrm>
                <a:off x="7745760" y="2871000"/>
                <a:ext cx="241920" cy="246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956720" y="2884680"/>
                <a:ext cx="9576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48800" y="3069720"/>
                <a:ext cx="9612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83840" y="2884680"/>
                <a:ext cx="9576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75920" y="3076560"/>
                <a:ext cx="9612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558920" y="2363040"/>
              <a:ext cx="459720" cy="111960"/>
              <a:chOff x="7558920" y="2363040"/>
              <a:chExt cx="459720" cy="111960"/>
            </a:xfrm>
          </p:grpSpPr>
          <p:sp>
            <p:nvSpPr>
              <p:cNvPr id="257" name=""/>
              <p:cNvSpPr/>
              <p:nvPr/>
            </p:nvSpPr>
            <p:spPr>
              <a:xfrm>
                <a:off x="7644600" y="2363040"/>
                <a:ext cx="280800" cy="11196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909920" y="2394720"/>
                <a:ext cx="108720" cy="406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58920" y="2403720"/>
                <a:ext cx="109080" cy="406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508000" y="3001320"/>
              <a:ext cx="1060560" cy="639720"/>
              <a:chOff x="5508000" y="3001320"/>
              <a:chExt cx="1060560" cy="63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5625000" y="3001320"/>
                <a:ext cx="826560" cy="63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23480" y="300132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23480" y="310392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31040" y="320004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15560" y="329580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08000" y="339876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08000" y="349524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23480" y="359784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43640" y="300132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43640" y="310392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51560" y="320004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35720" y="329580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28160" y="339876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428160" y="349524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43640" y="359784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999400" y="2356200"/>
              <a:ext cx="795600" cy="356400"/>
              <a:chOff x="5999400" y="2356200"/>
              <a:chExt cx="795600" cy="356400"/>
            </a:xfrm>
          </p:grpSpPr>
          <p:sp>
            <p:nvSpPr>
              <p:cNvPr id="277" name=""/>
              <p:cNvSpPr/>
              <p:nvPr/>
            </p:nvSpPr>
            <p:spPr>
              <a:xfrm>
                <a:off x="6108120" y="2356200"/>
                <a:ext cx="577080" cy="356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99400" y="236268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06960" y="246564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14880" y="256176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69720" y="235620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69720" y="245880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678000" y="256176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4880" y="265788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78000" y="265068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072680" y="3275640"/>
              <a:ext cx="794880" cy="356760"/>
              <a:chOff x="4072680" y="3275640"/>
              <a:chExt cx="794880" cy="356760"/>
            </a:xfrm>
          </p:grpSpPr>
          <p:sp>
            <p:nvSpPr>
              <p:cNvPr id="287" name=""/>
              <p:cNvSpPr/>
              <p:nvPr/>
            </p:nvSpPr>
            <p:spPr>
              <a:xfrm>
                <a:off x="4181400" y="3275640"/>
                <a:ext cx="576720" cy="3567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72680" y="3282120"/>
                <a:ext cx="11664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80240" y="3385080"/>
                <a:ext cx="11664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088160" y="3481200"/>
                <a:ext cx="11664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3000" y="3275640"/>
                <a:ext cx="11664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43000" y="3378240"/>
                <a:ext cx="11664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50920" y="3481200"/>
                <a:ext cx="11664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88160" y="3577680"/>
                <a:ext cx="11664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50920" y="3570480"/>
                <a:ext cx="11664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395800" y="2143440"/>
              <a:ext cx="389880" cy="303840"/>
              <a:chOff x="2395800" y="2143440"/>
              <a:chExt cx="389880" cy="303840"/>
            </a:xfrm>
          </p:grpSpPr>
          <p:sp>
            <p:nvSpPr>
              <p:cNvPr id="297" name=""/>
              <p:cNvSpPr/>
              <p:nvPr/>
            </p:nvSpPr>
            <p:spPr>
              <a:xfrm>
                <a:off x="2395800" y="2211840"/>
                <a:ext cx="389880" cy="1645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30960" y="2369880"/>
                <a:ext cx="42480" cy="77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03360" y="2369880"/>
                <a:ext cx="42840" cy="77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75080" y="2143440"/>
                <a:ext cx="42480" cy="777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313080" y="2067840"/>
              <a:ext cx="618480" cy="555480"/>
              <a:chOff x="3313080" y="2067840"/>
              <a:chExt cx="618480" cy="55548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3357360" y="2158560"/>
                <a:ext cx="555480" cy="374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3369960" y="2279880"/>
                <a:ext cx="37440" cy="134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3361680" y="2060280"/>
                <a:ext cx="37800" cy="135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3797280" y="2272680"/>
                <a:ext cx="133560" cy="134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5400000">
                <a:off x="3361680" y="2505960"/>
                <a:ext cx="37440" cy="135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251960" y="2198520"/>
              <a:ext cx="459720" cy="207720"/>
              <a:chOff x="4251960" y="2198520"/>
              <a:chExt cx="459720" cy="207720"/>
            </a:xfrm>
          </p:grpSpPr>
          <p:sp>
            <p:nvSpPr>
              <p:cNvPr id="308" name=""/>
              <p:cNvSpPr/>
              <p:nvPr/>
            </p:nvSpPr>
            <p:spPr>
              <a:xfrm>
                <a:off x="4337640" y="2198520"/>
                <a:ext cx="280800" cy="207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02960" y="2257560"/>
                <a:ext cx="1087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51960" y="2274120"/>
                <a:ext cx="10908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168000" y="3124800"/>
              <a:ext cx="327600" cy="343080"/>
              <a:chOff x="3168000" y="3124800"/>
              <a:chExt cx="327600" cy="343080"/>
            </a:xfrm>
          </p:grpSpPr>
          <p:sp>
            <p:nvSpPr>
              <p:cNvPr id="312" name=""/>
              <p:cNvSpPr/>
              <p:nvPr/>
            </p:nvSpPr>
            <p:spPr>
              <a:xfrm rot="5400000">
                <a:off x="3232440" y="3128760"/>
                <a:ext cx="198720" cy="327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400000">
                <a:off x="3411720" y="315144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400000">
                <a:off x="3287160" y="315180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3154320" y="315828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3412080" y="3384720"/>
                <a:ext cx="10260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3287160" y="3384720"/>
                <a:ext cx="10260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400000">
                <a:off x="3154320" y="339192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708720" y="5023080"/>
              <a:ext cx="727200" cy="933120"/>
              <a:chOff x="3708720" y="5023080"/>
              <a:chExt cx="727200" cy="933120"/>
            </a:xfrm>
          </p:grpSpPr>
          <p:sp>
            <p:nvSpPr>
              <p:cNvPr id="320" name=""/>
              <p:cNvSpPr/>
              <p:nvPr/>
            </p:nvSpPr>
            <p:spPr>
              <a:xfrm rot="5400000">
                <a:off x="3709800" y="5127120"/>
                <a:ext cx="727200" cy="7246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4359960" y="506376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4243320" y="506376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4133880" y="506988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5400000">
                <a:off x="4024800" y="505620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400000">
                <a:off x="3907800" y="504972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5400000">
                <a:off x="3798720" y="505008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400000">
                <a:off x="3681720" y="506376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400000">
                <a:off x="4359960" y="587340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400000">
                <a:off x="4243320" y="587340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5400000">
                <a:off x="4133880" y="587988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400000">
                <a:off x="4024800" y="586620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400000">
                <a:off x="3907800" y="585936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5400000">
                <a:off x="3798720" y="585972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400000">
                <a:off x="3681720" y="5873400"/>
                <a:ext cx="10296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915080" y="5629320"/>
              <a:ext cx="795600" cy="356760"/>
              <a:chOff x="4915080" y="5629320"/>
              <a:chExt cx="795600" cy="356760"/>
            </a:xfrm>
          </p:grpSpPr>
          <p:sp>
            <p:nvSpPr>
              <p:cNvPr id="336" name=""/>
              <p:cNvSpPr/>
              <p:nvPr/>
            </p:nvSpPr>
            <p:spPr>
              <a:xfrm>
                <a:off x="5023800" y="5629320"/>
                <a:ext cx="577080" cy="3567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15080" y="563580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2640" y="573876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0560" y="583488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85400" y="562932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85400" y="573192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593680" y="583488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30560" y="593136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93680" y="592416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258160" y="5169600"/>
              <a:ext cx="389880" cy="288000"/>
              <a:chOff x="5258160" y="5169600"/>
              <a:chExt cx="389880" cy="288000"/>
            </a:xfrm>
          </p:grpSpPr>
          <p:sp>
            <p:nvSpPr>
              <p:cNvPr id="346" name=""/>
              <p:cNvSpPr/>
              <p:nvPr/>
            </p:nvSpPr>
            <p:spPr>
              <a:xfrm>
                <a:off x="5335920" y="5169600"/>
                <a:ext cx="225720" cy="288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58160" y="517608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58160" y="528624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265720" y="540288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23120" y="5176080"/>
                <a:ext cx="11664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23120" y="5286240"/>
                <a:ext cx="11664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31040" y="540288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203800" y="4682520"/>
              <a:ext cx="392040" cy="390960"/>
              <a:chOff x="5203800" y="4682520"/>
              <a:chExt cx="392040" cy="390960"/>
            </a:xfrm>
          </p:grpSpPr>
          <p:sp>
            <p:nvSpPr>
              <p:cNvPr id="354" name=""/>
              <p:cNvSpPr/>
              <p:nvPr/>
            </p:nvSpPr>
            <p:spPr>
              <a:xfrm>
                <a:off x="5297400" y="4682520"/>
                <a:ext cx="210240" cy="390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99720" y="4696200"/>
                <a:ext cx="9612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92160" y="4991040"/>
                <a:ext cx="9576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203800" y="4702680"/>
                <a:ext cx="9576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11360" y="4991040"/>
                <a:ext cx="9612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876200" y="4277520"/>
              <a:ext cx="381600" cy="308880"/>
              <a:chOff x="4876200" y="4277520"/>
              <a:chExt cx="381600" cy="308880"/>
            </a:xfrm>
          </p:grpSpPr>
          <p:sp>
            <p:nvSpPr>
              <p:cNvPr id="360" name=""/>
              <p:cNvSpPr/>
              <p:nvPr/>
            </p:nvSpPr>
            <p:spPr>
              <a:xfrm>
                <a:off x="4969800" y="4277520"/>
                <a:ext cx="210240" cy="308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148720" y="4412160"/>
                <a:ext cx="109080" cy="36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84120" y="4302360"/>
                <a:ext cx="108720" cy="36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6200" y="4508640"/>
                <a:ext cx="109080" cy="36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3924720" y="4318920"/>
              <a:ext cx="459720" cy="111960"/>
              <a:chOff x="3924720" y="4318920"/>
              <a:chExt cx="459720" cy="111960"/>
            </a:xfrm>
          </p:grpSpPr>
          <p:sp>
            <p:nvSpPr>
              <p:cNvPr id="365" name=""/>
              <p:cNvSpPr/>
              <p:nvPr/>
            </p:nvSpPr>
            <p:spPr>
              <a:xfrm>
                <a:off x="4010400" y="4318920"/>
                <a:ext cx="280800" cy="11196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275720" y="4350600"/>
                <a:ext cx="108720" cy="406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24720" y="4359600"/>
                <a:ext cx="109080" cy="406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311520" y="4503960"/>
              <a:ext cx="282600" cy="331200"/>
              <a:chOff x="6311520" y="4503960"/>
              <a:chExt cx="282600" cy="331200"/>
            </a:xfrm>
          </p:grpSpPr>
          <p:sp>
            <p:nvSpPr>
              <p:cNvPr id="369" name=""/>
              <p:cNvSpPr/>
              <p:nvPr/>
            </p:nvSpPr>
            <p:spPr>
              <a:xfrm rot="5400000">
                <a:off x="6347520" y="4531680"/>
                <a:ext cx="212760" cy="280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5400000">
                <a:off x="6512040" y="4768560"/>
                <a:ext cx="8424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5400000">
                <a:off x="6301440" y="4761720"/>
                <a:ext cx="8460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0000">
                <a:off x="6512040" y="4528440"/>
                <a:ext cx="8424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5400000">
                <a:off x="6293520" y="4521600"/>
                <a:ext cx="84600" cy="48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761520" y="4487760"/>
              <a:ext cx="177480" cy="404280"/>
              <a:chOff x="6761520" y="4487760"/>
              <a:chExt cx="177480" cy="404280"/>
            </a:xfrm>
          </p:grpSpPr>
          <p:sp>
            <p:nvSpPr>
              <p:cNvPr id="375" name=""/>
              <p:cNvSpPr/>
              <p:nvPr/>
            </p:nvSpPr>
            <p:spPr>
              <a:xfrm rot="5400000">
                <a:off x="6726600" y="4597560"/>
                <a:ext cx="246960" cy="1774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5400000">
                <a:off x="6808320" y="4811760"/>
                <a:ext cx="95760" cy="6480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5400000">
                <a:off x="6793560" y="4503240"/>
                <a:ext cx="96120" cy="6480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216120" y="5072400"/>
              <a:ext cx="452160" cy="411480"/>
              <a:chOff x="6216120" y="5072400"/>
              <a:chExt cx="452160" cy="411480"/>
            </a:xfrm>
          </p:grpSpPr>
          <p:sp>
            <p:nvSpPr>
              <p:cNvPr id="379" name=""/>
              <p:cNvSpPr/>
              <p:nvPr/>
            </p:nvSpPr>
            <p:spPr>
              <a:xfrm rot="5400000">
                <a:off x="6321960" y="5055120"/>
                <a:ext cx="240120" cy="45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400000">
                <a:off x="6559920" y="509904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5400000">
                <a:off x="6232680" y="510552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5400000">
                <a:off x="6559920" y="540072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400000">
                <a:off x="6404400" y="540072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5400000">
                <a:off x="6232680" y="5407560"/>
                <a:ext cx="102960" cy="49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223760" y="4730400"/>
              <a:ext cx="662760" cy="356760"/>
              <a:chOff x="7223760" y="4730400"/>
              <a:chExt cx="662760" cy="356760"/>
            </a:xfrm>
          </p:grpSpPr>
          <p:sp>
            <p:nvSpPr>
              <p:cNvPr id="386" name=""/>
              <p:cNvSpPr/>
              <p:nvPr/>
            </p:nvSpPr>
            <p:spPr>
              <a:xfrm>
                <a:off x="7332480" y="4730400"/>
                <a:ext cx="459720" cy="3567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23760" y="473724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31320" y="484020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39240" y="493632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61600" y="473724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761600" y="484020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769520" y="494280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39240" y="503208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769520" y="503208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87560" y="5231520"/>
              <a:ext cx="389880" cy="288000"/>
              <a:chOff x="7387560" y="5231520"/>
              <a:chExt cx="389880" cy="288000"/>
            </a:xfrm>
          </p:grpSpPr>
          <p:sp>
            <p:nvSpPr>
              <p:cNvPr id="396" name=""/>
              <p:cNvSpPr/>
              <p:nvPr/>
            </p:nvSpPr>
            <p:spPr>
              <a:xfrm>
                <a:off x="7465320" y="5231520"/>
                <a:ext cx="225720" cy="288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87560" y="5238000"/>
                <a:ext cx="11700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87560" y="534816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95120" y="546480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52520" y="5238000"/>
                <a:ext cx="116640" cy="43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52520" y="5348160"/>
                <a:ext cx="11664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60440" y="5464800"/>
                <a:ext cx="117000" cy="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7558920" y="5656680"/>
              <a:ext cx="459720" cy="111960"/>
              <a:chOff x="7558920" y="5656680"/>
              <a:chExt cx="459720" cy="111960"/>
            </a:xfrm>
          </p:grpSpPr>
          <p:sp>
            <p:nvSpPr>
              <p:cNvPr id="404" name=""/>
              <p:cNvSpPr/>
              <p:nvPr/>
            </p:nvSpPr>
            <p:spPr>
              <a:xfrm>
                <a:off x="7644600" y="5656680"/>
                <a:ext cx="280800" cy="11196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909920" y="5688360"/>
                <a:ext cx="108720" cy="406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58920" y="5697360"/>
                <a:ext cx="109080" cy="406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904080" y="5389200"/>
              <a:ext cx="351000" cy="336240"/>
              <a:chOff x="6904080" y="5389200"/>
              <a:chExt cx="351000" cy="336240"/>
            </a:xfrm>
          </p:grpSpPr>
          <p:sp>
            <p:nvSpPr>
              <p:cNvPr id="408" name=""/>
              <p:cNvSpPr/>
              <p:nvPr/>
            </p:nvSpPr>
            <p:spPr>
              <a:xfrm rot="16200000">
                <a:off x="6986880" y="5374800"/>
                <a:ext cx="185040" cy="351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200000">
                <a:off x="7029720" y="5416560"/>
                <a:ext cx="96120" cy="41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6200000">
                <a:off x="6905160" y="5649840"/>
                <a:ext cx="95760" cy="41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6200000">
                <a:off x="7139160" y="5656680"/>
                <a:ext cx="96120" cy="41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2614320" y="4229640"/>
              <a:ext cx="147960" cy="109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652840" y="4284360"/>
              <a:ext cx="389880" cy="303840"/>
              <a:chOff x="2652840" y="4284360"/>
              <a:chExt cx="389880" cy="303840"/>
            </a:xfrm>
          </p:grpSpPr>
          <p:sp>
            <p:nvSpPr>
              <p:cNvPr id="414" name=""/>
              <p:cNvSpPr/>
              <p:nvPr/>
            </p:nvSpPr>
            <p:spPr>
              <a:xfrm rot="10800000">
                <a:off x="2652840" y="4355280"/>
                <a:ext cx="389880" cy="1645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0800000">
                <a:off x="2665080" y="4284360"/>
                <a:ext cx="42480" cy="77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0800000">
                <a:off x="2992320" y="4284360"/>
                <a:ext cx="42840" cy="77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0800000">
                <a:off x="2820960" y="4510440"/>
                <a:ext cx="42480" cy="777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808360" y="5218920"/>
              <a:ext cx="345240" cy="343080"/>
              <a:chOff x="2808360" y="5218920"/>
              <a:chExt cx="345240" cy="343080"/>
            </a:xfrm>
          </p:grpSpPr>
          <p:sp>
            <p:nvSpPr>
              <p:cNvPr id="419" name=""/>
              <p:cNvSpPr/>
              <p:nvPr/>
            </p:nvSpPr>
            <p:spPr>
              <a:xfrm rot="5400000">
                <a:off x="2810880" y="5297040"/>
                <a:ext cx="343080" cy="186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5400000">
                <a:off x="2833560" y="5488560"/>
                <a:ext cx="37440" cy="87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5400000">
                <a:off x="2833200" y="5200200"/>
                <a:ext cx="37800" cy="87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5400000">
                <a:off x="3090600" y="5351040"/>
                <a:ext cx="37440" cy="88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817000" y="5725440"/>
              <a:ext cx="459720" cy="111960"/>
              <a:chOff x="2817000" y="5725440"/>
              <a:chExt cx="459720" cy="111960"/>
            </a:xfrm>
          </p:grpSpPr>
          <p:sp>
            <p:nvSpPr>
              <p:cNvPr id="424" name=""/>
              <p:cNvSpPr/>
              <p:nvPr/>
            </p:nvSpPr>
            <p:spPr>
              <a:xfrm>
                <a:off x="2902680" y="5725440"/>
                <a:ext cx="280800" cy="11196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68000" y="5757120"/>
                <a:ext cx="108720" cy="406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817000" y="5766120"/>
                <a:ext cx="109080" cy="4068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2590560" y="5972400"/>
              <a:ext cx="381960" cy="308880"/>
              <a:chOff x="2590560" y="5972400"/>
              <a:chExt cx="381960" cy="308880"/>
            </a:xfrm>
          </p:grpSpPr>
          <p:sp>
            <p:nvSpPr>
              <p:cNvPr id="428" name=""/>
              <p:cNvSpPr/>
              <p:nvPr/>
            </p:nvSpPr>
            <p:spPr>
              <a:xfrm>
                <a:off x="2684160" y="5972400"/>
                <a:ext cx="210240" cy="308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63440" y="6107040"/>
                <a:ext cx="109080" cy="36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98480" y="5997240"/>
                <a:ext cx="109080" cy="36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90560" y="6203520"/>
                <a:ext cx="109080" cy="36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808760" y="29530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61960" y="337860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２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87760" y="24796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６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83560" y="32961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68960" y="345420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92360" y="22600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４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5800" y="22874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61600" y="32619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12800" y="22737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２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96640" y="486072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20040" y="53344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４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17120" y="5512680"/>
              <a:ext cx="1166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26640" y="52131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95760" y="460584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６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08680" y="434412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２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34840" y="488016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54640" y="529884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57080" y="577800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67640" y="527940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240" y="43804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２２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1040" y="530676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２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94600" y="604116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１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08000" y="4731840"/>
              <a:ext cx="345240" cy="342720"/>
              <a:chOff x="2808000" y="4731840"/>
              <a:chExt cx="345240" cy="342720"/>
            </a:xfrm>
          </p:grpSpPr>
          <p:sp>
            <p:nvSpPr>
              <p:cNvPr id="455" name=""/>
              <p:cNvSpPr/>
              <p:nvPr/>
            </p:nvSpPr>
            <p:spPr>
              <a:xfrm rot="16200000">
                <a:off x="2807640" y="4809600"/>
                <a:ext cx="342720" cy="186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6200000">
                <a:off x="3090600" y="4717080"/>
                <a:ext cx="37440" cy="87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6200000">
                <a:off x="3090240" y="5005080"/>
                <a:ext cx="37800" cy="87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6200000">
                <a:off x="2833200" y="4853880"/>
                <a:ext cx="37440" cy="88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897640" y="48333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２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6971400" y="5749200"/>
              <a:ext cx="189000" cy="105840"/>
              <a:chOff x="6971400" y="5749200"/>
              <a:chExt cx="189000" cy="105840"/>
            </a:xfrm>
          </p:grpSpPr>
          <p:sp>
            <p:nvSpPr>
              <p:cNvPr id="461" name=""/>
              <p:cNvSpPr/>
              <p:nvPr/>
            </p:nvSpPr>
            <p:spPr>
              <a:xfrm rot="5279400">
                <a:off x="7000200" y="575856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097400" y="5804640"/>
                <a:ext cx="63000" cy="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971400" y="5806440"/>
                <a:ext cx="37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7335360" y="5582160"/>
              <a:ext cx="119520" cy="167040"/>
              <a:chOff x="7335360" y="5582160"/>
              <a:chExt cx="119520" cy="167040"/>
            </a:xfrm>
          </p:grpSpPr>
          <p:sp>
            <p:nvSpPr>
              <p:cNvPr id="465" name=""/>
              <p:cNvSpPr/>
              <p:nvPr/>
            </p:nvSpPr>
            <p:spPr>
              <a:xfrm rot="10679400">
                <a:off x="7336440" y="561456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7388640" y="5693760"/>
                <a:ext cx="3600" cy="55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0080" y="5582160"/>
                <a:ext cx="0" cy="32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7194960" y="5207040"/>
              <a:ext cx="119520" cy="167040"/>
              <a:chOff x="7194960" y="5207040"/>
              <a:chExt cx="119520" cy="167040"/>
            </a:xfrm>
          </p:grpSpPr>
          <p:sp>
            <p:nvSpPr>
              <p:cNvPr id="469" name=""/>
              <p:cNvSpPr/>
              <p:nvPr/>
            </p:nvSpPr>
            <p:spPr>
              <a:xfrm rot="10679400">
                <a:off x="7196040" y="523944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7248240" y="5318640"/>
                <a:ext cx="3600" cy="55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7249680" y="5207040"/>
                <a:ext cx="0" cy="32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212800" y="6085440"/>
              <a:ext cx="189000" cy="105840"/>
              <a:chOff x="5212800" y="6085440"/>
              <a:chExt cx="189000" cy="105840"/>
            </a:xfrm>
          </p:grpSpPr>
          <p:sp>
            <p:nvSpPr>
              <p:cNvPr id="473" name=""/>
              <p:cNvSpPr/>
              <p:nvPr/>
            </p:nvSpPr>
            <p:spPr>
              <a:xfrm rot="5279400">
                <a:off x="5241600" y="609480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38800" y="6140880"/>
                <a:ext cx="63000" cy="288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212800" y="6142680"/>
                <a:ext cx="37440" cy="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508000" y="6077160"/>
              <a:ext cx="189000" cy="105840"/>
              <a:chOff x="5508000" y="6077160"/>
              <a:chExt cx="189000" cy="105840"/>
            </a:xfrm>
          </p:grpSpPr>
          <p:sp>
            <p:nvSpPr>
              <p:cNvPr id="477" name=""/>
              <p:cNvSpPr/>
              <p:nvPr/>
            </p:nvSpPr>
            <p:spPr>
              <a:xfrm rot="5279400">
                <a:off x="5536800" y="60865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34000" y="6132600"/>
                <a:ext cx="63000" cy="288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508000" y="6134400"/>
                <a:ext cx="37440" cy="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952240" y="5816520"/>
              <a:ext cx="189000" cy="105840"/>
              <a:chOff x="5952240" y="5816520"/>
              <a:chExt cx="189000" cy="105840"/>
            </a:xfrm>
          </p:grpSpPr>
          <p:sp>
            <p:nvSpPr>
              <p:cNvPr id="481" name=""/>
              <p:cNvSpPr/>
              <p:nvPr/>
            </p:nvSpPr>
            <p:spPr>
              <a:xfrm rot="5279400">
                <a:off x="5981040" y="582588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078240" y="5871960"/>
                <a:ext cx="63000" cy="28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5952240" y="5873760"/>
                <a:ext cx="3744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46520" y="5793120"/>
              <a:ext cx="294480" cy="146160"/>
              <a:chOff x="6446520" y="5793120"/>
              <a:chExt cx="294480" cy="146160"/>
            </a:xfrm>
          </p:grpSpPr>
          <p:sp>
            <p:nvSpPr>
              <p:cNvPr id="485" name=""/>
              <p:cNvSpPr/>
              <p:nvPr/>
            </p:nvSpPr>
            <p:spPr>
              <a:xfrm rot="5279400">
                <a:off x="6501240" y="5798520"/>
                <a:ext cx="141480" cy="13464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643080" y="5869800"/>
                <a:ext cx="97920" cy="360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446520" y="5871240"/>
                <a:ext cx="58320" cy="36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932800" y="5371560"/>
              <a:ext cx="189000" cy="105840"/>
              <a:chOff x="5932800" y="5371560"/>
              <a:chExt cx="189000" cy="105840"/>
            </a:xfrm>
          </p:grpSpPr>
          <p:sp>
            <p:nvSpPr>
              <p:cNvPr id="489" name=""/>
              <p:cNvSpPr/>
              <p:nvPr/>
            </p:nvSpPr>
            <p:spPr>
              <a:xfrm rot="5279400">
                <a:off x="5961600" y="53809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58800" y="5427000"/>
                <a:ext cx="63000" cy="28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932800" y="5428800"/>
                <a:ext cx="3744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948640" y="5519160"/>
              <a:ext cx="189000" cy="105840"/>
              <a:chOff x="5948640" y="5519160"/>
              <a:chExt cx="189000" cy="105840"/>
            </a:xfrm>
          </p:grpSpPr>
          <p:sp>
            <p:nvSpPr>
              <p:cNvPr id="493" name=""/>
              <p:cNvSpPr/>
              <p:nvPr/>
            </p:nvSpPr>
            <p:spPr>
              <a:xfrm rot="5279400">
                <a:off x="5977440" y="55285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74640" y="5574600"/>
                <a:ext cx="63000" cy="28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5948640" y="5576400"/>
                <a:ext cx="3744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931360" y="5144040"/>
              <a:ext cx="189000" cy="105840"/>
              <a:chOff x="5931360" y="5144040"/>
              <a:chExt cx="189000" cy="105840"/>
            </a:xfrm>
          </p:grpSpPr>
          <p:sp>
            <p:nvSpPr>
              <p:cNvPr id="497" name=""/>
              <p:cNvSpPr/>
              <p:nvPr/>
            </p:nvSpPr>
            <p:spPr>
              <a:xfrm rot="5279400">
                <a:off x="5960160" y="515340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57360" y="5199480"/>
                <a:ext cx="63000" cy="28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5931360" y="5201280"/>
                <a:ext cx="3744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6454080" y="4906440"/>
              <a:ext cx="189000" cy="105840"/>
              <a:chOff x="6454080" y="4906440"/>
              <a:chExt cx="189000" cy="105840"/>
            </a:xfrm>
          </p:grpSpPr>
          <p:sp>
            <p:nvSpPr>
              <p:cNvPr id="501" name=""/>
              <p:cNvSpPr/>
              <p:nvPr/>
            </p:nvSpPr>
            <p:spPr>
              <a:xfrm rot="5279400">
                <a:off x="6482880" y="491580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80080" y="4961880"/>
                <a:ext cx="63000" cy="28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454080" y="4963680"/>
                <a:ext cx="3744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827680" y="4354920"/>
              <a:ext cx="188640" cy="105840"/>
              <a:chOff x="5827680" y="4354920"/>
              <a:chExt cx="188640" cy="105840"/>
            </a:xfrm>
          </p:grpSpPr>
          <p:sp>
            <p:nvSpPr>
              <p:cNvPr id="505" name=""/>
              <p:cNvSpPr/>
              <p:nvPr/>
            </p:nvSpPr>
            <p:spPr>
              <a:xfrm rot="5279400">
                <a:off x="5856840" y="4364640"/>
                <a:ext cx="102960" cy="864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953320" y="4410360"/>
                <a:ext cx="63000" cy="288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827680" y="4412160"/>
                <a:ext cx="37440" cy="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5864040" y="4523760"/>
              <a:ext cx="294480" cy="146520"/>
              <a:chOff x="5864040" y="4523760"/>
              <a:chExt cx="294480" cy="146520"/>
            </a:xfrm>
          </p:grpSpPr>
          <p:sp>
            <p:nvSpPr>
              <p:cNvPr id="509" name=""/>
              <p:cNvSpPr/>
              <p:nvPr/>
            </p:nvSpPr>
            <p:spPr>
              <a:xfrm rot="5279400">
                <a:off x="5918760" y="4529520"/>
                <a:ext cx="141840" cy="13464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60600" y="4600440"/>
                <a:ext cx="97920" cy="360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864040" y="4602240"/>
                <a:ext cx="58320" cy="36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724720" y="4715640"/>
              <a:ext cx="294480" cy="146160"/>
              <a:chOff x="5724720" y="4715640"/>
              <a:chExt cx="294480" cy="146160"/>
            </a:xfrm>
          </p:grpSpPr>
          <p:sp>
            <p:nvSpPr>
              <p:cNvPr id="513" name=""/>
              <p:cNvSpPr/>
              <p:nvPr/>
            </p:nvSpPr>
            <p:spPr>
              <a:xfrm rot="5279400">
                <a:off x="5779440" y="4721040"/>
                <a:ext cx="141480" cy="13464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21280" y="4792320"/>
                <a:ext cx="97920" cy="360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724720" y="4793760"/>
                <a:ext cx="58320" cy="36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493880" y="4271400"/>
              <a:ext cx="189000" cy="105840"/>
              <a:chOff x="4493880" y="4271400"/>
              <a:chExt cx="189000" cy="105840"/>
            </a:xfrm>
          </p:grpSpPr>
          <p:sp>
            <p:nvSpPr>
              <p:cNvPr id="517" name=""/>
              <p:cNvSpPr/>
              <p:nvPr/>
            </p:nvSpPr>
            <p:spPr>
              <a:xfrm rot="5279400">
                <a:off x="4522680" y="428076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619880" y="4326840"/>
                <a:ext cx="63000" cy="288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4493880" y="4328640"/>
                <a:ext cx="37440" cy="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4109040" y="4791960"/>
              <a:ext cx="189000" cy="105840"/>
              <a:chOff x="4109040" y="4791960"/>
              <a:chExt cx="189000" cy="105840"/>
            </a:xfrm>
          </p:grpSpPr>
          <p:sp>
            <p:nvSpPr>
              <p:cNvPr id="521" name=""/>
              <p:cNvSpPr/>
              <p:nvPr/>
            </p:nvSpPr>
            <p:spPr>
              <a:xfrm rot="5279400">
                <a:off x="4137840" y="48013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235040" y="4847400"/>
                <a:ext cx="63000" cy="288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4109040" y="4849200"/>
                <a:ext cx="37440" cy="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4577040" y="5122440"/>
              <a:ext cx="119520" cy="167040"/>
              <a:chOff x="4577040" y="5122440"/>
              <a:chExt cx="119520" cy="167040"/>
            </a:xfrm>
          </p:grpSpPr>
          <p:sp>
            <p:nvSpPr>
              <p:cNvPr id="525" name=""/>
              <p:cNvSpPr/>
              <p:nvPr/>
            </p:nvSpPr>
            <p:spPr>
              <a:xfrm rot="10679400">
                <a:off x="4578120" y="515484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4630320" y="5234040"/>
                <a:ext cx="3600" cy="5544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4631760" y="5122440"/>
                <a:ext cx="0" cy="327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577040" y="5336280"/>
              <a:ext cx="119520" cy="167040"/>
              <a:chOff x="4577040" y="5336280"/>
              <a:chExt cx="119520" cy="167040"/>
            </a:xfrm>
          </p:grpSpPr>
          <p:sp>
            <p:nvSpPr>
              <p:cNvPr id="529" name=""/>
              <p:cNvSpPr/>
              <p:nvPr/>
            </p:nvSpPr>
            <p:spPr>
              <a:xfrm rot="10679400">
                <a:off x="4578120" y="53686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4630320" y="5447880"/>
                <a:ext cx="3600" cy="5544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4631760" y="5336280"/>
                <a:ext cx="0" cy="327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4758840" y="5344200"/>
              <a:ext cx="119520" cy="167040"/>
              <a:chOff x="4758840" y="5344200"/>
              <a:chExt cx="119520" cy="167040"/>
            </a:xfrm>
          </p:grpSpPr>
          <p:sp>
            <p:nvSpPr>
              <p:cNvPr id="533" name=""/>
              <p:cNvSpPr/>
              <p:nvPr/>
            </p:nvSpPr>
            <p:spPr>
              <a:xfrm rot="10679400">
                <a:off x="4759920" y="537660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4812120" y="5455800"/>
                <a:ext cx="3600" cy="5544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813560" y="5344200"/>
                <a:ext cx="0" cy="327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5029920" y="5352120"/>
              <a:ext cx="119160" cy="167040"/>
              <a:chOff x="5029920" y="5352120"/>
              <a:chExt cx="119160" cy="167040"/>
            </a:xfrm>
          </p:grpSpPr>
          <p:sp>
            <p:nvSpPr>
              <p:cNvPr id="537" name=""/>
              <p:cNvSpPr/>
              <p:nvPr/>
            </p:nvSpPr>
            <p:spPr>
              <a:xfrm rot="10679400">
                <a:off x="5031000" y="5384520"/>
                <a:ext cx="11664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083200" y="5463720"/>
                <a:ext cx="3600" cy="5544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084640" y="5352120"/>
                <a:ext cx="0" cy="3276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5030640" y="5116680"/>
              <a:ext cx="119520" cy="167040"/>
              <a:chOff x="5030640" y="5116680"/>
              <a:chExt cx="119520" cy="167040"/>
            </a:xfrm>
          </p:grpSpPr>
          <p:sp>
            <p:nvSpPr>
              <p:cNvPr id="541" name=""/>
              <p:cNvSpPr/>
              <p:nvPr/>
            </p:nvSpPr>
            <p:spPr>
              <a:xfrm rot="10679400">
                <a:off x="5031720" y="51490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083920" y="5228280"/>
                <a:ext cx="3600" cy="5544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085360" y="5116680"/>
                <a:ext cx="0" cy="3276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4986360" y="4640760"/>
              <a:ext cx="119520" cy="167040"/>
              <a:chOff x="4986360" y="4640760"/>
              <a:chExt cx="119520" cy="167040"/>
            </a:xfrm>
          </p:grpSpPr>
          <p:sp>
            <p:nvSpPr>
              <p:cNvPr id="545" name=""/>
              <p:cNvSpPr/>
              <p:nvPr/>
            </p:nvSpPr>
            <p:spPr>
              <a:xfrm rot="10679400">
                <a:off x="4987440" y="467316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039640" y="4752360"/>
                <a:ext cx="3600" cy="5544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041080" y="4640760"/>
                <a:ext cx="0" cy="3276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4798080" y="4885560"/>
              <a:ext cx="189000" cy="105840"/>
              <a:chOff x="4798080" y="4885560"/>
              <a:chExt cx="189000" cy="105840"/>
            </a:xfrm>
          </p:grpSpPr>
          <p:sp>
            <p:nvSpPr>
              <p:cNvPr id="549" name=""/>
              <p:cNvSpPr/>
              <p:nvPr/>
            </p:nvSpPr>
            <p:spPr>
              <a:xfrm rot="5279400">
                <a:off x="4826880" y="48949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924080" y="4941000"/>
                <a:ext cx="63000" cy="288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4798080" y="4942800"/>
                <a:ext cx="37440" cy="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3292920" y="5046840"/>
              <a:ext cx="189000" cy="105840"/>
              <a:chOff x="3292920" y="5046840"/>
              <a:chExt cx="189000" cy="105840"/>
            </a:xfrm>
          </p:grpSpPr>
          <p:sp>
            <p:nvSpPr>
              <p:cNvPr id="553" name=""/>
              <p:cNvSpPr/>
              <p:nvPr/>
            </p:nvSpPr>
            <p:spPr>
              <a:xfrm rot="5279400">
                <a:off x="3321720" y="505620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18920" y="5102280"/>
                <a:ext cx="63000" cy="288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292920" y="5104080"/>
                <a:ext cx="37440" cy="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301920" y="5200200"/>
              <a:ext cx="188640" cy="105840"/>
              <a:chOff x="3301920" y="5200200"/>
              <a:chExt cx="188640" cy="105840"/>
            </a:xfrm>
          </p:grpSpPr>
          <p:sp>
            <p:nvSpPr>
              <p:cNvPr id="557" name=""/>
              <p:cNvSpPr/>
              <p:nvPr/>
            </p:nvSpPr>
            <p:spPr>
              <a:xfrm rot="5279400">
                <a:off x="3331080" y="5209920"/>
                <a:ext cx="102960" cy="864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427560" y="5255640"/>
                <a:ext cx="63000" cy="288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3301920" y="5257440"/>
                <a:ext cx="37440" cy="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4295160" y="6035040"/>
              <a:ext cx="188640" cy="105840"/>
              <a:chOff x="4295160" y="6035040"/>
              <a:chExt cx="188640" cy="105840"/>
            </a:xfrm>
          </p:grpSpPr>
          <p:sp>
            <p:nvSpPr>
              <p:cNvPr id="561" name=""/>
              <p:cNvSpPr/>
              <p:nvPr/>
            </p:nvSpPr>
            <p:spPr>
              <a:xfrm rot="5279400">
                <a:off x="4324320" y="6044760"/>
                <a:ext cx="102960" cy="864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20800" y="6090480"/>
                <a:ext cx="63000" cy="288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4295160" y="6092280"/>
                <a:ext cx="37440" cy="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3798360" y="6035040"/>
              <a:ext cx="189000" cy="105840"/>
              <a:chOff x="3798360" y="6035040"/>
              <a:chExt cx="189000" cy="105840"/>
            </a:xfrm>
          </p:grpSpPr>
          <p:sp>
            <p:nvSpPr>
              <p:cNvPr id="565" name=""/>
              <p:cNvSpPr/>
              <p:nvPr/>
            </p:nvSpPr>
            <p:spPr>
              <a:xfrm rot="5279400">
                <a:off x="3827160" y="604440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924360" y="6090480"/>
                <a:ext cx="63000" cy="288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3798360" y="6092280"/>
                <a:ext cx="37440" cy="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332880" y="5982480"/>
              <a:ext cx="119520" cy="167040"/>
              <a:chOff x="3332880" y="5982480"/>
              <a:chExt cx="119520" cy="167040"/>
            </a:xfrm>
          </p:grpSpPr>
          <p:sp>
            <p:nvSpPr>
              <p:cNvPr id="569" name=""/>
              <p:cNvSpPr/>
              <p:nvPr/>
            </p:nvSpPr>
            <p:spPr>
              <a:xfrm rot="10679400">
                <a:off x="3333960" y="60148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386160" y="6094080"/>
                <a:ext cx="3600" cy="5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387600" y="5982480"/>
                <a:ext cx="0" cy="32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399760" y="6044040"/>
              <a:ext cx="119520" cy="167040"/>
              <a:chOff x="2399760" y="6044040"/>
              <a:chExt cx="119520" cy="167040"/>
            </a:xfrm>
          </p:grpSpPr>
          <p:sp>
            <p:nvSpPr>
              <p:cNvPr id="573" name=""/>
              <p:cNvSpPr/>
              <p:nvPr/>
            </p:nvSpPr>
            <p:spPr>
              <a:xfrm rot="10679400">
                <a:off x="2400840" y="607644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453040" y="6155640"/>
                <a:ext cx="3600" cy="5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2454480" y="6044040"/>
                <a:ext cx="0" cy="32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2385360" y="4360680"/>
              <a:ext cx="119520" cy="167040"/>
              <a:chOff x="2385360" y="4360680"/>
              <a:chExt cx="119520" cy="167040"/>
            </a:xfrm>
          </p:grpSpPr>
          <p:sp>
            <p:nvSpPr>
              <p:cNvPr id="577" name=""/>
              <p:cNvSpPr/>
              <p:nvPr/>
            </p:nvSpPr>
            <p:spPr>
              <a:xfrm rot="10679400">
                <a:off x="2386440" y="43930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438640" y="4472280"/>
                <a:ext cx="3600" cy="5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2440080" y="4360680"/>
                <a:ext cx="0" cy="32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126240" y="4262400"/>
              <a:ext cx="119520" cy="167040"/>
              <a:chOff x="3126240" y="4262400"/>
              <a:chExt cx="119520" cy="167040"/>
            </a:xfrm>
          </p:grpSpPr>
          <p:sp>
            <p:nvSpPr>
              <p:cNvPr id="581" name=""/>
              <p:cNvSpPr/>
              <p:nvPr/>
            </p:nvSpPr>
            <p:spPr>
              <a:xfrm rot="10679400">
                <a:off x="3127320" y="429480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3179520" y="4374000"/>
                <a:ext cx="3600" cy="5544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3180960" y="4262400"/>
                <a:ext cx="0" cy="3276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3126240" y="4829760"/>
              <a:ext cx="119520" cy="167040"/>
              <a:chOff x="3126240" y="4829760"/>
              <a:chExt cx="119520" cy="167040"/>
            </a:xfrm>
          </p:grpSpPr>
          <p:sp>
            <p:nvSpPr>
              <p:cNvPr id="585" name=""/>
              <p:cNvSpPr/>
              <p:nvPr/>
            </p:nvSpPr>
            <p:spPr>
              <a:xfrm rot="10679400">
                <a:off x="3127320" y="486216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179520" y="4941360"/>
                <a:ext cx="3600" cy="5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180960" y="4829760"/>
                <a:ext cx="0" cy="32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893040" y="4747320"/>
              <a:ext cx="119520" cy="167040"/>
              <a:chOff x="3893040" y="4747320"/>
              <a:chExt cx="119520" cy="167040"/>
            </a:xfrm>
          </p:grpSpPr>
          <p:sp>
            <p:nvSpPr>
              <p:cNvPr id="589" name=""/>
              <p:cNvSpPr/>
              <p:nvPr/>
            </p:nvSpPr>
            <p:spPr>
              <a:xfrm rot="10679400">
                <a:off x="3894120" y="477972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946320" y="4858920"/>
                <a:ext cx="3600" cy="5544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947760" y="4747320"/>
                <a:ext cx="0" cy="3276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001040" y="4546440"/>
              <a:ext cx="294480" cy="146520"/>
              <a:chOff x="4001040" y="4546440"/>
              <a:chExt cx="294480" cy="146520"/>
            </a:xfrm>
          </p:grpSpPr>
          <p:sp>
            <p:nvSpPr>
              <p:cNvPr id="593" name=""/>
              <p:cNvSpPr/>
              <p:nvPr/>
            </p:nvSpPr>
            <p:spPr>
              <a:xfrm rot="5279400">
                <a:off x="4055760" y="4552200"/>
                <a:ext cx="141840" cy="13464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97600" y="4623120"/>
                <a:ext cx="97920" cy="360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4001040" y="4624920"/>
                <a:ext cx="58320" cy="36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4409640" y="4470840"/>
              <a:ext cx="294480" cy="146520"/>
              <a:chOff x="4409640" y="4470840"/>
              <a:chExt cx="294480" cy="146520"/>
            </a:xfrm>
          </p:grpSpPr>
          <p:sp>
            <p:nvSpPr>
              <p:cNvPr id="597" name=""/>
              <p:cNvSpPr/>
              <p:nvPr/>
            </p:nvSpPr>
            <p:spPr>
              <a:xfrm rot="5279400">
                <a:off x="4464360" y="4476600"/>
                <a:ext cx="141840" cy="13464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06200" y="4547520"/>
                <a:ext cx="97920" cy="360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4409640" y="4549320"/>
                <a:ext cx="58320" cy="3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7858080" y="5369400"/>
              <a:ext cx="119520" cy="167040"/>
              <a:chOff x="7858080" y="5369400"/>
              <a:chExt cx="119520" cy="167040"/>
            </a:xfrm>
          </p:grpSpPr>
          <p:sp>
            <p:nvSpPr>
              <p:cNvPr id="601" name=""/>
              <p:cNvSpPr/>
              <p:nvPr/>
            </p:nvSpPr>
            <p:spPr>
              <a:xfrm rot="10679400">
                <a:off x="7859160" y="540180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7911360" y="5481000"/>
                <a:ext cx="3600" cy="55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7912800" y="5369400"/>
                <a:ext cx="0" cy="32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858080" y="5155560"/>
              <a:ext cx="119520" cy="167040"/>
              <a:chOff x="7858080" y="5155560"/>
              <a:chExt cx="119520" cy="167040"/>
            </a:xfrm>
          </p:grpSpPr>
          <p:sp>
            <p:nvSpPr>
              <p:cNvPr id="605" name=""/>
              <p:cNvSpPr/>
              <p:nvPr/>
            </p:nvSpPr>
            <p:spPr>
              <a:xfrm rot="10679400">
                <a:off x="7859160" y="518796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7911360" y="5267160"/>
                <a:ext cx="3600" cy="55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7912800" y="5155560"/>
                <a:ext cx="0" cy="32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5960160" y="5689080"/>
              <a:ext cx="172440" cy="91080"/>
              <a:chOff x="5960160" y="5689080"/>
              <a:chExt cx="172440" cy="91080"/>
            </a:xfrm>
          </p:grpSpPr>
          <p:sp>
            <p:nvSpPr>
              <p:cNvPr id="609" name=""/>
              <p:cNvSpPr/>
              <p:nvPr/>
            </p:nvSpPr>
            <p:spPr>
              <a:xfrm>
                <a:off x="6013440" y="5689080"/>
                <a:ext cx="0" cy="91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057360" y="5689080"/>
                <a:ext cx="0" cy="91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960160" y="5734440"/>
                <a:ext cx="61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071760" y="5735520"/>
                <a:ext cx="608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655520" y="5589000"/>
              <a:ext cx="119160" cy="167040"/>
              <a:chOff x="4655520" y="5589000"/>
              <a:chExt cx="119160" cy="167040"/>
            </a:xfrm>
          </p:grpSpPr>
          <p:sp>
            <p:nvSpPr>
              <p:cNvPr id="614" name=""/>
              <p:cNvSpPr/>
              <p:nvPr/>
            </p:nvSpPr>
            <p:spPr>
              <a:xfrm rot="10679400">
                <a:off x="4656600" y="5621400"/>
                <a:ext cx="11664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708800" y="5700600"/>
                <a:ext cx="3600" cy="5544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710240" y="5589000"/>
                <a:ext cx="0" cy="3276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854960" y="6041160"/>
              <a:ext cx="104040" cy="151560"/>
              <a:chOff x="4854960" y="6041160"/>
              <a:chExt cx="104040" cy="151560"/>
            </a:xfrm>
          </p:grpSpPr>
          <p:sp>
            <p:nvSpPr>
              <p:cNvPr id="618" name=""/>
              <p:cNvSpPr/>
              <p:nvPr/>
            </p:nvSpPr>
            <p:spPr>
              <a:xfrm flipH="1">
                <a:off x="4854960" y="608796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854960" y="612684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907160" y="6041160"/>
                <a:ext cx="0" cy="53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905720" y="6139440"/>
                <a:ext cx="0" cy="5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985000" y="6002280"/>
              <a:ext cx="302400" cy="129960"/>
              <a:chOff x="5985000" y="6002280"/>
              <a:chExt cx="302400" cy="129960"/>
            </a:xfrm>
          </p:grpSpPr>
          <p:sp>
            <p:nvSpPr>
              <p:cNvPr id="623" name=""/>
              <p:cNvSpPr/>
              <p:nvPr/>
            </p:nvSpPr>
            <p:spPr>
              <a:xfrm>
                <a:off x="6091560" y="6002280"/>
                <a:ext cx="0" cy="129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71120" y="6002280"/>
                <a:ext cx="0" cy="129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85000" y="606780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176880" y="606888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862960" y="4984200"/>
              <a:ext cx="302040" cy="130320"/>
              <a:chOff x="5862960" y="4984200"/>
              <a:chExt cx="302040" cy="130320"/>
            </a:xfrm>
          </p:grpSpPr>
          <p:sp>
            <p:nvSpPr>
              <p:cNvPr id="628" name=""/>
              <p:cNvSpPr/>
              <p:nvPr/>
            </p:nvSpPr>
            <p:spPr>
              <a:xfrm>
                <a:off x="5969160" y="498420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48720" y="498420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62960" y="504972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4480" y="505116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557880" y="6049080"/>
              <a:ext cx="172440" cy="91080"/>
              <a:chOff x="3557880" y="6049080"/>
              <a:chExt cx="172440" cy="91080"/>
            </a:xfrm>
          </p:grpSpPr>
          <p:sp>
            <p:nvSpPr>
              <p:cNvPr id="633" name=""/>
              <p:cNvSpPr/>
              <p:nvPr/>
            </p:nvSpPr>
            <p:spPr>
              <a:xfrm>
                <a:off x="3611160" y="6049080"/>
                <a:ext cx="0" cy="91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655080" y="6049080"/>
                <a:ext cx="0" cy="91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557880" y="6094440"/>
                <a:ext cx="61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69480" y="6095520"/>
                <a:ext cx="608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015320" y="4722480"/>
              <a:ext cx="104040" cy="151560"/>
              <a:chOff x="7015320" y="4722480"/>
              <a:chExt cx="104040" cy="151560"/>
            </a:xfrm>
          </p:grpSpPr>
          <p:sp>
            <p:nvSpPr>
              <p:cNvPr id="638" name=""/>
              <p:cNvSpPr/>
              <p:nvPr/>
            </p:nvSpPr>
            <p:spPr>
              <a:xfrm flipH="1">
                <a:off x="7015320" y="476928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7015320" y="480816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67520" y="4722480"/>
                <a:ext cx="0" cy="53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66080" y="4820760"/>
                <a:ext cx="0" cy="5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523760" y="4723560"/>
              <a:ext cx="302040" cy="129960"/>
              <a:chOff x="4523760" y="4723560"/>
              <a:chExt cx="302040" cy="129960"/>
            </a:xfrm>
          </p:grpSpPr>
          <p:sp>
            <p:nvSpPr>
              <p:cNvPr id="643" name=""/>
              <p:cNvSpPr/>
              <p:nvPr/>
            </p:nvSpPr>
            <p:spPr>
              <a:xfrm>
                <a:off x="4629960" y="4723560"/>
                <a:ext cx="0" cy="129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09520" y="4723560"/>
                <a:ext cx="0" cy="129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523760" y="478908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15280" y="479016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3332880" y="5320800"/>
              <a:ext cx="198720" cy="344880"/>
            </a:xfrm>
            <a:prstGeom prst="rect">
              <a:avLst/>
            </a:prstGeom>
            <a:noFill/>
            <a:ln w="158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113280" y="6094800"/>
              <a:ext cx="172440" cy="91440"/>
              <a:chOff x="3113280" y="6094800"/>
              <a:chExt cx="172440" cy="91440"/>
            </a:xfrm>
          </p:grpSpPr>
          <p:sp>
            <p:nvSpPr>
              <p:cNvPr id="649" name=""/>
              <p:cNvSpPr/>
              <p:nvPr/>
            </p:nvSpPr>
            <p:spPr>
              <a:xfrm>
                <a:off x="3166560" y="6094800"/>
                <a:ext cx="0" cy="9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10480" y="6094800"/>
                <a:ext cx="0" cy="9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113280" y="6140160"/>
                <a:ext cx="61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24880" y="6141600"/>
                <a:ext cx="608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7319880" y="2814480"/>
              <a:ext cx="216720" cy="328320"/>
              <a:chOff x="7319880" y="2814480"/>
              <a:chExt cx="216720" cy="328320"/>
            </a:xfrm>
          </p:grpSpPr>
          <p:sp>
            <p:nvSpPr>
              <p:cNvPr id="654" name=""/>
              <p:cNvSpPr/>
              <p:nvPr/>
            </p:nvSpPr>
            <p:spPr>
              <a:xfrm rot="10679400">
                <a:off x="7322040" y="2880000"/>
                <a:ext cx="211680" cy="15048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7416360" y="3033720"/>
                <a:ext cx="7200" cy="109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7418880" y="2814480"/>
                <a:ext cx="720" cy="65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7119360" y="2435760"/>
              <a:ext cx="119520" cy="167040"/>
              <a:chOff x="7119360" y="2435760"/>
              <a:chExt cx="119520" cy="167040"/>
            </a:xfrm>
          </p:grpSpPr>
          <p:sp>
            <p:nvSpPr>
              <p:cNvPr id="658" name=""/>
              <p:cNvSpPr/>
              <p:nvPr/>
            </p:nvSpPr>
            <p:spPr>
              <a:xfrm rot="10679400">
                <a:off x="7120440" y="246816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7172640" y="2547360"/>
                <a:ext cx="3600" cy="5544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7174080" y="2435760"/>
                <a:ext cx="0" cy="3276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6938640" y="2368440"/>
              <a:ext cx="119520" cy="167040"/>
              <a:chOff x="6938640" y="2368440"/>
              <a:chExt cx="119520" cy="167040"/>
            </a:xfrm>
          </p:grpSpPr>
          <p:sp>
            <p:nvSpPr>
              <p:cNvPr id="662" name=""/>
              <p:cNvSpPr/>
              <p:nvPr/>
            </p:nvSpPr>
            <p:spPr>
              <a:xfrm rot="10679400">
                <a:off x="6939720" y="240084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6991920" y="2480040"/>
                <a:ext cx="3600" cy="5544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993360" y="2368440"/>
                <a:ext cx="0" cy="3276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6993720" y="2616480"/>
              <a:ext cx="189000" cy="105840"/>
              <a:chOff x="6993720" y="2616480"/>
              <a:chExt cx="189000" cy="105840"/>
            </a:xfrm>
          </p:grpSpPr>
          <p:sp>
            <p:nvSpPr>
              <p:cNvPr id="666" name=""/>
              <p:cNvSpPr/>
              <p:nvPr/>
            </p:nvSpPr>
            <p:spPr>
              <a:xfrm rot="5279400">
                <a:off x="7022520" y="262584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19720" y="2671920"/>
                <a:ext cx="63000" cy="28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6993720" y="2673720"/>
                <a:ext cx="37440" cy="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6836400" y="2892240"/>
              <a:ext cx="188640" cy="105840"/>
              <a:chOff x="6836400" y="2892240"/>
              <a:chExt cx="188640" cy="105840"/>
            </a:xfrm>
          </p:grpSpPr>
          <p:sp>
            <p:nvSpPr>
              <p:cNvPr id="670" name=""/>
              <p:cNvSpPr/>
              <p:nvPr/>
            </p:nvSpPr>
            <p:spPr>
              <a:xfrm rot="5279400">
                <a:off x="6865560" y="2901960"/>
                <a:ext cx="102960" cy="864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962040" y="2947680"/>
                <a:ext cx="63000" cy="28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6836400" y="2949480"/>
                <a:ext cx="37440" cy="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6567480" y="2849040"/>
              <a:ext cx="189000" cy="105480"/>
              <a:chOff x="6567480" y="2849040"/>
              <a:chExt cx="189000" cy="105480"/>
            </a:xfrm>
          </p:grpSpPr>
          <p:sp>
            <p:nvSpPr>
              <p:cNvPr id="674" name=""/>
              <p:cNvSpPr/>
              <p:nvPr/>
            </p:nvSpPr>
            <p:spPr>
              <a:xfrm rot="5279400">
                <a:off x="6596640" y="2858400"/>
                <a:ext cx="10260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693480" y="2904120"/>
                <a:ext cx="63000" cy="28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567480" y="2906280"/>
                <a:ext cx="37440" cy="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679080" y="2993040"/>
              <a:ext cx="189000" cy="105840"/>
              <a:chOff x="6679080" y="2993040"/>
              <a:chExt cx="189000" cy="105840"/>
            </a:xfrm>
          </p:grpSpPr>
          <p:sp>
            <p:nvSpPr>
              <p:cNvPr id="678" name=""/>
              <p:cNvSpPr/>
              <p:nvPr/>
            </p:nvSpPr>
            <p:spPr>
              <a:xfrm rot="5279400">
                <a:off x="6707880" y="300240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805080" y="3048480"/>
                <a:ext cx="63000" cy="28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6679080" y="3050280"/>
                <a:ext cx="37440" cy="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6688080" y="3144960"/>
              <a:ext cx="189000" cy="105840"/>
              <a:chOff x="6688080" y="3144960"/>
              <a:chExt cx="189000" cy="105840"/>
            </a:xfrm>
          </p:grpSpPr>
          <p:sp>
            <p:nvSpPr>
              <p:cNvPr id="682" name=""/>
              <p:cNvSpPr/>
              <p:nvPr/>
            </p:nvSpPr>
            <p:spPr>
              <a:xfrm rot="5279400">
                <a:off x="6716880" y="31543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814080" y="3200400"/>
                <a:ext cx="63000" cy="28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688080" y="3202200"/>
                <a:ext cx="3744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6688080" y="3288960"/>
              <a:ext cx="189000" cy="105840"/>
              <a:chOff x="6688080" y="3288960"/>
              <a:chExt cx="189000" cy="105840"/>
            </a:xfrm>
          </p:grpSpPr>
          <p:sp>
            <p:nvSpPr>
              <p:cNvPr id="686" name=""/>
              <p:cNvSpPr/>
              <p:nvPr/>
            </p:nvSpPr>
            <p:spPr>
              <a:xfrm rot="5279400">
                <a:off x="6716880" y="32983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814080" y="3344400"/>
                <a:ext cx="63000" cy="288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688080" y="3346200"/>
                <a:ext cx="374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686640" y="3450240"/>
              <a:ext cx="189000" cy="105840"/>
              <a:chOff x="6686640" y="3450240"/>
              <a:chExt cx="189000" cy="105840"/>
            </a:xfrm>
          </p:grpSpPr>
          <p:sp>
            <p:nvSpPr>
              <p:cNvPr id="690" name=""/>
              <p:cNvSpPr/>
              <p:nvPr/>
            </p:nvSpPr>
            <p:spPr>
              <a:xfrm rot="5279400">
                <a:off x="6715440" y="345960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812640" y="3505680"/>
                <a:ext cx="63000" cy="288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686640" y="3507480"/>
                <a:ext cx="374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6685560" y="3594600"/>
              <a:ext cx="189000" cy="105840"/>
              <a:chOff x="6685560" y="3594600"/>
              <a:chExt cx="189000" cy="105840"/>
            </a:xfrm>
          </p:grpSpPr>
          <p:sp>
            <p:nvSpPr>
              <p:cNvPr id="694" name=""/>
              <p:cNvSpPr/>
              <p:nvPr/>
            </p:nvSpPr>
            <p:spPr>
              <a:xfrm rot="5279400">
                <a:off x="6714360" y="360396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11560" y="3650040"/>
                <a:ext cx="63000" cy="288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685560" y="3651840"/>
                <a:ext cx="374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450920" y="3649320"/>
              <a:ext cx="189000" cy="105840"/>
              <a:chOff x="7450920" y="3649320"/>
              <a:chExt cx="189000" cy="105840"/>
            </a:xfrm>
          </p:grpSpPr>
          <p:sp>
            <p:nvSpPr>
              <p:cNvPr id="698" name=""/>
              <p:cNvSpPr/>
              <p:nvPr/>
            </p:nvSpPr>
            <p:spPr>
              <a:xfrm rot="5279400">
                <a:off x="7479720" y="365868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76920" y="3704760"/>
                <a:ext cx="63000" cy="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7450920" y="3706560"/>
                <a:ext cx="37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120800" y="2848680"/>
              <a:ext cx="119520" cy="167040"/>
              <a:chOff x="7120800" y="2848680"/>
              <a:chExt cx="119520" cy="167040"/>
            </a:xfrm>
          </p:grpSpPr>
          <p:sp>
            <p:nvSpPr>
              <p:cNvPr id="702" name=""/>
              <p:cNvSpPr/>
              <p:nvPr/>
            </p:nvSpPr>
            <p:spPr>
              <a:xfrm rot="10679400">
                <a:off x="7121880" y="28810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7174080" y="2960280"/>
                <a:ext cx="3600" cy="5544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7175520" y="2848680"/>
                <a:ext cx="0" cy="3276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7330320" y="3300480"/>
              <a:ext cx="119520" cy="167040"/>
              <a:chOff x="7330320" y="3300480"/>
              <a:chExt cx="119520" cy="167040"/>
            </a:xfrm>
          </p:grpSpPr>
          <p:sp>
            <p:nvSpPr>
              <p:cNvPr id="706" name=""/>
              <p:cNvSpPr/>
              <p:nvPr/>
            </p:nvSpPr>
            <p:spPr>
              <a:xfrm rot="10679400">
                <a:off x="7331400" y="33328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7383600" y="3412080"/>
                <a:ext cx="3600" cy="5544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7385040" y="3300480"/>
                <a:ext cx="0" cy="3276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7000200" y="3378240"/>
              <a:ext cx="119520" cy="167040"/>
              <a:chOff x="7000200" y="3378240"/>
              <a:chExt cx="119520" cy="167040"/>
            </a:xfrm>
          </p:grpSpPr>
          <p:sp>
            <p:nvSpPr>
              <p:cNvPr id="710" name=""/>
              <p:cNvSpPr/>
              <p:nvPr/>
            </p:nvSpPr>
            <p:spPr>
              <a:xfrm rot="10679400">
                <a:off x="7001280" y="341064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7053480" y="3489840"/>
                <a:ext cx="3600" cy="554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054920" y="3378240"/>
                <a:ext cx="0" cy="327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7183080" y="3224880"/>
              <a:ext cx="119520" cy="167040"/>
              <a:chOff x="7183080" y="3224880"/>
              <a:chExt cx="119520" cy="167040"/>
            </a:xfrm>
          </p:grpSpPr>
          <p:sp>
            <p:nvSpPr>
              <p:cNvPr id="714" name=""/>
              <p:cNvSpPr/>
              <p:nvPr/>
            </p:nvSpPr>
            <p:spPr>
              <a:xfrm rot="10679400">
                <a:off x="7184160" y="32572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7236360" y="3336480"/>
                <a:ext cx="3600" cy="5544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237800" y="3224880"/>
                <a:ext cx="0" cy="3276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79040" y="2405160"/>
              <a:ext cx="189000" cy="105480"/>
              <a:chOff x="5279040" y="2405160"/>
              <a:chExt cx="189000" cy="105480"/>
            </a:xfrm>
          </p:grpSpPr>
          <p:sp>
            <p:nvSpPr>
              <p:cNvPr id="718" name=""/>
              <p:cNvSpPr/>
              <p:nvPr/>
            </p:nvSpPr>
            <p:spPr>
              <a:xfrm rot="5279400">
                <a:off x="5308200" y="2414520"/>
                <a:ext cx="10260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05040" y="2460240"/>
                <a:ext cx="63000" cy="288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279040" y="2462400"/>
                <a:ext cx="37440" cy="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5279040" y="2558520"/>
              <a:ext cx="189000" cy="105480"/>
              <a:chOff x="5279040" y="2558520"/>
              <a:chExt cx="189000" cy="105480"/>
            </a:xfrm>
          </p:grpSpPr>
          <p:sp>
            <p:nvSpPr>
              <p:cNvPr id="722" name=""/>
              <p:cNvSpPr/>
              <p:nvPr/>
            </p:nvSpPr>
            <p:spPr>
              <a:xfrm rot="5279400">
                <a:off x="5308200" y="2567880"/>
                <a:ext cx="10260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5040" y="2613600"/>
                <a:ext cx="63000" cy="288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5279040" y="2615760"/>
                <a:ext cx="37440" cy="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6078600" y="2090520"/>
              <a:ext cx="189000" cy="105840"/>
              <a:chOff x="6078600" y="2090520"/>
              <a:chExt cx="189000" cy="105840"/>
            </a:xfrm>
          </p:grpSpPr>
          <p:sp>
            <p:nvSpPr>
              <p:cNvPr id="726" name=""/>
              <p:cNvSpPr/>
              <p:nvPr/>
            </p:nvSpPr>
            <p:spPr>
              <a:xfrm rot="5279400">
                <a:off x="6107400" y="209988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204600" y="2145960"/>
                <a:ext cx="63000" cy="288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078600" y="2147760"/>
                <a:ext cx="37440" cy="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5286960" y="3034080"/>
              <a:ext cx="119520" cy="167040"/>
              <a:chOff x="5286960" y="3034080"/>
              <a:chExt cx="119520" cy="167040"/>
            </a:xfrm>
          </p:grpSpPr>
          <p:sp>
            <p:nvSpPr>
              <p:cNvPr id="730" name=""/>
              <p:cNvSpPr/>
              <p:nvPr/>
            </p:nvSpPr>
            <p:spPr>
              <a:xfrm rot="10679400">
                <a:off x="5288040" y="30664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5340240" y="3145680"/>
                <a:ext cx="3600" cy="5544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341680" y="3034080"/>
                <a:ext cx="0" cy="327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26840" y="3578400"/>
              <a:ext cx="119520" cy="167040"/>
              <a:chOff x="5226840" y="3578400"/>
              <a:chExt cx="119520" cy="167040"/>
            </a:xfrm>
          </p:grpSpPr>
          <p:sp>
            <p:nvSpPr>
              <p:cNvPr id="734" name=""/>
              <p:cNvSpPr/>
              <p:nvPr/>
            </p:nvSpPr>
            <p:spPr>
              <a:xfrm rot="10679400">
                <a:off x="5227920" y="361080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5280120" y="3690000"/>
                <a:ext cx="3600" cy="5544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81560" y="3578400"/>
                <a:ext cx="0" cy="3276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077440" y="3837960"/>
              <a:ext cx="189000" cy="105840"/>
              <a:chOff x="5077440" y="3837960"/>
              <a:chExt cx="189000" cy="105840"/>
            </a:xfrm>
          </p:grpSpPr>
          <p:sp>
            <p:nvSpPr>
              <p:cNvPr id="738" name=""/>
              <p:cNvSpPr/>
              <p:nvPr/>
            </p:nvSpPr>
            <p:spPr>
              <a:xfrm rot="5279400">
                <a:off x="5106240" y="38473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203440" y="3893400"/>
                <a:ext cx="63000" cy="288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5077440" y="3895200"/>
                <a:ext cx="374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4816440" y="3836880"/>
              <a:ext cx="189000" cy="105480"/>
              <a:chOff x="4816440" y="3836880"/>
              <a:chExt cx="189000" cy="105480"/>
            </a:xfrm>
          </p:grpSpPr>
          <p:sp>
            <p:nvSpPr>
              <p:cNvPr id="742" name=""/>
              <p:cNvSpPr/>
              <p:nvPr/>
            </p:nvSpPr>
            <p:spPr>
              <a:xfrm rot="5279400">
                <a:off x="4845600" y="3846240"/>
                <a:ext cx="10260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942440" y="3891960"/>
                <a:ext cx="63000" cy="288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4816440" y="3894120"/>
                <a:ext cx="374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4501800" y="3920400"/>
              <a:ext cx="189000" cy="105840"/>
              <a:chOff x="4501800" y="3920400"/>
              <a:chExt cx="189000" cy="105840"/>
            </a:xfrm>
          </p:grpSpPr>
          <p:sp>
            <p:nvSpPr>
              <p:cNvPr id="746" name=""/>
              <p:cNvSpPr/>
              <p:nvPr/>
            </p:nvSpPr>
            <p:spPr>
              <a:xfrm rot="5279400">
                <a:off x="4530600" y="392976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627800" y="3975840"/>
                <a:ext cx="63000" cy="288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4501800" y="3977640"/>
                <a:ext cx="374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3789360" y="3928320"/>
              <a:ext cx="189000" cy="105840"/>
              <a:chOff x="3789360" y="3928320"/>
              <a:chExt cx="189000" cy="105840"/>
            </a:xfrm>
          </p:grpSpPr>
          <p:sp>
            <p:nvSpPr>
              <p:cNvPr id="750" name=""/>
              <p:cNvSpPr/>
              <p:nvPr/>
            </p:nvSpPr>
            <p:spPr>
              <a:xfrm rot="5279400">
                <a:off x="3818160" y="393768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915360" y="3983760"/>
                <a:ext cx="63000" cy="2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3789360" y="3985560"/>
                <a:ext cx="3744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4192200" y="3809520"/>
              <a:ext cx="119520" cy="167040"/>
              <a:chOff x="4192200" y="3809520"/>
              <a:chExt cx="119520" cy="167040"/>
            </a:xfrm>
          </p:grpSpPr>
          <p:sp>
            <p:nvSpPr>
              <p:cNvPr id="754" name=""/>
              <p:cNvSpPr/>
              <p:nvPr/>
            </p:nvSpPr>
            <p:spPr>
              <a:xfrm rot="10679400">
                <a:off x="4193280" y="384192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4245480" y="3921120"/>
                <a:ext cx="3600" cy="554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4246920" y="3809520"/>
                <a:ext cx="0" cy="327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4017960" y="3809520"/>
              <a:ext cx="119520" cy="167040"/>
              <a:chOff x="4017960" y="3809520"/>
              <a:chExt cx="119520" cy="167040"/>
            </a:xfrm>
          </p:grpSpPr>
          <p:sp>
            <p:nvSpPr>
              <p:cNvPr id="758" name=""/>
              <p:cNvSpPr/>
              <p:nvPr/>
            </p:nvSpPr>
            <p:spPr>
              <a:xfrm rot="10679400">
                <a:off x="4019040" y="384192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4071240" y="3921120"/>
                <a:ext cx="3600" cy="554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4072680" y="3809520"/>
                <a:ext cx="0" cy="327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4409280" y="2653200"/>
              <a:ext cx="119520" cy="167040"/>
              <a:chOff x="4409280" y="2653200"/>
              <a:chExt cx="119520" cy="167040"/>
            </a:xfrm>
          </p:grpSpPr>
          <p:sp>
            <p:nvSpPr>
              <p:cNvPr id="762" name=""/>
              <p:cNvSpPr/>
              <p:nvPr/>
            </p:nvSpPr>
            <p:spPr>
              <a:xfrm rot="10679400">
                <a:off x="4410360" y="268560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4462560" y="2764800"/>
                <a:ext cx="3600" cy="5544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4464000" y="2653200"/>
                <a:ext cx="0" cy="327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3879000" y="2799720"/>
              <a:ext cx="119520" cy="167040"/>
              <a:chOff x="3879000" y="2799720"/>
              <a:chExt cx="119520" cy="167040"/>
            </a:xfrm>
          </p:grpSpPr>
          <p:sp>
            <p:nvSpPr>
              <p:cNvPr id="766" name=""/>
              <p:cNvSpPr/>
              <p:nvPr/>
            </p:nvSpPr>
            <p:spPr>
              <a:xfrm rot="10679400">
                <a:off x="3880080" y="283212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3932280" y="2911320"/>
                <a:ext cx="3600" cy="5544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3933720" y="2799720"/>
                <a:ext cx="0" cy="3276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3408840" y="2784600"/>
              <a:ext cx="119160" cy="167040"/>
              <a:chOff x="3408840" y="2784600"/>
              <a:chExt cx="119160" cy="167040"/>
            </a:xfrm>
          </p:grpSpPr>
          <p:sp>
            <p:nvSpPr>
              <p:cNvPr id="770" name=""/>
              <p:cNvSpPr/>
              <p:nvPr/>
            </p:nvSpPr>
            <p:spPr>
              <a:xfrm rot="10679400">
                <a:off x="3409920" y="2817000"/>
                <a:ext cx="11664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3462120" y="2896200"/>
                <a:ext cx="3600" cy="5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463560" y="2784600"/>
                <a:ext cx="0" cy="32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186720" y="2748240"/>
              <a:ext cx="164880" cy="258840"/>
              <a:chOff x="3186720" y="2748240"/>
              <a:chExt cx="164880" cy="258840"/>
            </a:xfrm>
          </p:grpSpPr>
          <p:sp>
            <p:nvSpPr>
              <p:cNvPr id="774" name=""/>
              <p:cNvSpPr/>
              <p:nvPr/>
            </p:nvSpPr>
            <p:spPr>
              <a:xfrm rot="10679400">
                <a:off x="3188520" y="2799360"/>
                <a:ext cx="160920" cy="11844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260880" y="2921040"/>
                <a:ext cx="5400" cy="860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3261960" y="2748240"/>
                <a:ext cx="360" cy="51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2927520" y="2536560"/>
              <a:ext cx="188640" cy="105840"/>
              <a:chOff x="2927520" y="2536560"/>
              <a:chExt cx="188640" cy="105840"/>
            </a:xfrm>
          </p:grpSpPr>
          <p:sp>
            <p:nvSpPr>
              <p:cNvPr id="778" name=""/>
              <p:cNvSpPr/>
              <p:nvPr/>
            </p:nvSpPr>
            <p:spPr>
              <a:xfrm rot="5279400">
                <a:off x="2956680" y="2546280"/>
                <a:ext cx="102960" cy="864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53160" y="2592000"/>
                <a:ext cx="63000" cy="2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927520" y="2593800"/>
                <a:ext cx="3744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2875320" y="2000520"/>
              <a:ext cx="189000" cy="105480"/>
              <a:chOff x="2875320" y="2000520"/>
              <a:chExt cx="189000" cy="105480"/>
            </a:xfrm>
          </p:grpSpPr>
          <p:sp>
            <p:nvSpPr>
              <p:cNvPr id="782" name=""/>
              <p:cNvSpPr/>
              <p:nvPr/>
            </p:nvSpPr>
            <p:spPr>
              <a:xfrm rot="5279400">
                <a:off x="2904480" y="2009880"/>
                <a:ext cx="10260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1320" y="2055600"/>
                <a:ext cx="63000" cy="2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2875320" y="2057760"/>
                <a:ext cx="3744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7835760" y="2599560"/>
              <a:ext cx="119520" cy="167040"/>
              <a:chOff x="7835760" y="2599560"/>
              <a:chExt cx="119520" cy="167040"/>
            </a:xfrm>
          </p:grpSpPr>
          <p:sp>
            <p:nvSpPr>
              <p:cNvPr id="786" name=""/>
              <p:cNvSpPr/>
              <p:nvPr/>
            </p:nvSpPr>
            <p:spPr>
              <a:xfrm rot="10679400">
                <a:off x="7836840" y="263196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889040" y="2711160"/>
                <a:ext cx="3600" cy="55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7890480" y="2599560"/>
                <a:ext cx="0" cy="32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7330320" y="2561760"/>
              <a:ext cx="189000" cy="105840"/>
              <a:chOff x="7330320" y="2561760"/>
              <a:chExt cx="189000" cy="105840"/>
            </a:xfrm>
          </p:grpSpPr>
          <p:sp>
            <p:nvSpPr>
              <p:cNvPr id="790" name=""/>
              <p:cNvSpPr/>
              <p:nvPr/>
            </p:nvSpPr>
            <p:spPr>
              <a:xfrm rot="5279400">
                <a:off x="7359120" y="2571120"/>
                <a:ext cx="102960" cy="867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456320" y="2617200"/>
                <a:ext cx="63000" cy="28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7330320" y="2619000"/>
                <a:ext cx="37440" cy="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7275600" y="2326320"/>
              <a:ext cx="146520" cy="222840"/>
            </a:xfrm>
            <a:prstGeom prst="rect">
              <a:avLst/>
            </a:prstGeom>
            <a:noFill/>
            <a:ln w="158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5676120" y="2388960"/>
              <a:ext cx="164880" cy="258840"/>
              <a:chOff x="5676120" y="2388960"/>
              <a:chExt cx="164880" cy="258840"/>
            </a:xfrm>
          </p:grpSpPr>
          <p:sp>
            <p:nvSpPr>
              <p:cNvPr id="795" name=""/>
              <p:cNvSpPr/>
              <p:nvPr/>
            </p:nvSpPr>
            <p:spPr>
              <a:xfrm rot="10679400">
                <a:off x="5677920" y="2440080"/>
                <a:ext cx="160920" cy="11844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5750280" y="2561760"/>
                <a:ext cx="5400" cy="8604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5751360" y="2388960"/>
                <a:ext cx="360" cy="5148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701320" y="2164320"/>
              <a:ext cx="104040" cy="151560"/>
              <a:chOff x="5701320" y="2164320"/>
              <a:chExt cx="104040" cy="151560"/>
            </a:xfrm>
          </p:grpSpPr>
          <p:sp>
            <p:nvSpPr>
              <p:cNvPr id="799" name=""/>
              <p:cNvSpPr/>
              <p:nvPr/>
            </p:nvSpPr>
            <p:spPr>
              <a:xfrm flipH="1">
                <a:off x="5701320" y="221112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5701320" y="225000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53520" y="2164320"/>
                <a:ext cx="0" cy="53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52080" y="2262600"/>
                <a:ext cx="0" cy="5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5492880" y="2165040"/>
              <a:ext cx="104040" cy="151560"/>
              <a:chOff x="5492880" y="2165040"/>
              <a:chExt cx="104040" cy="151560"/>
            </a:xfrm>
          </p:grpSpPr>
          <p:sp>
            <p:nvSpPr>
              <p:cNvPr id="804" name=""/>
              <p:cNvSpPr/>
              <p:nvPr/>
            </p:nvSpPr>
            <p:spPr>
              <a:xfrm flipH="1">
                <a:off x="5492880" y="221184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5492880" y="225072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545080" y="2165040"/>
                <a:ext cx="0" cy="53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543640" y="2263320"/>
                <a:ext cx="0" cy="5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057640" y="3580920"/>
              <a:ext cx="104040" cy="151560"/>
              <a:chOff x="5057640" y="3580920"/>
              <a:chExt cx="104040" cy="1515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057640" y="362772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5057640" y="366660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09840" y="3580920"/>
                <a:ext cx="0" cy="53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108400" y="3679200"/>
                <a:ext cx="0" cy="5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20040" y="3705840"/>
              <a:ext cx="172440" cy="91440"/>
              <a:chOff x="4820040" y="3705840"/>
              <a:chExt cx="172440" cy="9144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3320" y="3705840"/>
                <a:ext cx="0" cy="9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17240" y="3705840"/>
                <a:ext cx="0" cy="9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820040" y="3751200"/>
                <a:ext cx="61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931640" y="3752640"/>
                <a:ext cx="608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4427640" y="3719520"/>
              <a:ext cx="302400" cy="130320"/>
              <a:chOff x="4427640" y="3719520"/>
              <a:chExt cx="302400" cy="130320"/>
            </a:xfrm>
          </p:grpSpPr>
          <p:sp>
            <p:nvSpPr>
              <p:cNvPr id="819" name=""/>
              <p:cNvSpPr/>
              <p:nvPr/>
            </p:nvSpPr>
            <p:spPr>
              <a:xfrm>
                <a:off x="4534200" y="371952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13760" y="371952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427640" y="378504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19520" y="378648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192200" y="2915640"/>
              <a:ext cx="302400" cy="130320"/>
              <a:chOff x="4192200" y="2915640"/>
              <a:chExt cx="302400" cy="130320"/>
            </a:xfrm>
          </p:grpSpPr>
          <p:sp>
            <p:nvSpPr>
              <p:cNvPr id="824" name=""/>
              <p:cNvSpPr/>
              <p:nvPr/>
            </p:nvSpPr>
            <p:spPr>
              <a:xfrm>
                <a:off x="4298760" y="291564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378320" y="291564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192200" y="298116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84080" y="298260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3776400" y="3055320"/>
              <a:ext cx="294480" cy="146520"/>
              <a:chOff x="3776400" y="3055320"/>
              <a:chExt cx="294480" cy="146520"/>
            </a:xfrm>
          </p:grpSpPr>
          <p:sp>
            <p:nvSpPr>
              <p:cNvPr id="829" name=""/>
              <p:cNvSpPr/>
              <p:nvPr/>
            </p:nvSpPr>
            <p:spPr>
              <a:xfrm rot="5279400">
                <a:off x="3831120" y="3061080"/>
                <a:ext cx="141840" cy="13464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972960" y="3132000"/>
                <a:ext cx="97920" cy="360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776400" y="3133800"/>
                <a:ext cx="58320" cy="360"/>
              </a:xfrm>
              <a:prstGeom prst="line">
                <a:avLst/>
              </a:prstGeom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3600720" y="3334680"/>
              <a:ext cx="119520" cy="167040"/>
              <a:chOff x="3600720" y="3334680"/>
              <a:chExt cx="119520" cy="167040"/>
            </a:xfrm>
          </p:grpSpPr>
          <p:sp>
            <p:nvSpPr>
              <p:cNvPr id="833" name=""/>
              <p:cNvSpPr/>
              <p:nvPr/>
            </p:nvSpPr>
            <p:spPr>
              <a:xfrm rot="10679400">
                <a:off x="3601800" y="33670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3654000" y="3446280"/>
                <a:ext cx="3600" cy="554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3655440" y="3334680"/>
                <a:ext cx="0" cy="327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3787560" y="3336480"/>
              <a:ext cx="104040" cy="151560"/>
              <a:chOff x="3787560" y="3336480"/>
              <a:chExt cx="104040" cy="15156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3787560" y="338328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787560" y="3422160"/>
                <a:ext cx="104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839760" y="3336480"/>
                <a:ext cx="0" cy="53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838320" y="3434760"/>
                <a:ext cx="0" cy="5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3400560" y="3566160"/>
              <a:ext cx="302040" cy="130320"/>
              <a:chOff x="3400560" y="3566160"/>
              <a:chExt cx="302040" cy="130320"/>
            </a:xfrm>
          </p:grpSpPr>
          <p:sp>
            <p:nvSpPr>
              <p:cNvPr id="842" name=""/>
              <p:cNvSpPr/>
              <p:nvPr/>
            </p:nvSpPr>
            <p:spPr>
              <a:xfrm>
                <a:off x="3506760" y="356616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586320" y="356616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400560" y="363168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92080" y="363312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3377160" y="3920760"/>
              <a:ext cx="268920" cy="122400"/>
            </a:xfrm>
            <a:prstGeom prst="rect">
              <a:avLst/>
            </a:prstGeom>
            <a:noFill/>
            <a:ln w="158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3392640" y="3773160"/>
              <a:ext cx="303840" cy="84600"/>
              <a:chOff x="3392640" y="3773160"/>
              <a:chExt cx="303840" cy="84600"/>
            </a:xfrm>
          </p:grpSpPr>
          <p:sp>
            <p:nvSpPr>
              <p:cNvPr id="848" name=""/>
              <p:cNvSpPr/>
              <p:nvPr/>
            </p:nvSpPr>
            <p:spPr>
              <a:xfrm>
                <a:off x="3470760" y="3773160"/>
                <a:ext cx="147960" cy="84600"/>
              </a:xfrm>
              <a:prstGeom prst="rect">
                <a:avLst/>
              </a:prstGeom>
              <a:noFill/>
              <a:ln w="158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505680" y="3803760"/>
                <a:ext cx="86760" cy="30600"/>
              </a:xfrm>
              <a:prstGeom prst="rect">
                <a:avLst/>
              </a:prstGeom>
              <a:noFill/>
              <a:ln w="158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3609720" y="3803760"/>
                <a:ext cx="86760" cy="7920"/>
              </a:xfrm>
              <a:prstGeom prst="line">
                <a:avLst/>
              </a:prstGeom>
              <a:ln w="158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3392640" y="3810960"/>
                <a:ext cx="69840" cy="7920"/>
              </a:xfrm>
              <a:prstGeom prst="line">
                <a:avLst/>
              </a:prstGeom>
              <a:ln w="158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2939040" y="2403000"/>
              <a:ext cx="172440" cy="91440"/>
              <a:chOff x="2939040" y="2403000"/>
              <a:chExt cx="172440" cy="91440"/>
            </a:xfrm>
          </p:grpSpPr>
          <p:sp>
            <p:nvSpPr>
              <p:cNvPr id="853" name=""/>
              <p:cNvSpPr/>
              <p:nvPr/>
            </p:nvSpPr>
            <p:spPr>
              <a:xfrm>
                <a:off x="2992320" y="2403000"/>
                <a:ext cx="0" cy="9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036240" y="2403000"/>
                <a:ext cx="0" cy="9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939040" y="2448360"/>
                <a:ext cx="61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50640" y="2449800"/>
                <a:ext cx="608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2745360" y="3376440"/>
              <a:ext cx="268920" cy="122400"/>
            </a:xfrm>
            <a:prstGeom prst="rect">
              <a:avLst/>
            </a:prstGeom>
            <a:noFill/>
            <a:ln w="158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644720" y="2770200"/>
              <a:ext cx="528480" cy="321840"/>
              <a:chOff x="4644720" y="2770200"/>
              <a:chExt cx="528480" cy="321840"/>
            </a:xfrm>
          </p:grpSpPr>
          <p:sp>
            <p:nvSpPr>
              <p:cNvPr id="859" name=""/>
              <p:cNvSpPr/>
              <p:nvPr/>
            </p:nvSpPr>
            <p:spPr>
              <a:xfrm>
                <a:off x="4830840" y="2770200"/>
                <a:ext cx="0" cy="3218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969440" y="2770200"/>
                <a:ext cx="0" cy="3218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644720" y="2932200"/>
                <a:ext cx="1933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979880" y="2935800"/>
                <a:ext cx="1933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5001840" y="2219040"/>
              <a:ext cx="302400" cy="130320"/>
              <a:chOff x="5001840" y="2219040"/>
              <a:chExt cx="302400" cy="130320"/>
            </a:xfrm>
          </p:grpSpPr>
          <p:sp>
            <p:nvSpPr>
              <p:cNvPr id="864" name=""/>
              <p:cNvSpPr/>
              <p:nvPr/>
            </p:nvSpPr>
            <p:spPr>
              <a:xfrm>
                <a:off x="5108400" y="221904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187960" y="2219040"/>
                <a:ext cx="0" cy="1303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001840" y="228456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193720" y="2286000"/>
                <a:ext cx="1105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4105440" y="2524320"/>
              <a:ext cx="234720" cy="312840"/>
              <a:chOff x="4105440" y="2524320"/>
              <a:chExt cx="234720" cy="312840"/>
            </a:xfrm>
          </p:grpSpPr>
          <p:sp>
            <p:nvSpPr>
              <p:cNvPr id="869" name=""/>
              <p:cNvSpPr/>
              <p:nvPr/>
            </p:nvSpPr>
            <p:spPr>
              <a:xfrm flipH="1">
                <a:off x="4105440" y="2634480"/>
                <a:ext cx="2347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4105440" y="2716920"/>
                <a:ext cx="2347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221720" y="2524320"/>
                <a:ext cx="0" cy="114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219560" y="2722680"/>
                <a:ext cx="0" cy="114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5504040" y="3805200"/>
              <a:ext cx="355680" cy="206280"/>
              <a:chOff x="5504040" y="3805200"/>
              <a:chExt cx="355680" cy="206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629320" y="3805200"/>
                <a:ext cx="0" cy="206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722920" y="3805200"/>
                <a:ext cx="0" cy="206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504040" y="3909240"/>
                <a:ext cx="1299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729760" y="3911400"/>
                <a:ext cx="1299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2498400" y="2534760"/>
              <a:ext cx="268920" cy="122040"/>
            </a:xfrm>
            <a:prstGeom prst="rect">
              <a:avLst/>
            </a:prstGeom>
            <a:noFill/>
            <a:ln w="158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3774960" y="3701880"/>
              <a:ext cx="119520" cy="167040"/>
              <a:chOff x="3774960" y="3701880"/>
              <a:chExt cx="119520" cy="167040"/>
            </a:xfrm>
          </p:grpSpPr>
          <p:sp>
            <p:nvSpPr>
              <p:cNvPr id="880" name=""/>
              <p:cNvSpPr/>
              <p:nvPr/>
            </p:nvSpPr>
            <p:spPr>
              <a:xfrm rot="10679400">
                <a:off x="3776040" y="3734280"/>
                <a:ext cx="117000" cy="7596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828240" y="3813480"/>
                <a:ext cx="3600" cy="5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3829680" y="3701880"/>
                <a:ext cx="0" cy="32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3531960" y="4332240"/>
              <a:ext cx="262440" cy="328320"/>
              <a:chOff x="3531960" y="4332240"/>
              <a:chExt cx="262440" cy="32832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3559320" y="4332240"/>
                <a:ext cx="181440" cy="328320"/>
                <a:chOff x="3559320" y="4332240"/>
                <a:chExt cx="181440" cy="328320"/>
              </a:xfrm>
            </p:grpSpPr>
            <p:sp>
              <p:nvSpPr>
                <p:cNvPr id="885" name=""/>
                <p:cNvSpPr/>
                <p:nvPr/>
              </p:nvSpPr>
              <p:spPr>
                <a:xfrm rot="10679400">
                  <a:off x="3561480" y="4397400"/>
                  <a:ext cx="176400" cy="150480"/>
                </a:xfrm>
                <a:custGeom>
                  <a:avLst/>
                  <a:gdLst/>
                  <a:ahLst/>
                  <a:rect l="l" t="t" r="r" b="b"/>
                  <a:pathLst>
                    <a:path w="161" h="152">
                      <a:moveTo>
                        <a:pt x="80" y="0"/>
                      </a:moveTo>
                      <a:lnTo>
                        <a:pt x="160" y="21"/>
                      </a:lnTo>
                      <a:lnTo>
                        <a:pt x="0" y="43"/>
                      </a:lnTo>
                      <a:lnTo>
                        <a:pt x="161" y="65"/>
                      </a:lnTo>
                      <a:lnTo>
                        <a:pt x="0" y="87"/>
                      </a:lnTo>
                      <a:lnTo>
                        <a:pt x="160" y="109"/>
                      </a:lnTo>
                      <a:lnTo>
                        <a:pt x="0" y="131"/>
                      </a:lnTo>
                      <a:lnTo>
                        <a:pt x="80" y="152"/>
                      </a:ln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3641040" y="4551480"/>
                  <a:ext cx="5400" cy="1090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3642840" y="4332240"/>
                  <a:ext cx="360" cy="65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 flipV="1">
                <a:off x="3531960" y="4339800"/>
                <a:ext cx="262440" cy="29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2729880" y="3612960"/>
              <a:ext cx="528480" cy="321840"/>
              <a:chOff x="2729880" y="3612960"/>
              <a:chExt cx="528480" cy="321840"/>
            </a:xfrm>
          </p:grpSpPr>
          <p:sp>
            <p:nvSpPr>
              <p:cNvPr id="890" name=""/>
              <p:cNvSpPr/>
              <p:nvPr/>
            </p:nvSpPr>
            <p:spPr>
              <a:xfrm>
                <a:off x="2916000" y="3612960"/>
                <a:ext cx="0" cy="3218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054600" y="3612960"/>
                <a:ext cx="0" cy="3218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729880" y="3774960"/>
                <a:ext cx="1933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065040" y="3778560"/>
                <a:ext cx="1933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2439720" y="3526200"/>
              <a:ext cx="176040" cy="449280"/>
              <a:chOff x="2439720" y="3526200"/>
              <a:chExt cx="176040" cy="449280"/>
            </a:xfrm>
          </p:grpSpPr>
          <p:sp>
            <p:nvSpPr>
              <p:cNvPr id="895" name=""/>
              <p:cNvSpPr/>
              <p:nvPr/>
            </p:nvSpPr>
            <p:spPr>
              <a:xfrm rot="10679400">
                <a:off x="2443320" y="3615480"/>
                <a:ext cx="168840" cy="20592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19280" y="3826080"/>
                <a:ext cx="3600" cy="149400"/>
              </a:xfrm>
              <a:prstGeom prst="line">
                <a:avLst/>
              </a:prstGeom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flipV="1">
                <a:off x="2520720" y="3526200"/>
                <a:ext cx="360" cy="89280"/>
              </a:xfrm>
              <a:prstGeom prst="line">
                <a:avLst/>
              </a:prstGeom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1685880" y="2892600"/>
              <a:ext cx="383400" cy="23760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08280" y="3132720"/>
              <a:ext cx="120600" cy="9144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808280" y="2800080"/>
              <a:ext cx="120600" cy="9108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731000" y="237096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ff"/>
                  </a:solidFill>
                  <a:latin typeface="Times New Roman"/>
                </a:rPr>
                <a:t>Ｄ２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81680" y="43232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ff"/>
                  </a:solidFill>
                  <a:latin typeface="Times New Roman"/>
                </a:rPr>
                <a:t>Ｄ４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85640" y="46342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ff"/>
                  </a:solidFill>
                  <a:latin typeface="Times New Roman"/>
                </a:rPr>
                <a:t>Ｄ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20200" y="566496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ff"/>
                  </a:solidFill>
                  <a:latin typeface="Times New Roman"/>
                </a:rPr>
                <a:t>Ｄ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009240" y="57333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ff"/>
                  </a:solidFill>
                  <a:latin typeface="Times New Roman"/>
                </a:rPr>
                <a:t>Ｄ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989480" y="263556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464240" y="306864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539480" y="256896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60360" y="378360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90080" y="57859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037640" y="58708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68960" y="52120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99560" y="51364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010360" y="5420160"/>
              <a:ext cx="1166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1560" y="22672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89840" y="229572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4400" y="25873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6862320" y="2783880"/>
              <a:ext cx="172080" cy="91440"/>
              <a:chOff x="6862320" y="2783880"/>
              <a:chExt cx="172080" cy="91440"/>
            </a:xfrm>
          </p:grpSpPr>
          <p:sp>
            <p:nvSpPr>
              <p:cNvPr id="919" name=""/>
              <p:cNvSpPr/>
              <p:nvPr/>
            </p:nvSpPr>
            <p:spPr>
              <a:xfrm>
                <a:off x="6915240" y="2783880"/>
                <a:ext cx="0" cy="9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959520" y="2783880"/>
                <a:ext cx="0" cy="9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62320" y="2829240"/>
                <a:ext cx="608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973920" y="2830680"/>
                <a:ext cx="6048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7144560" y="27655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68960" y="31705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53800" y="328392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971400" y="29804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21760" y="298980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58040" y="27734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cc33"/>
                  </a:solidFill>
                  <a:latin typeface="Times New Roman"/>
                </a:rPr>
                <a:t>１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23200" y="594720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53760" y="22096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79360" y="26704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124240" y="24166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136120" y="26146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59000" y="2747160"/>
              <a:ext cx="188640" cy="105840"/>
              <a:chOff x="5859000" y="2747160"/>
              <a:chExt cx="188640" cy="105840"/>
            </a:xfrm>
          </p:grpSpPr>
          <p:sp>
            <p:nvSpPr>
              <p:cNvPr id="935" name=""/>
              <p:cNvSpPr/>
              <p:nvPr/>
            </p:nvSpPr>
            <p:spPr>
              <a:xfrm rot="5279400">
                <a:off x="5888160" y="2756880"/>
                <a:ext cx="102960" cy="864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80" y="0"/>
                    </a:moveTo>
                    <a:lnTo>
                      <a:pt x="160" y="21"/>
                    </a:lnTo>
                    <a:lnTo>
                      <a:pt x="0" y="43"/>
                    </a:lnTo>
                    <a:lnTo>
                      <a:pt x="161" y="65"/>
                    </a:lnTo>
                    <a:lnTo>
                      <a:pt x="0" y="87"/>
                    </a:lnTo>
                    <a:lnTo>
                      <a:pt x="160" y="109"/>
                    </a:lnTo>
                    <a:lnTo>
                      <a:pt x="0" y="131"/>
                    </a:lnTo>
                    <a:lnTo>
                      <a:pt x="80" y="152"/>
                    </a:lnTo>
                  </a:path>
                </a:pathLst>
              </a:custGeom>
              <a:noFill/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984640" y="2802600"/>
                <a:ext cx="63000" cy="288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5859000" y="2804400"/>
                <a:ext cx="37440" cy="0"/>
              </a:xfrm>
              <a:prstGeom prst="line">
                <a:avLst/>
              </a:prstGeom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6085080" y="28022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59840" y="47977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19680" y="45532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051240" y="43552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077440" y="45806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ff"/>
                  </a:solidFill>
                  <a:latin typeface="Times New Roman"/>
                </a:rPr>
                <a:t>２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57920" y="4947840"/>
              <a:ext cx="1166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04400" y="41950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38000" y="44204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11800" y="51548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55000" y="53614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29400" y="52772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540680" y="26146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203800" y="61988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67760" y="62272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89480" y="28774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9900"/>
                  </a:solidFill>
                  <a:latin typeface="Times New Roman"/>
                </a:rPr>
                <a:t>３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476960" y="55972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40080" y="54842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94200" y="512604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84960" y="405360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830480" y="39686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65920" y="3968640"/>
              <a:ext cx="1166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54640" y="370476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14160" y="329040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81760" y="34963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785640" y="37216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99"/>
                  </a:solidFill>
                  <a:latin typeface="Times New Roman"/>
                </a:rPr>
                <a:t>４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91960" y="313848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69400" y="3485880"/>
              <a:ext cx="1166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76560" y="48790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88440" y="51616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756040" y="53866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788440" y="55285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73640" y="58773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45320" y="402372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27480" y="402372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53920" y="32230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cc00"/>
                  </a:solidFill>
                  <a:latin typeface="Times New Roman"/>
                </a:rPr>
                <a:t>５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15960" y="4709880"/>
              <a:ext cx="11664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745080" y="47854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509640" y="50392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2520" y="519012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57440" y="61498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19920" y="428544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89600" y="44456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54400" y="308124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86920" y="61768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59480" y="27622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ff"/>
                  </a:solidFill>
                  <a:latin typeface="Times New Roman"/>
                </a:rPr>
                <a:t>６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36600" y="26341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59600" y="60753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40800" y="58978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97720" y="193428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0560" y="281016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564360" y="27907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99800" y="4032720"/>
              <a:ext cx="1166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06360" y="36748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65560" y="47854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06320" y="44560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99cc00"/>
                  </a:solidFill>
                  <a:latin typeface="Times New Roman"/>
                </a:rPr>
                <a:t>７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58280" y="2719800"/>
              <a:ext cx="1494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55960" y="202320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63720" y="202320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86920" y="498780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63960" y="3989520"/>
              <a:ext cx="1494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18800" y="461016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97320" y="3049200"/>
              <a:ext cx="1494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842360" y="261684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24160" y="2080800"/>
              <a:ext cx="1494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84200" y="608688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941000" y="377064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385880" y="363924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037480" y="344160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088400" y="4620600"/>
              <a:ext cx="1494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6223680" y="5608800"/>
              <a:ext cx="147960" cy="265680"/>
              <a:chOff x="6223680" y="5608800"/>
              <a:chExt cx="147960" cy="265680"/>
            </a:xfrm>
          </p:grpSpPr>
          <p:sp>
            <p:nvSpPr>
              <p:cNvPr id="1008" name=""/>
              <p:cNvSpPr/>
              <p:nvPr/>
            </p:nvSpPr>
            <p:spPr>
              <a:xfrm flipH="1">
                <a:off x="6223680" y="5702400"/>
                <a:ext cx="1479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6223680" y="5772240"/>
                <a:ext cx="1479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297120" y="5608800"/>
                <a:ext cx="0" cy="9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295680" y="5777280"/>
                <a:ext cx="0" cy="9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6446520" y="5692320"/>
              <a:ext cx="1494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４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62520" y="5675040"/>
              <a:ext cx="1494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51240" y="615420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62000" y="3218760"/>
              <a:ext cx="1494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40280" y="239976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161520" y="358560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１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11760" y="228744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２０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108240" y="599508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２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15640" y="396288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２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37040" y="370692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cc3300"/>
                  </a:solidFill>
                  <a:latin typeface="Times New Roman"/>
                </a:rPr>
                <a:t>メルフ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06960" y="3687480"/>
              <a:ext cx="117000" cy="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cc3300"/>
                  </a:solidFill>
                  <a:latin typeface="Times New Roman"/>
                </a:rPr>
                <a:t>ＴＨ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21600" y="6220440"/>
              <a:ext cx="149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ff00"/>
                  </a:solidFill>
                  <a:latin typeface="Times New Roman"/>
                </a:rPr>
                <a:t>Ｃ２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59960" y="5499000"/>
              <a:ext cx="173880" cy="1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Times New Roman"/>
                </a:rPr>
                <a:t>Ｖ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658880" y="4913640"/>
              <a:ext cx="2764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ff"/>
                  </a:solidFill>
                  <a:latin typeface="Times New Roman"/>
                </a:rPr>
                <a:t>ＧＮ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31520" y="5185440"/>
              <a:ext cx="276480" cy="1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ＯＵＴ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621600" y="4194000"/>
              <a:ext cx="117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0000"/>
                  </a:solidFill>
                  <a:latin typeface="Times New Roman"/>
                </a:rPr>
                <a:t>トリムＲ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67440" y="2692440"/>
              <a:ext cx="565200" cy="671400"/>
            </a:xfrm>
            <a:prstGeom prst="rect">
              <a:avLst/>
            </a:prstGeom>
            <a:noFill/>
            <a:ln w="158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71600" y="5870880"/>
              <a:ext cx="851400" cy="2433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imes New Roman"/>
                </a:rPr>
                <a:t>Ｍ１８Ｎ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53352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of CONTRINEX 700 series (exa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62120" y="8380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a lot of electronic compon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219320" y="1295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NEX is going to make own AS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"/>
          <p:cNvGraphicFramePr/>
          <p:nvPr/>
        </p:nvGraphicFramePr>
        <p:xfrm>
          <a:off x="0" y="1295280"/>
          <a:ext cx="513396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51339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"/>
          <p:cNvGraphicFramePr/>
          <p:nvPr/>
        </p:nvGraphicFramePr>
        <p:xfrm>
          <a:off x="5257800" y="990720"/>
          <a:ext cx="3886200" cy="32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990720"/>
                    <a:ext cx="388620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"/>
          <p:cNvSpPr/>
          <p:nvPr/>
        </p:nvSpPr>
        <p:spPr>
          <a:xfrm>
            <a:off x="2971800" y="2209680"/>
            <a:ext cx="1219320" cy="1143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85800" y="1676520"/>
            <a:ext cx="2362320" cy="3124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200400" y="1066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1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85800" y="1066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Factor 1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52680" y="1371600"/>
            <a:ext cx="76320" cy="838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14400" y="1371600"/>
            <a:ext cx="76320" cy="838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1219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INEX 700 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5715000" y="4343400"/>
            <a:ext cx="2400480" cy="251460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>
            <a:off x="662940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95880" y="2057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80880" y="15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ng distance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609480"/>
            <a:ext cx="78487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series does not suite for thin or small target de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9" name=""/>
          <p:cNvGraphicFramePr/>
          <p:nvPr/>
        </p:nvGraphicFramePr>
        <p:xfrm>
          <a:off x="1111320" y="1600200"/>
          <a:ext cx="69231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1600200"/>
                    <a:ext cx="6923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1" name=""/>
          <p:cNvSpPr/>
          <p:nvPr/>
        </p:nvSpPr>
        <p:spPr>
          <a:xfrm>
            <a:off x="304920" y="762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ng distance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05120" y="5486400"/>
            <a:ext cx="56386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not Factor 1 by 1mm thickness tar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3" name=""/>
          <p:cNvGraphicFramePr/>
          <p:nvPr/>
        </p:nvGraphicFramePr>
        <p:xfrm>
          <a:off x="0" y="1371600"/>
          <a:ext cx="8839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839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"/>
          <p:cNvSpPr/>
          <p:nvPr/>
        </p:nvSpPr>
        <p:spPr>
          <a:xfrm>
            <a:off x="53352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r noise imm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14400" y="838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r noise immunity test is OMRON own defined test came from longer experience of Prox business. (see next 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38080" y="5867280"/>
            <a:ext cx="8001000" cy="3988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INEX 700 series has lower common mode noise immun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r Noise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Inverter No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238880" y="2514600"/>
            <a:ext cx="5335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9920" y="2819520"/>
            <a:ext cx="533160" cy="533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09588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772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7724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7724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5530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55308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477120" y="3276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8672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0866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er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90920" y="2819520"/>
            <a:ext cx="6858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819520" y="2590920"/>
            <a:ext cx="228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70240" y="2441520"/>
            <a:ext cx="411120" cy="463680"/>
          </a:xfrm>
          <a:custGeom>
            <a:avLst/>
            <a:gdLst/>
            <a:ahLst/>
            <a:rect l="l" t="t" r="r" b="b"/>
            <a:pathLst>
              <a:path w="259" h="292">
                <a:moveTo>
                  <a:pt x="0" y="292"/>
                </a:moveTo>
                <a:cubicBezTo>
                  <a:pt x="71" y="264"/>
                  <a:pt x="109" y="261"/>
                  <a:pt x="150" y="200"/>
                </a:cubicBezTo>
                <a:cubicBezTo>
                  <a:pt x="165" y="154"/>
                  <a:pt x="170" y="102"/>
                  <a:pt x="192" y="59"/>
                </a:cubicBezTo>
                <a:cubicBezTo>
                  <a:pt x="197" y="50"/>
                  <a:pt x="201" y="40"/>
                  <a:pt x="209" y="33"/>
                </a:cubicBezTo>
                <a:cubicBezTo>
                  <a:pt x="224" y="20"/>
                  <a:pt x="259" y="0"/>
                  <a:pt x="259" y="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6668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3352680"/>
            <a:ext cx="5791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2895480"/>
            <a:ext cx="3429000" cy="838440"/>
          </a:xfrm>
          <a:custGeom>
            <a:avLst/>
            <a:gdLst/>
            <a:ahLst/>
            <a:rect l="l" t="t" r="r" b="b"/>
            <a:pathLst>
              <a:path w="2160" h="528">
                <a:moveTo>
                  <a:pt x="2160" y="528"/>
                </a:moveTo>
                <a:lnTo>
                  <a:pt x="144" y="528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48320" y="350532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391520" y="281952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24280" y="243828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276720" y="2666880"/>
            <a:ext cx="1981080" cy="381240"/>
          </a:xfrm>
          <a:custGeom>
            <a:avLst/>
            <a:gdLst/>
            <a:ahLst/>
            <a:rect l="l" t="t" r="r" b="b"/>
            <a:pathLst>
              <a:path w="1248" h="240">
                <a:moveTo>
                  <a:pt x="1248" y="0"/>
                </a:moveTo>
                <a:lnTo>
                  <a:pt x="672" y="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48320" y="2133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0060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480" y="510552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514600" y="4952880"/>
            <a:ext cx="2514600" cy="685800"/>
          </a:xfrm>
          <a:custGeom>
            <a:avLst/>
            <a:gdLst/>
            <a:ahLst/>
            <a:rect l="l" t="t" r="r" b="b"/>
            <a:pathLst>
              <a:path w="1584" h="432">
                <a:moveTo>
                  <a:pt x="0" y="432"/>
                </a:moveTo>
                <a:lnTo>
                  <a:pt x="288" y="432"/>
                </a:lnTo>
                <a:lnTo>
                  <a:pt x="288" y="0"/>
                </a:lnTo>
                <a:lnTo>
                  <a:pt x="624" y="0"/>
                </a:lnTo>
                <a:lnTo>
                  <a:pt x="624" y="432"/>
                </a:lnTo>
                <a:lnTo>
                  <a:pt x="960" y="432"/>
                </a:lnTo>
                <a:lnTo>
                  <a:pt x="960" y="0"/>
                </a:lnTo>
                <a:lnTo>
                  <a:pt x="1296" y="0"/>
                </a:lnTo>
                <a:lnTo>
                  <a:pt x="1296" y="432"/>
                </a:lnTo>
                <a:lnTo>
                  <a:pt x="1584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66680" y="510552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08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57400" y="13716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 from inverter driver or mo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57400" y="16002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one of the common mode no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320" y="4419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RON defined the test method for Inverter noise i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676520" y="5181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486400" y="5028840"/>
            <a:ext cx="3753000" cy="1581480"/>
            <a:chOff x="5486400" y="5028840"/>
            <a:chExt cx="3753000" cy="1581480"/>
          </a:xfrm>
        </p:grpSpPr>
        <p:sp>
          <p:nvSpPr>
            <p:cNvPr id="1093" name=""/>
            <p:cNvSpPr/>
            <p:nvPr/>
          </p:nvSpPr>
          <p:spPr>
            <a:xfrm>
              <a:off x="5505480" y="5514840"/>
              <a:ext cx="54288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82040" y="5800680"/>
              <a:ext cx="49536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743960" y="5791320"/>
              <a:ext cx="5526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48360" y="5648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467840" y="52768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19960" y="5267160"/>
              <a:ext cx="8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15200" y="52196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467840" y="502884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724800" y="5362560"/>
              <a:ext cx="104760" cy="2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39000" y="5219640"/>
              <a:ext cx="733320" cy="38124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0" y="40"/>
                  </a:moveTo>
                  <a:lnTo>
                    <a:pt x="28" y="40"/>
                  </a:lnTo>
                  <a:lnTo>
                    <a:pt x="28" y="0"/>
                  </a:lnTo>
                  <a:lnTo>
                    <a:pt x="62" y="0"/>
                  </a:lnTo>
                  <a:lnTo>
                    <a:pt x="62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48360" y="5029200"/>
              <a:ext cx="1419480" cy="533520"/>
            </a:xfrm>
            <a:custGeom>
              <a:avLst/>
              <a:gdLst/>
              <a:ahLst/>
              <a:rect l="l" t="t" r="r" b="b"/>
              <a:pathLst>
                <a:path w="134" h="56">
                  <a:moveTo>
                    <a:pt x="0" y="56"/>
                  </a:moveTo>
                  <a:lnTo>
                    <a:pt x="17" y="56"/>
                  </a:lnTo>
                  <a:lnTo>
                    <a:pt x="17" y="0"/>
                  </a:lnTo>
                  <a:lnTo>
                    <a:pt x="1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782040" y="5572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77400" y="590544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77400" y="61056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00680" y="5600880"/>
              <a:ext cx="981360" cy="50472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88" y="53"/>
                  </a:move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496200" y="5657760"/>
              <a:ext cx="285840" cy="2574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30" y="27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77360" y="6257880"/>
              <a:ext cx="15620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unction gener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58000" y="623880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m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86400" y="5305320"/>
              <a:ext cx="6955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48640" y="5305320"/>
              <a:ext cx="6285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x 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667640" y="5133960"/>
              <a:ext cx="6858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24V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175248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ed by square wave nois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90920" y="6019920"/>
            <a:ext cx="281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kHz to 30kHz : 60V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kHz to 100kHz : 40V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943600" y="1066680"/>
            <a:ext cx="2438280" cy="685800"/>
          </a:xfrm>
          <a:prstGeom prst="wedgeRectCallout">
            <a:avLst>
              <a:gd name="adj1" fmla="val -1953"/>
              <a:gd name="adj2" fmla="val 143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vel of noise is depend on operation frequency of inver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057400" y="2590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82880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3124080"/>
            <a:ext cx="1981080" cy="990720"/>
          </a:xfrm>
          <a:prstGeom prst="wedgeRectCallout">
            <a:avLst>
              <a:gd name="adj1" fmla="val 84694"/>
              <a:gd name="adj2" fmla="val -66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luence of Inverter noise is depend on a structure of circuit and noise shiel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1" name=""/>
          <p:cNvGraphicFramePr/>
          <p:nvPr/>
        </p:nvGraphicFramePr>
        <p:xfrm>
          <a:off x="477720" y="2085840"/>
          <a:ext cx="81900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85840"/>
                    <a:ext cx="81900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3" name=""/>
          <p:cNvSpPr/>
          <p:nvPr/>
        </p:nvSpPr>
        <p:spPr>
          <a:xfrm>
            <a:off x="2819520" y="24908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W-AD-703-M18 (M18Shiel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0880" y="3049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e of ambient tempera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7200" y="762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M18 Shielded have bigger influence from ambient temperature chan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3520" y="12193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from OMRON experience, M18 shielded type has difficulty for longer dist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1:20:11Z</dcterms:created>
  <dc:creator>NHA0019E</dc:creator>
  <dc:description/>
  <dc:language>en-US</dc:language>
  <cp:lastModifiedBy>NHA0019E</cp:lastModifiedBy>
  <dcterms:modified xsi:type="dcterms:W3CDTF">2005-08-23T11:32:04Z</dcterms:modified>
  <cp:revision>12</cp:revision>
  <dc:subject/>
  <dc:title>PowerPoint プレゼンテーション</dc:title>
</cp:coreProperties>
</file>