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35E-C125-48B3-BBDA-92024853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169-B3AC-4557-AB90-E5E0E3E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13C-6FC9-446F-850C-402A91D3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115-B9CE-43CC-9C61-497F1550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483-1BFE-4D86-814B-3781004E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6DD-9EAF-4E94-988E-AC7F063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B20-F7D8-4DBF-AE42-74F7AA4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C4E-87A0-4794-8903-0070D9AE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656-32CD-4FB4-B4D6-942A872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61C-EB0D-4AE5-9A80-B8CBD74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55A-AAEC-487D-95B9-E310612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548-2A61-43CA-AC3D-464EBA1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B04-83F4-4C19-A459-1AD51BAE15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36840" y="131436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362320"/>
            <a:ext cx="70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have small tolerance for sensing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with competitor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3280" y="39225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r = Sn ±10%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t 23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70080" y="2209680"/>
            <a:ext cx="3657600" cy="2743200"/>
          </a:xfrm>
          <a:custGeom>
            <a:avLst/>
            <a:gdLst/>
            <a:ahLst/>
            <a:rect l="l" t="t" r="r" b="b"/>
            <a:pathLst>
              <a:path w="3216" h="1728">
                <a:moveTo>
                  <a:pt x="0" y="1728"/>
                </a:moveTo>
                <a:cubicBezTo>
                  <a:pt x="276" y="1584"/>
                  <a:pt x="552" y="1440"/>
                  <a:pt x="816" y="1152"/>
                </a:cubicBezTo>
                <a:cubicBezTo>
                  <a:pt x="1080" y="864"/>
                  <a:pt x="1320" y="0"/>
                  <a:pt x="1584" y="0"/>
                </a:cubicBezTo>
                <a:cubicBezTo>
                  <a:pt x="1848" y="0"/>
                  <a:pt x="2128" y="864"/>
                  <a:pt x="2400" y="1152"/>
                </a:cubicBezTo>
                <a:cubicBezTo>
                  <a:pt x="2672" y="1440"/>
                  <a:pt x="2944" y="1584"/>
                  <a:pt x="3216" y="172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68520" y="2170080"/>
            <a:ext cx="2448000" cy="2743200"/>
          </a:xfrm>
          <a:custGeom>
            <a:avLst/>
            <a:gdLst/>
            <a:ahLst/>
            <a:rect l="l" t="t" r="r" b="b"/>
            <a:pathLst>
              <a:path w="3216" h="1728">
                <a:moveTo>
                  <a:pt x="0" y="1728"/>
                </a:moveTo>
                <a:cubicBezTo>
                  <a:pt x="276" y="1584"/>
                  <a:pt x="552" y="1440"/>
                  <a:pt x="816" y="1152"/>
                </a:cubicBezTo>
                <a:cubicBezTo>
                  <a:pt x="1080" y="864"/>
                  <a:pt x="1320" y="0"/>
                  <a:pt x="1584" y="0"/>
                </a:cubicBezTo>
                <a:cubicBezTo>
                  <a:pt x="1848" y="0"/>
                  <a:pt x="2128" y="864"/>
                  <a:pt x="2400" y="1152"/>
                </a:cubicBezTo>
                <a:cubicBezTo>
                  <a:pt x="2672" y="1440"/>
                  <a:pt x="2944" y="1584"/>
                  <a:pt x="3216" y="17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57200"/>
            <a:ext cx="2438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4080" y="49528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645000" y="1676160"/>
            <a:ext cx="0" cy="3276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0440" y="492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5800" y="4954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05400" y="4913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992240" y="4787640"/>
            <a:ext cx="0" cy="16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38760" y="4771800"/>
            <a:ext cx="0" cy="16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800" y="1890720"/>
            <a:ext cx="1467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5194"/>
              <a:gd name="adj5" fmla="val 194009"/>
              <a:gd name="adj6" fmla="val 158657"/>
            </a:avLst>
          </a:prstGeom>
          <a:noFill/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or’s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5280" y="1822320"/>
            <a:ext cx="1467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194"/>
              <a:gd name="adj5" fmla="val 262500"/>
              <a:gd name="adj6" fmla="val -46212"/>
            </a:avLst>
          </a:prstGeom>
          <a:noFill/>
          <a:ln w="38160">
            <a:solidFill>
              <a:srgbClr val="33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RON 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43800" y="4724280"/>
            <a:ext cx="192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ensing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90840" y="132408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48400" y="10764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48400" y="16002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27800" y="1035000"/>
            <a:ext cx="2514600" cy="103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35800" y="2124000"/>
            <a:ext cx="403200" cy="498600"/>
          </a:xfrm>
          <a:prstGeom prst="downArrow">
            <a:avLst>
              <a:gd name="adj1" fmla="val 50000"/>
              <a:gd name="adj2" fmla="val 30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5200" y="2647800"/>
            <a:ext cx="2514600" cy="103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16200"/>
            <a:ext cx="23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ccuracy adjustment of sensing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90800" y="5472000"/>
            <a:ext cx="37638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19200" y="5607000"/>
            <a:ext cx="31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2A assures this ran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6600" y="59691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±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208400"/>
            <a:ext cx="9144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840" y="3462480"/>
            <a:ext cx="14252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6282"/>
              <a:gd name="adj5" fmla="val 122398"/>
              <a:gd name="adj6" fmla="val 147662"/>
            </a:avLst>
          </a:prstGeom>
          <a:noFill/>
          <a:ln w="255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7000" y="5594400"/>
            <a:ext cx="3537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.g. M18 shielded 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FM  IGS208  Sr=6.7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2A               Sr= min7.2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8:54:59Z</dcterms:created>
  <dc:creator>tankaz</dc:creator>
  <dc:description/>
  <dc:language>en-US</dc:language>
  <cp:lastModifiedBy>tankaz</cp:lastModifiedBy>
  <dcterms:modified xsi:type="dcterms:W3CDTF">2003-03-14T14:41:07Z</dcterms:modified>
  <cp:revision>2</cp:revision>
  <dc:subject/>
  <dc:title>PowerPoint プレゼンテーション</dc:title>
</cp:coreProperties>
</file>