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6C4-A904-44B6-8750-3E43D43B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32D-CBB9-4ABC-8078-26C3D3E5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019-9C61-40A7-AB47-B2044FFF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5C8-BC77-42C0-9E5E-012E574A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866-5844-434D-BB41-2A573C8E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1DE-EDC2-439B-985F-48C96AF5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BDA-92D4-4A43-97C4-22F3B204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2F5-3187-4B83-94EA-E84712C8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36B-2272-4FC6-B2E6-BF03ADBE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350-337F-4B5E-8E2C-87669E4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4A6-7C05-4882-B8F8-83A0082A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628-B84C-483B-A342-A48702C0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874B-FE6B-4494-9EBD-D0D287E883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Residual Voltag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95160" y="2335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2A has lower residual voltag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8960" y="3127320"/>
            <a:ext cx="63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DC3W type = 1.4V (at 200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88960" y="3732120"/>
            <a:ext cx="63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type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6V (at 200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14720" y="451152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tion in data sheet = 2.0V (at 200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84640" y="3209760"/>
          <a:ext cx="5476680" cy="34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4640" y="3209760"/>
                    <a:ext cx="54766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65400" y="5513400"/>
            <a:ext cx="1467000" cy="4428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218200"/>
            <a:ext cx="1708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11400" y="4505400"/>
            <a:ext cx="1467000" cy="442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76400" y="4249800"/>
            <a:ext cx="197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8720" y="520560"/>
            <a:ext cx="3957840" cy="237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08400" y="1492200"/>
            <a:ext cx="415800" cy="4032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836800" y="1735200"/>
            <a:ext cx="1828800" cy="133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0000" y="1398600"/>
            <a:ext cx="42228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is di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residual voltage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8 type does not have this diode from the fir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2-23T12:55:37Z</dcterms:modified>
  <cp:revision>9</cp:revision>
  <dc:subject/>
  <dc:title>PowerPoint プレゼンテーション</dc:title>
</cp:coreProperties>
</file>