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C6CC-75D1-4633-A8FA-6D6CC7090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BA64-AAC4-439B-B09A-BAD65B379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CBB6-CE4C-4DE7-BE34-0972A5F44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7695-7D41-41E2-AEBD-1A7DFDF28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245C-1605-4F2B-ACAB-0FD39BBC3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3A86-9DE3-49B4-94B0-E7DDB7483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9F7C-FF7A-49C1-8415-DE390AF60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4F8F-F7F1-49E8-838D-1EA35D6AE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2009-EE98-4A4B-8B8A-BB18BC47D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4C93-436A-4C67-8D24-D73CED659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9EDA-577F-42E1-9CDF-90488B536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E7A2-1A05-4C1D-B49E-8B4E551C2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08C3D-1941-4B70-9E6B-7BE6634256B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tual Interference Preven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236232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2A has Mutual Interference Prevention type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438280" y="3200400"/>
            <a:ext cx="51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ed “Different frequency typ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3733920"/>
            <a:ext cx="647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t frequency type” can be mount close to standard typ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477120" y="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Mar. 2005 OEE SenBU K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533520" y="762120"/>
            <a:ext cx="4047840" cy="3809880"/>
            <a:chOff x="533520" y="762120"/>
            <a:chExt cx="4047840" cy="3809880"/>
          </a:xfrm>
        </p:grpSpPr>
        <p:graphicFrame>
          <p:nvGraphicFramePr>
            <p:cNvPr id="47" name=""/>
            <p:cNvGraphicFramePr/>
            <p:nvPr/>
          </p:nvGraphicFramePr>
          <p:xfrm>
            <a:off x="2438280" y="762120"/>
            <a:ext cx="2143080" cy="3162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38280" y="762120"/>
                      <a:ext cx="2143080" cy="3162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9" name=""/>
            <p:cNvGraphicFramePr/>
            <p:nvPr/>
          </p:nvGraphicFramePr>
          <p:xfrm>
            <a:off x="533520" y="762120"/>
            <a:ext cx="2019240" cy="3085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33520" y="762120"/>
                      <a:ext cx="2019240" cy="308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1" name=""/>
            <p:cNvSpPr/>
            <p:nvPr/>
          </p:nvSpPr>
          <p:spPr>
            <a:xfrm>
              <a:off x="1676520" y="2362320"/>
              <a:ext cx="1600200" cy="220968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753000" y="771480"/>
            <a:ext cx="4047840" cy="3809880"/>
            <a:chOff x="3753000" y="771480"/>
            <a:chExt cx="4047840" cy="3809880"/>
          </a:xfrm>
        </p:grpSpPr>
        <p:graphicFrame>
          <p:nvGraphicFramePr>
            <p:cNvPr id="53" name=""/>
            <p:cNvGraphicFramePr/>
            <p:nvPr/>
          </p:nvGraphicFramePr>
          <p:xfrm>
            <a:off x="5657760" y="771480"/>
            <a:ext cx="2143080" cy="31622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54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657760" y="771480"/>
                      <a:ext cx="2143080" cy="3162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5" name=""/>
            <p:cNvGraphicFramePr/>
            <p:nvPr/>
          </p:nvGraphicFramePr>
          <p:xfrm>
            <a:off x="3753000" y="771480"/>
            <a:ext cx="2019240" cy="30859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56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3753000" y="771480"/>
                      <a:ext cx="2019240" cy="308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7" name=""/>
            <p:cNvSpPr/>
            <p:nvPr/>
          </p:nvSpPr>
          <p:spPr>
            <a:xfrm>
              <a:off x="4896000" y="2371680"/>
              <a:ext cx="1600200" cy="220968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2595600" y="187200"/>
            <a:ext cx="20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gnetic fl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3308040" y="565200"/>
            <a:ext cx="12600" cy="309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348000" y="550800"/>
            <a:ext cx="96840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32200" y="2959200"/>
            <a:ext cx="523800" cy="2057400"/>
          </a:xfrm>
          <a:prstGeom prst="downArrow">
            <a:avLst>
              <a:gd name="adj1" fmla="val 50000"/>
              <a:gd name="adj2" fmla="val 9819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427040" y="5041800"/>
            <a:ext cx="657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gnetic flux from each sensor have interfer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387440" y="6064200"/>
            <a:ext cx="775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in case of same oscillation frequenc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33640" y="5421240"/>
            <a:ext cx="524160" cy="779400"/>
          </a:xfrm>
          <a:prstGeom prst="downArrow">
            <a:avLst>
              <a:gd name="adj1" fmla="val 50000"/>
              <a:gd name="adj2" fmla="val 3717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46400" y="4572000"/>
            <a:ext cx="220680" cy="484200"/>
          </a:xfrm>
          <a:custGeom>
            <a:avLst/>
            <a:gdLst/>
            <a:ahLst/>
            <a:rect l="l" t="t" r="r" b="b"/>
            <a:pathLst>
              <a:path w="139" h="305">
                <a:moveTo>
                  <a:pt x="127" y="0"/>
                </a:moveTo>
                <a:cubicBezTo>
                  <a:pt x="133" y="72"/>
                  <a:pt x="139" y="144"/>
                  <a:pt x="118" y="195"/>
                </a:cubicBezTo>
                <a:cubicBezTo>
                  <a:pt x="97" y="246"/>
                  <a:pt x="48" y="275"/>
                  <a:pt x="0" y="305"/>
                </a:cubicBezTo>
              </a:path>
            </a:pathLst>
          </a:custGeom>
          <a:noFill/>
          <a:ln w="792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513400" y="4599000"/>
            <a:ext cx="220680" cy="484200"/>
          </a:xfrm>
          <a:custGeom>
            <a:avLst/>
            <a:gdLst/>
            <a:ahLst/>
            <a:rect l="l" t="t" r="r" b="b"/>
            <a:pathLst>
              <a:path w="139" h="305">
                <a:moveTo>
                  <a:pt x="127" y="0"/>
                </a:moveTo>
                <a:cubicBezTo>
                  <a:pt x="133" y="72"/>
                  <a:pt x="139" y="144"/>
                  <a:pt x="118" y="195"/>
                </a:cubicBezTo>
                <a:cubicBezTo>
                  <a:pt x="97" y="246"/>
                  <a:pt x="48" y="275"/>
                  <a:pt x="0" y="305"/>
                </a:cubicBezTo>
              </a:path>
            </a:pathLst>
          </a:custGeom>
          <a:noFill/>
          <a:ln w="792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7120" y="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Mar. 2005 OEE SenBU K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371600" y="609480"/>
            <a:ext cx="5600880" cy="3591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" name=""/>
          <p:cNvGraphicFramePr/>
          <p:nvPr/>
        </p:nvGraphicFramePr>
        <p:xfrm>
          <a:off x="7116840" y="4349880"/>
          <a:ext cx="1390680" cy="847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16840" y="4349880"/>
                    <a:ext cx="1390680" cy="84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8163000" y="4680000"/>
            <a:ext cx="511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163000" y="4788000"/>
            <a:ext cx="511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8607600" y="4788000"/>
            <a:ext cx="0" cy="55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605800" y="4316400"/>
            <a:ext cx="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042400" y="5122800"/>
            <a:ext cx="65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020000" y="4060800"/>
            <a:ext cx="2124000" cy="150660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2475000"/>
            <a:ext cx="1560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bination only by standard typ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4975200"/>
            <a:ext cx="1560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bination by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standard and different frequency type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7678800" y="4989240"/>
            <a:ext cx="160200" cy="98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275600" y="5970600"/>
            <a:ext cx="151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andard 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437600" y="3470400"/>
            <a:ext cx="151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fferent frequency 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799400" y="3940200"/>
            <a:ext cx="81000" cy="5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1523880" y="4267080"/>
            <a:ext cx="5353200" cy="2114640"/>
            <a:chOff x="1523880" y="4267080"/>
            <a:chExt cx="5353200" cy="2114640"/>
          </a:xfrm>
        </p:grpSpPr>
        <p:graphicFrame>
          <p:nvGraphicFramePr>
            <p:cNvPr id="84" name=""/>
            <p:cNvGraphicFramePr/>
            <p:nvPr/>
          </p:nvGraphicFramePr>
          <p:xfrm>
            <a:off x="1523880" y="4267080"/>
            <a:ext cx="5353200" cy="21146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523880" y="4267080"/>
                      <a:ext cx="5353200" cy="2114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6" name=""/>
            <p:cNvSpPr/>
            <p:nvPr/>
          </p:nvSpPr>
          <p:spPr>
            <a:xfrm>
              <a:off x="4129200" y="5257800"/>
              <a:ext cx="2539800" cy="990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27400" y="5486400"/>
              <a:ext cx="1319400" cy="2556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657600" y="4761000"/>
              <a:ext cx="309600" cy="29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537000" y="5299200"/>
              <a:ext cx="255600" cy="18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37000" y="5540400"/>
              <a:ext cx="255600" cy="18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0" y="5783400"/>
              <a:ext cx="255600" cy="18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37000" y="6039000"/>
              <a:ext cx="255600" cy="18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 flipH="1">
            <a:off x="5311800" y="5272200"/>
            <a:ext cx="1897200" cy="253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65120" y="6357960"/>
            <a:ext cx="8539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OMRON Prox have enough margin from real test result, please ask to OEE-SenB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477120" y="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Mar. 2005 OEE SenBU K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5:45:40Z</dcterms:created>
  <dc:creator>NHA0019E</dc:creator>
  <dc:description/>
  <dc:language>en-US</dc:language>
  <cp:lastModifiedBy>NHA0019E</cp:lastModifiedBy>
  <dcterms:modified xsi:type="dcterms:W3CDTF">2005-02-23T12:44:25Z</dcterms:modified>
  <cp:revision>10</cp:revision>
  <dc:subject/>
  <dc:title>PowerPoint プレゼンテーション</dc:title>
</cp:coreProperties>
</file>