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0C4-A368-4343-99EC-E3D029DC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8E5-9C82-4EF6-93B5-CB325BAC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D3C-4B19-4D80-8250-94D27170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CD8-99B9-45A3-98A1-1EE66D9E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009-A31B-4F69-BBFF-252FCC3E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9E2-6077-42BE-8139-B99404AC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042-F198-4CBE-9114-9786C484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282-0DEC-4E66-AE42-2847DF99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218-E6C5-451D-B783-A559C4C3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7A1-B46F-4EBB-AC9A-608BC6E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808-7BC0-4E9F-ABE5-75219BFD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EE6-B9F9-4251-BF4D-DF8595D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48D4-0111-4E8F-A4BE-F2E9F69B01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952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kind of additional connector can be attached to E2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3657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e core (copper) = 0.5 sq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8954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 is in cable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4038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lator diameter = ca. 1.9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657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6mm dia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44197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sheath diameter = 6.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51055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e core (copper) = 0.3 or 0.25 sq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54864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lator diameter = ca. 1.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105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3mm dia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867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sheath diameter = 4.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762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utsch Conn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1295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tsch Connector DT series are standard for Utility Veh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7524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using (e.g. 4pin) = DT04-4P-C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133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015” specification is needed for E2A 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257652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ther conn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lease inform the type of connector to OEE-SenB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5638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better to inform the connector type name which customer is using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conn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6:10:55Z</dcterms:created>
  <dc:creator>NHA0019E</dc:creator>
  <dc:description/>
  <dc:language>en-US</dc:language>
  <cp:lastModifiedBy>NHA0019E</cp:lastModifiedBy>
  <dcterms:modified xsi:type="dcterms:W3CDTF">2005-09-06T13:01:13Z</dcterms:modified>
  <cp:revision>6</cp:revision>
  <dc:subject/>
  <dc:title>PowerPoint プレゼンテーション</dc:title>
</cp:coreProperties>
</file>