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F75-9B0D-468F-9178-4EF3CA58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FF5-CBED-4753-BD58-50BBCF0A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6D4-7576-4AAF-AD14-2FAEFADD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FCC-2D35-4AB8-8BCA-C310BF74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1BB-4FD8-40D5-BD03-90587C5D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419-E69E-4222-9210-F9CDF325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CF6-17C7-411A-80E5-90E87224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239-C728-438A-8B93-C01F9570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9C2-006E-480F-9634-5170FE07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BD5-5710-4C82-AF9D-48731ABA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BB1-C219-40B6-815D-3F185443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3DF-9AB7-45BF-9B6C-5F1CFB6E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AC74-4023-4AC3-ABF3-4AA4ADD426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2Wi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n Pola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of E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1400" y="2862360"/>
            <a:ext cx="78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2A has DC2W non polarity output type in s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89000" y="4005360"/>
            <a:ext cx="78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not needed to care about cable colo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881680" y="2262240"/>
            <a:ext cx="498600" cy="78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38720" y="30621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88240" y="1895400"/>
            <a:ext cx="22212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89640" y="2370240"/>
            <a:ext cx="609480" cy="287280"/>
          </a:xfrm>
          <a:custGeom>
            <a:avLst/>
            <a:gdLst/>
            <a:ahLst/>
            <a:rect l="l" t="t" r="r" b="b"/>
            <a:pathLst>
              <a:path w="559" h="246">
                <a:moveTo>
                  <a:pt x="0" y="246"/>
                </a:moveTo>
                <a:lnTo>
                  <a:pt x="559" y="246"/>
                </a:lnTo>
                <a:lnTo>
                  <a:pt x="55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999120" y="165060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3692520"/>
            <a:ext cx="8280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61320" y="1609560"/>
            <a:ext cx="8244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4000" y="163836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49840" y="373680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07000" y="413856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22840" y="623736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02200" y="4762440"/>
            <a:ext cx="498600" cy="78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1680" y="4151160"/>
            <a:ext cx="0" cy="6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429240" y="5226480"/>
            <a:ext cx="718920" cy="1006200"/>
            <a:chOff x="6429240" y="5226480"/>
            <a:chExt cx="718920" cy="1006200"/>
          </a:xfrm>
        </p:grpSpPr>
        <p:sp>
          <p:nvSpPr>
            <p:cNvPr id="59" name=""/>
            <p:cNvSpPr/>
            <p:nvPr/>
          </p:nvSpPr>
          <p:spPr>
            <a:xfrm flipV="1">
              <a:off x="6927480" y="5512680"/>
              <a:ext cx="22068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6429240" y="5226480"/>
              <a:ext cx="608040" cy="286560"/>
            </a:xfrm>
            <a:custGeom>
              <a:avLst/>
              <a:gdLst/>
              <a:ahLst/>
              <a:rect l="l" t="t" r="r" b="b"/>
              <a:pathLst>
                <a:path w="559" h="246">
                  <a:moveTo>
                    <a:pt x="0" y="246"/>
                  </a:moveTo>
                  <a:lnTo>
                    <a:pt x="559" y="246"/>
                  </a:lnTo>
                  <a:lnTo>
                    <a:pt x="5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37280" y="598716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114960" y="4119480"/>
            <a:ext cx="82800" cy="907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91200" y="6183360"/>
            <a:ext cx="8280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34320" y="1598760"/>
            <a:ext cx="111240" cy="107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34400" y="14526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50160" y="368136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88400" y="35640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34320" y="408780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34400" y="39416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50160" y="616896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88400" y="60516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32400" y="592200"/>
            <a:ext cx="3402000" cy="59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75200" y="403200"/>
            <a:ext cx="113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2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11960" y="927000"/>
            <a:ext cx="32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ne sensor for both circuit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74000" y="19382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8000" y="55832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9880" y="2182680"/>
            <a:ext cx="727200" cy="105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3349800" y="1553040"/>
            <a:ext cx="22248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5960" y="1800360"/>
            <a:ext cx="1601640" cy="633240"/>
          </a:xfrm>
          <a:custGeom>
            <a:avLst/>
            <a:gdLst/>
            <a:ahLst/>
            <a:rect l="l" t="t" r="r" b="b"/>
            <a:pathLst>
              <a:path w="1009" h="399">
                <a:moveTo>
                  <a:pt x="1" y="247"/>
                </a:moveTo>
                <a:lnTo>
                  <a:pt x="0" y="0"/>
                </a:lnTo>
                <a:lnTo>
                  <a:pt x="1009" y="1"/>
                </a:lnTo>
                <a:lnTo>
                  <a:pt x="1009" y="39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01720" y="1757520"/>
            <a:ext cx="8280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97200" y="1790640"/>
            <a:ext cx="41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92400" y="2703600"/>
            <a:ext cx="1859040" cy="955440"/>
          </a:xfrm>
          <a:custGeom>
            <a:avLst/>
            <a:gdLst/>
            <a:ahLst/>
            <a:rect l="l" t="t" r="r" b="b"/>
            <a:pathLst>
              <a:path w="1171" h="602">
                <a:moveTo>
                  <a:pt x="0" y="0"/>
                </a:moveTo>
                <a:lnTo>
                  <a:pt x="0" y="601"/>
                </a:lnTo>
                <a:lnTo>
                  <a:pt x="1171" y="6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95720" y="175104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5800" y="1604880"/>
            <a:ext cx="13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V / 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1960" y="358920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10200" y="3471840"/>
            <a:ext cx="12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ND / 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55840" y="132228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57480" y="2389320"/>
            <a:ext cx="689040" cy="585360"/>
            <a:chOff x="2157480" y="2389320"/>
            <a:chExt cx="689040" cy="585360"/>
          </a:xfrm>
        </p:grpSpPr>
        <p:sp>
          <p:nvSpPr>
            <p:cNvPr id="89" name=""/>
            <p:cNvSpPr/>
            <p:nvPr/>
          </p:nvSpPr>
          <p:spPr>
            <a:xfrm>
              <a:off x="2190960" y="2433600"/>
              <a:ext cx="619200" cy="4964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6160" y="256680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54480" y="2886120"/>
              <a:ext cx="82440" cy="8856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64080" y="2644560"/>
              <a:ext cx="82440" cy="8856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54480" y="2389320"/>
              <a:ext cx="82440" cy="8856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57480" y="2644560"/>
              <a:ext cx="82800" cy="8856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19200" y="2541600"/>
            <a:ext cx="390600" cy="311040"/>
            <a:chOff x="1519200" y="2541600"/>
            <a:chExt cx="390600" cy="311040"/>
          </a:xfrm>
        </p:grpSpPr>
        <p:sp>
          <p:nvSpPr>
            <p:cNvPr id="96" name=""/>
            <p:cNvSpPr/>
            <p:nvPr/>
          </p:nvSpPr>
          <p:spPr>
            <a:xfrm>
              <a:off x="1573200" y="2611440"/>
              <a:ext cx="297000" cy="241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19200" y="2541600"/>
              <a:ext cx="390600" cy="147600"/>
            </a:xfrm>
            <a:custGeom>
              <a:avLst/>
              <a:gdLst/>
              <a:ahLst/>
              <a:rect l="l" t="t" r="r" b="b"/>
              <a:pathLst>
                <a:path w="246" h="93">
                  <a:moveTo>
                    <a:pt x="0" y="0"/>
                  </a:moveTo>
                  <a:lnTo>
                    <a:pt x="26" y="43"/>
                  </a:lnTo>
                  <a:lnTo>
                    <a:pt x="221" y="43"/>
                  </a:lnTo>
                  <a:lnTo>
                    <a:pt x="246" y="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24200" y="1801800"/>
            <a:ext cx="415800" cy="874800"/>
          </a:xfrm>
          <a:custGeom>
            <a:avLst/>
            <a:gdLst/>
            <a:ahLst/>
            <a:rect l="l" t="t" r="r" b="b"/>
            <a:pathLst>
              <a:path w="262" h="373">
                <a:moveTo>
                  <a:pt x="0" y="373"/>
                </a:moveTo>
                <a:lnTo>
                  <a:pt x="135" y="373"/>
                </a:lnTo>
                <a:lnTo>
                  <a:pt x="135" y="0"/>
                </a:lnTo>
                <a:lnTo>
                  <a:pt x="26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87400" y="2959200"/>
            <a:ext cx="1614600" cy="833400"/>
          </a:xfrm>
          <a:custGeom>
            <a:avLst/>
            <a:gdLst/>
            <a:ahLst/>
            <a:rect l="l" t="t" r="r" b="b"/>
            <a:pathLst>
              <a:path w="1017" h="525">
                <a:moveTo>
                  <a:pt x="0" y="177"/>
                </a:moveTo>
                <a:lnTo>
                  <a:pt x="0" y="525"/>
                </a:lnTo>
                <a:lnTo>
                  <a:pt x="1017" y="525"/>
                </a:lnTo>
                <a:lnTo>
                  <a:pt x="10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720800" y="18018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20800" y="2851200"/>
            <a:ext cx="0" cy="9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87680" y="3733920"/>
            <a:ext cx="8244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6600" y="2411280"/>
            <a:ext cx="73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n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6800" y="447840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ble colo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9760" y="73980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2W non polarity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81200" y="4894200"/>
            <a:ext cx="415800" cy="498600"/>
          </a:xfrm>
          <a:prstGeom prst="downArrow">
            <a:avLst>
              <a:gd name="adj1" fmla="val 50000"/>
              <a:gd name="adj2" fmla="val 299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800" y="5459400"/>
            <a:ext cx="48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cable color concerning tim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50800" y="115416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6640" y="325296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46000" y="1778040"/>
            <a:ext cx="498600" cy="78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95480" y="11667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73040" y="2241360"/>
            <a:ext cx="718920" cy="1006200"/>
            <a:chOff x="1373040" y="2241360"/>
            <a:chExt cx="718920" cy="1006200"/>
          </a:xfrm>
        </p:grpSpPr>
        <p:sp>
          <p:nvSpPr>
            <p:cNvPr id="114" name=""/>
            <p:cNvSpPr/>
            <p:nvPr/>
          </p:nvSpPr>
          <p:spPr>
            <a:xfrm flipV="1">
              <a:off x="1871280" y="2528280"/>
              <a:ext cx="22068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373040" y="2241360"/>
              <a:ext cx="608040" cy="286560"/>
            </a:xfrm>
            <a:custGeom>
              <a:avLst/>
              <a:gdLst/>
              <a:ahLst/>
              <a:rect l="l" t="t" r="r" b="b"/>
              <a:pathLst>
                <a:path w="559" h="246">
                  <a:moveTo>
                    <a:pt x="0" y="246"/>
                  </a:moveTo>
                  <a:lnTo>
                    <a:pt x="559" y="246"/>
                  </a:lnTo>
                  <a:lnTo>
                    <a:pt x="5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300204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058760" y="1135080"/>
            <a:ext cx="82800" cy="903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35000" y="3198960"/>
            <a:ext cx="82800" cy="889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8120" y="110340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93960" y="3184560"/>
            <a:ext cx="111240" cy="1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32200" y="30672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44800" y="9968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25600" y="2340000"/>
            <a:ext cx="0" cy="752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30400" y="1465200"/>
            <a:ext cx="614160" cy="727200"/>
          </a:xfrm>
          <a:custGeom>
            <a:avLst/>
            <a:gdLst/>
            <a:ahLst/>
            <a:rect l="l" t="t" r="r" b="b"/>
            <a:pathLst>
              <a:path w="387" h="458">
                <a:moveTo>
                  <a:pt x="0" y="0"/>
                </a:moveTo>
                <a:cubicBezTo>
                  <a:pt x="82" y="2"/>
                  <a:pt x="164" y="5"/>
                  <a:pt x="220" y="26"/>
                </a:cubicBezTo>
                <a:cubicBezTo>
                  <a:pt x="276" y="47"/>
                  <a:pt x="311" y="79"/>
                  <a:pt x="338" y="127"/>
                </a:cubicBezTo>
                <a:cubicBezTo>
                  <a:pt x="365" y="175"/>
                  <a:pt x="375" y="259"/>
                  <a:pt x="381" y="314"/>
                </a:cubicBezTo>
                <a:cubicBezTo>
                  <a:pt x="387" y="369"/>
                  <a:pt x="379" y="413"/>
                  <a:pt x="372" y="45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9800" y="1506600"/>
            <a:ext cx="42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ual voltage (at ON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60600" y="2367000"/>
            <a:ext cx="43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kage current (at OFF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44600" y="25844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2040" y="1895400"/>
            <a:ext cx="42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5.0V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(2m cable, 100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61000" y="2741760"/>
            <a:ext cx="42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8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55800" y="4732200"/>
            <a:ext cx="65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must be work by “+V” – “Residual volt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55800" y="5484960"/>
            <a:ext cx="81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must not be work by “Leakage curr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6800" y="4370400"/>
            <a:ext cx="6924600" cy="18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4600" y="4141800"/>
            <a:ext cx="126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!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45:40Z</dcterms:created>
  <dc:creator>NHA0019E</dc:creator>
  <dc:description/>
  <dc:language>en-US</dc:language>
  <cp:lastModifiedBy>NHA0019E</cp:lastModifiedBy>
  <dcterms:modified xsi:type="dcterms:W3CDTF">2005-02-23T12:53:45Z</dcterms:modified>
  <cp:revision>12</cp:revision>
  <dc:subject/>
  <dc:title>PowerPoint プレゼンテーション</dc:title>
</cp:coreProperties>
</file>