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D1B-2CFF-4F6C-96AA-7B00CCF3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459-91E6-4949-907E-9FB86F6F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971-A30C-4F1F-812A-14F5C630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18C-5DFD-4995-8BFD-5E7AC612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C71-F163-4CB5-9291-5080FAB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9DB-CAB4-4AA1-A882-C6BF4DA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E34-27C1-4492-ABBE-FFACB64C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7C8-4C23-4FAE-B383-4A518F8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6F6-8AEE-4BDC-B7C4-8936B53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D84-F0A1-41AA-B464-6137941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352-B7D6-4806-9A1A-45953E4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D2E-E00B-42A2-99FF-953C6CD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CE3E-1875-487D-8F60-F9CF798572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685800"/>
            <a:ext cx="6019560" cy="19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86880" y="1017720"/>
            <a:ext cx="566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History of OMRON pr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--- Transition of technology for prox.--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467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roximity switch is the traditional business in OMRON which was developed and released in 1960 and has been accumulated for 43 years since th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r proximity sensor business has grown the No.1 volume production in the worl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e are still working for the NEW technology of proximity sensor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this significance, the history of OMRON proximity sensor is also the history of the proximity sensor in the wor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5638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N   Kenji U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199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rranged : Kazushi Ta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477720"/>
            <a:ext cx="50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.  History of OMRON prox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788400" y="914400"/>
            <a:ext cx="102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28600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uar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676520"/>
            <a:ext cx="4495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lindrical type (M08 to M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5257800"/>
            <a:ext cx="5410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sending distance with big shap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057400"/>
            <a:ext cx="3352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ll dia. Cylindrical (dia. 4mm to M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4419720"/>
            <a:ext cx="5105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arate amp.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67920" y="3047760"/>
            <a:ext cx="423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 of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2952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sis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295280"/>
            <a:ext cx="17524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ancy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295280"/>
            <a:ext cx="160020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wing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295280"/>
            <a:ext cx="20574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ur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745080"/>
            <a:ext cx="6858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-slo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8840"/>
            <a:ext cx="609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2920" y="3363840"/>
            <a:ext cx="883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ng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7360" y="3325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638680"/>
            <a:ext cx="4495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quare &amp; robus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200400"/>
            <a:ext cx="5257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m &amp; Flat squar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2514600"/>
            <a:ext cx="5425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quare ty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743200"/>
            <a:ext cx="2133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ll squar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724280"/>
            <a:ext cx="2971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ble with amp.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733920"/>
            <a:ext cx="5273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-slo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962520"/>
            <a:ext cx="4495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o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44308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amp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16002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62320" y="5181480"/>
            <a:ext cx="609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i transis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2057400"/>
            <a:ext cx="12459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X0.7 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(only non shielded 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826560" y="914400"/>
            <a:ext cx="104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5334120"/>
            <a:ext cx="41911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 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809880"/>
            <a:ext cx="3809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 2 w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3505320"/>
            <a:ext cx="4800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 2 w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4800600"/>
            <a:ext cx="304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ble operation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5181480"/>
            <a:ext cx="1447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Ge transis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15000"/>
            <a:ext cx="3352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creet chip moun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291600" y="1905840"/>
            <a:ext cx="42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164880" y="3352320"/>
            <a:ext cx="66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al circuit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76320" y="5334120"/>
            <a:ext cx="660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p moun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1240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181480"/>
            <a:ext cx="838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124080"/>
            <a:ext cx="1676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3 wire (PN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800600"/>
            <a:ext cx="28191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on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5867280"/>
            <a:ext cx="4876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6095880"/>
            <a:ext cx="3886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B (Chip on board technolo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12408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3 wire (NP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7360" y="3325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124080"/>
            <a:ext cx="419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3 wire (NPN, PN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366876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/DC 2 w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752480"/>
            <a:ext cx="45720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1.0 (CENELEC stand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286000"/>
            <a:ext cx="2819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Long Sn X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057400"/>
            <a:ext cx="16002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X0.5 CENELEC Sn (only non-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2514600"/>
            <a:ext cx="12686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Double Sn X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419720"/>
            <a:ext cx="4419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rt circuit protection (standard function for DC 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7772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History of OMRON prox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969000"/>
            <a:ext cx="137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polar DC2 w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2952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sis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295280"/>
            <a:ext cx="17524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ancy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295280"/>
            <a:ext cx="160020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wing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295280"/>
            <a:ext cx="20574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ur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5560" y="45720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. History of OMRON proximity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371600"/>
          <a:ext cx="7620120" cy="5019840"/>
        </p:xfrm>
        <a:graphic>
          <a:graphicData uri="http://schemas.openxmlformats.org/drawingml/2006/table">
            <a:tbl>
              <a:tblPr/>
              <a:tblGrid>
                <a:gridCol w="685800"/>
                <a:gridCol w="2286000"/>
                <a:gridCol w="4648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1G,1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2G,2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vention of proximity sensor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 transistor &amp; PNP voltage outp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-1: all metal , -2: for ferrous metal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,H : Sn=4mm , 8mm  Case material : Alumi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2GP,-2H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, -A31, -A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urrent outpu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quare, U-slot and ring type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1VN, 2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3FC, 3HC, 3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n 16mm type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　　　　　　　　　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eparate amp type for non-ferrous metal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B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Floating metal detection type for liquid level det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apacitive proximity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L-2GP-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C 3 wir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1FN, 2FN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FN-A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lot shape ty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icro switch compatible shap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H1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eparate amp type for high ambient te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ead switch principle type (magnetic proximity sens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L-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ange from Ge transistor to Si transistor for all pro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d from PNP to NPN output in this term.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ose days, it’s possible to make only NPN transisto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918720" y="10033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1960‘s Genesis st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914400"/>
            <a:ext cx="746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533520"/>
          <a:ext cx="8229600" cy="6111720"/>
        </p:xfrm>
        <a:graphic>
          <a:graphicData uri="http://schemas.openxmlformats.org/drawingml/2006/table">
            <a:tbl>
              <a:tblPr/>
              <a:tblGrid>
                <a:gridCol w="762120"/>
                <a:gridCol w="2666880"/>
                <a:gridCol w="480060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N5, N10, N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H10, H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A5, A10, A20, A2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K5, K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Y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L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U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Full model change with using Si transis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ization of the shape and characteristics (Square &amp; Ring typ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eparate amp type for all metal det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 type: common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K type : for machine tool &amp; high resolu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C 3 w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ong sensing distance by differential coil operation type.  Sn=100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Only ferrous metal detection type ( detect ferrous metal behind non-ferrous me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blishment the operation analyze method of high frequency oscillation type proximity sensor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stablishment the operation analyze method of inductive pro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terminal circuit calculation method was adopted for pro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N-N, PN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nclude the operation indica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ensor for hazardous gas are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F20, TL-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enewal the U-slot shape type and Slot shap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X, -X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ylindrical shielded type pro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 maker preceded on the shielded ty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onstitute the CENELEC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M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imit switch compatible shape (aluminum die casting ca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Original IC for power supply and output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LP50, LY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K-C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High robust type for heavy industry     Sn=50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apacitive proximity sensor (smooth barrel cylindric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TL-X se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own sizing and high performance on cylindrical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riginal IC for whole circuit of prox.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Vacuum resin filling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       COB (Chip On Board) techn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917280" y="2286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1970‘s Infancy st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838080" y="762120"/>
          <a:ext cx="7925040" cy="5754600"/>
        </p:xfrm>
        <a:graphic>
          <a:graphicData uri="http://schemas.openxmlformats.org/drawingml/2006/table">
            <a:tbl>
              <a:tblPr/>
              <a:tblGrid>
                <a:gridCol w="685800"/>
                <a:gridCol w="2362320"/>
                <a:gridCol w="48769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X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icro switch compatible 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imit switch compatible shape (for GM, FORD corp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arikont type     to change sensing face for 4 dir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Special cylindrical prox. For GM, FORD corp.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cl. Weld Field Immunity typ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X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N-N se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K-X serie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C2W  cylindrical prox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discreet chip circu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enewal  TL-N series (adopt IC chi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apacitive proximity sensor (threaded barrel cylindric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L-W, TL-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enewal separate amp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Flat shape, Slim shap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K-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nalog output prox with separate a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Varikont ty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to change sensing face for 5 dir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Flat shape capacitive proximity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Full model change of TL-X se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lastic threaded cylindrical ty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C-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mall dia cylindrical type with cable and 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mall size Amp for separate amp type (E2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pecial type that don’t detect non-ferrous metal cut pie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E-XD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ine up DC2W type to E2E se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ginal IC for DC2W type   Sn=CENELEC x 1.5,  Stable indica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mall passing metal detection sens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917640" y="39384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1980‘s Growing st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38080" y="762120"/>
          <a:ext cx="8001000" cy="4979880"/>
        </p:xfrm>
        <a:graphic>
          <a:graphicData uri="http://schemas.openxmlformats.org/drawingml/2006/table">
            <a:tbl>
              <a:tblPr/>
              <a:tblGrid>
                <a:gridCol w="685800"/>
                <a:gridCol w="2362320"/>
                <a:gridCol w="4952880"/>
              </a:tblGrid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ll metal detectio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Only non-ferrous metal detectio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apacitive sensor with separated a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resolution prox with separated amp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emperature drift learning func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C-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eparate amp type with Sn teaching fun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E-X?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E-X?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C/DC 2 wir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non-polar DC2wir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2E DC2 wire type was awarded “Energy-Conserving Machinery “ from JMF (Japan Machinery Feder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mall square shap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ng sensing distance prox   (CENELEC x 2 S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US metal sensing fac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K-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apacitive sensor for liquid level detec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ng sensing distance prox (CENELEC x 2 Sn) (Full line-U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realize with modulated structu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917640" y="39384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1990‘s Mature st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0:03:08Z</dcterms:created>
  <dc:creator>K,Tanase</dc:creator>
  <dc:description/>
  <dc:language>en-US</dc:language>
  <cp:lastModifiedBy>NHA0019E</cp:lastModifiedBy>
  <dcterms:modified xsi:type="dcterms:W3CDTF">2005-02-23T12:54:55Z</dcterms:modified>
  <cp:revision>24</cp:revision>
  <dc:subject/>
  <dc:title>PowerPoint プレゼンテーション</dc:title>
</cp:coreProperties>
</file>