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799-E99F-4D76-9F24-E2653A77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C8F-CC05-4B7C-B0C2-3C009C6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DF8-603D-48CD-8717-0240F620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5CA-71FC-4F8C-BAEA-7464944F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E34-3DE4-415C-9975-33E1505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D0E-FE09-47DD-AE1A-B7FE342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C85-654F-4EA8-8E73-BE9F417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48C-3814-4705-B0BE-4FB56659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3E8-1418-4A91-AAF8-6F2DAA8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0E2-AD40-4FFA-A1F2-31D9C64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066-6F45-4EA5-9B53-0E84D0A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EA8-8E77-4F13-8AFD-88D984D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31F1-9897-45AB-AF14-7A6EBF801B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 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keep the higher level for Inverter Noise I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IFM &lt;&lt;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Balluff = Baumer = P+F = OMRON(E2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3276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Inverter No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2514600"/>
            <a:ext cx="5335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819520"/>
            <a:ext cx="533160" cy="533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1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276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r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819520"/>
            <a:ext cx="6858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5909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2441520"/>
            <a:ext cx="411120" cy="463680"/>
          </a:xfrm>
          <a:custGeom>
            <a:avLst/>
            <a:gdLst/>
            <a:ahLst/>
            <a:rect l="l" t="t" r="r" b="b"/>
            <a:pathLst>
              <a:path w="259" h="292">
                <a:moveTo>
                  <a:pt x="0" y="292"/>
                </a:moveTo>
                <a:cubicBezTo>
                  <a:pt x="71" y="264"/>
                  <a:pt x="109" y="261"/>
                  <a:pt x="150" y="200"/>
                </a:cubicBezTo>
                <a:cubicBezTo>
                  <a:pt x="165" y="154"/>
                  <a:pt x="170" y="102"/>
                  <a:pt x="192" y="59"/>
                </a:cubicBezTo>
                <a:cubicBezTo>
                  <a:pt x="197" y="50"/>
                  <a:pt x="201" y="40"/>
                  <a:pt x="209" y="33"/>
                </a:cubicBezTo>
                <a:cubicBezTo>
                  <a:pt x="224" y="20"/>
                  <a:pt x="259" y="0"/>
                  <a:pt x="259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352680"/>
            <a:ext cx="5791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2895480"/>
            <a:ext cx="3429000" cy="838440"/>
          </a:xfrm>
          <a:custGeom>
            <a:avLst/>
            <a:gdLst/>
            <a:ahLst/>
            <a:rect l="l" t="t" r="r" b="b"/>
            <a:pathLst>
              <a:path w="2160" h="528">
                <a:moveTo>
                  <a:pt x="2160" y="528"/>
                </a:moveTo>
                <a:lnTo>
                  <a:pt x="144" y="528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50532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81952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43828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666880"/>
            <a:ext cx="1981080" cy="381240"/>
          </a:xfrm>
          <a:custGeom>
            <a:avLst/>
            <a:gdLst/>
            <a:ahLst/>
            <a:rect l="l" t="t" r="r" b="b"/>
            <a:pathLst>
              <a:path w="1248" h="240">
                <a:moveTo>
                  <a:pt x="1248" y="0"/>
                </a:moveTo>
                <a:lnTo>
                  <a:pt x="672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133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10552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4952880"/>
            <a:ext cx="2514600" cy="685800"/>
          </a:xfrm>
          <a:custGeom>
            <a:avLst/>
            <a:gdLst/>
            <a:ahLst/>
            <a:rect l="l" t="t" r="r" b="b"/>
            <a:pathLst>
              <a:path w="1584" h="432">
                <a:moveTo>
                  <a:pt x="0" y="432"/>
                </a:moveTo>
                <a:lnTo>
                  <a:pt x="288" y="432"/>
                </a:lnTo>
                <a:lnTo>
                  <a:pt x="288" y="0"/>
                </a:lnTo>
                <a:lnTo>
                  <a:pt x="624" y="0"/>
                </a:lnTo>
                <a:lnTo>
                  <a:pt x="624" y="432"/>
                </a:lnTo>
                <a:lnTo>
                  <a:pt x="960" y="432"/>
                </a:lnTo>
                <a:lnTo>
                  <a:pt x="960" y="0"/>
                </a:lnTo>
                <a:lnTo>
                  <a:pt x="1296" y="0"/>
                </a:lnTo>
                <a:lnTo>
                  <a:pt x="1296" y="432"/>
                </a:lnTo>
                <a:lnTo>
                  <a:pt x="158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10552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144"/>
                </a:moveTo>
                <a:lnTo>
                  <a:pt x="48" y="0"/>
                </a:lnTo>
                <a:lnTo>
                  <a:pt x="48" y="288"/>
                </a:lnTo>
                <a:lnTo>
                  <a:pt x="96" y="0"/>
                </a:lnTo>
                <a:lnTo>
                  <a:pt x="96" y="192"/>
                </a:lnTo>
                <a:lnTo>
                  <a:pt x="144" y="96"/>
                </a:lnTo>
                <a:lnTo>
                  <a:pt x="144" y="192"/>
                </a:lnTo>
                <a:lnTo>
                  <a:pt x="192" y="14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13716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 from inverter driver or mo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600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one of the common mode no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419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RON defined the test method for Inverter noise i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181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715000" y="5028840"/>
            <a:ext cx="3753000" cy="1581480"/>
            <a:chOff x="5715000" y="5028840"/>
            <a:chExt cx="3753000" cy="1581480"/>
          </a:xfrm>
        </p:grpSpPr>
        <p:sp>
          <p:nvSpPr>
            <p:cNvPr id="79" name=""/>
            <p:cNvSpPr/>
            <p:nvPr/>
          </p:nvSpPr>
          <p:spPr>
            <a:xfrm>
              <a:off x="5734080" y="5514840"/>
              <a:ext cx="54288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0640" y="5800680"/>
              <a:ext cx="49536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972560" y="5791320"/>
              <a:ext cx="5526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76960" y="5648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96440" y="52768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48560" y="5267160"/>
              <a:ext cx="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3800" y="5219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96440" y="502884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400" y="5362560"/>
              <a:ext cx="10476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67600" y="5219640"/>
              <a:ext cx="733320" cy="38124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40"/>
                  </a:moveTo>
                  <a:lnTo>
                    <a:pt x="28" y="40"/>
                  </a:lnTo>
                  <a:lnTo>
                    <a:pt x="28" y="0"/>
                  </a:lnTo>
                  <a:lnTo>
                    <a:pt x="62" y="0"/>
                  </a:lnTo>
                  <a:lnTo>
                    <a:pt x="62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76960" y="5029200"/>
              <a:ext cx="1419480" cy="533520"/>
            </a:xfrm>
            <a:custGeom>
              <a:avLst/>
              <a:gdLst/>
              <a:ahLst/>
              <a:rect l="l" t="t" r="r" b="b"/>
              <a:pathLst>
                <a:path w="134" h="56">
                  <a:moveTo>
                    <a:pt x="0" y="56"/>
                  </a:moveTo>
                  <a:lnTo>
                    <a:pt x="17" y="56"/>
                  </a:lnTo>
                  <a:lnTo>
                    <a:pt x="17" y="0"/>
                  </a:ln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0640" y="5572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6000" y="590544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6000" y="61056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29280" y="5600880"/>
              <a:ext cx="981360" cy="50472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53"/>
                  </a:move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4800" y="5657760"/>
              <a:ext cx="285840" cy="2574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05960" y="6257880"/>
              <a:ext cx="15620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unction gen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6600" y="623880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5305320"/>
              <a:ext cx="6955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7240" y="5305320"/>
              <a:ext cx="628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x 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96240" y="5133960"/>
              <a:ext cx="6858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24V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98108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d by square wave nois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6019920"/>
            <a:ext cx="281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kHz to 30kHz : 60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kHz to 100kHz : 40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1066680"/>
            <a:ext cx="2438280" cy="685800"/>
          </a:xfrm>
          <a:prstGeom prst="wedgeRectCallout">
            <a:avLst>
              <a:gd name="adj1" fmla="val -1953"/>
              <a:gd name="adj2" fmla="val 143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vel of noise is depend on operation frequency of inver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590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124080"/>
            <a:ext cx="1981080" cy="990720"/>
          </a:xfrm>
          <a:prstGeom prst="wedgeRectCallout">
            <a:avLst>
              <a:gd name="adj1" fmla="val 84694"/>
              <a:gd name="adj2" fmla="val -66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luence of Inverter noise is depend on a structure of circuit and noise shie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304920"/>
            <a:ext cx="3276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152280"/>
            <a:ext cx="5486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verter noise immun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FM&lt;&lt;Balluff =Baumer =OMRON (E2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276720" y="0"/>
          <a:ext cx="5257800" cy="26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0"/>
                    <a:ext cx="52578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 Nois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91440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666880" y="2793960"/>
          <a:ext cx="5943600" cy="40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793960"/>
                    <a:ext cx="59436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30:48Z</dcterms:created>
  <dc:creator>tankaz</dc:creator>
  <dc:description/>
  <dc:language>en-US</dc:language>
  <cp:lastModifiedBy>tankaz</cp:lastModifiedBy>
  <dcterms:modified xsi:type="dcterms:W3CDTF">2003-07-02T14:15:40Z</dcterms:modified>
  <cp:revision>14</cp:revision>
  <dc:subject/>
  <dc:title>PowerPoint プレゼンテーション</dc:title>
</cp:coreProperties>
</file>