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034-6B3E-4770-B8A0-5B085159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183-3120-4EBB-86C2-ACE5B441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BE7-F5F6-402B-9A97-BFAE5238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545-0189-455C-8E26-EB2E86F3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52B-6FDC-44D2-8AC1-163509AD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447-5DA3-4E31-BFE3-173903C1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DDB-3449-4BA6-A3DC-2D461EB4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4E9-9514-4BFA-BC4C-D3C8956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6F1-9DBA-4540-9CE9-9D45E551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FF7-D945-42DA-9C1A-1642CBC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A30-E7B2-4E44-AFDC-29A6BB5A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68B-F1D4-4CB5-A9F8-B6BB4D33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B657-BD47-421E-BA96-D598108965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0968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or the sensor …. Few times remove and inser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in (Sn) pl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or the connector cable ….. Repeat using (remove and inser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old (Au) pl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760" y="36360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or-pin plating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08600" y="915840"/>
            <a:ext cx="46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plating is not really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0080" y="4800600"/>
            <a:ext cx="74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 passed all environmental test which fit to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866880"/>
            <a:ext cx="2133360" cy="337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mperature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93356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mal expansion and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62006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 the resistance of a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07656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motion of contactor 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3762360"/>
            <a:ext cx="2819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t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 the connector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247760"/>
            <a:ext cx="304560" cy="380880"/>
          </a:xfrm>
          <a:prstGeom prst="downArrow">
            <a:avLst>
              <a:gd name="adj1" fmla="val 41667"/>
              <a:gd name="adj2" fmla="val 312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543040"/>
            <a:ext cx="304560" cy="381240"/>
          </a:xfrm>
          <a:prstGeom prst="downArrow">
            <a:avLst>
              <a:gd name="adj1" fmla="val 41667"/>
              <a:gd name="adj2" fmla="val 312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866880"/>
            <a:ext cx="2133720" cy="337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ernal vib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866880"/>
            <a:ext cx="2133720" cy="580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omagnetic inte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276960"/>
            <a:ext cx="1752480" cy="337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nector 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467676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r away the plating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5438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xidization film is 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5210280"/>
            <a:ext cx="304920" cy="304560"/>
          </a:xfrm>
          <a:prstGeom prst="downArrow">
            <a:avLst>
              <a:gd name="adj1" fmla="val 41667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1247760"/>
            <a:ext cx="304560" cy="2362320"/>
          </a:xfrm>
          <a:prstGeom prst="downArrow">
            <a:avLst>
              <a:gd name="adj1" fmla="val 41667"/>
              <a:gd name="adj2" fmla="val 1939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897200">
            <a:off x="4984560" y="1441440"/>
            <a:ext cx="304560" cy="2438280"/>
          </a:xfrm>
          <a:prstGeom prst="downArrow">
            <a:avLst>
              <a:gd name="adj1" fmla="val 41667"/>
              <a:gd name="adj2" fmla="val 20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654200">
            <a:off x="2266920" y="2866680"/>
            <a:ext cx="304920" cy="2095560"/>
          </a:xfrm>
          <a:prstGeom prst="downArrow">
            <a:avLst>
              <a:gd name="adj1" fmla="val 41667"/>
              <a:gd name="adj2" fmla="val 1718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4524480"/>
            <a:ext cx="304920" cy="228600"/>
          </a:xfrm>
          <a:prstGeom prst="downArrow">
            <a:avLst>
              <a:gd name="adj1" fmla="val 41667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5972040"/>
            <a:ext cx="304920" cy="304920"/>
          </a:xfrm>
          <a:prstGeom prst="downArrow">
            <a:avLst>
              <a:gd name="adj1" fmla="val 41667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16640" y="6353280"/>
            <a:ext cx="1095120" cy="239760"/>
          </a:xfrm>
          <a:prstGeom prst="rightArrow">
            <a:avLst>
              <a:gd name="adj1" fmla="val 50000"/>
              <a:gd name="adj2" fmla="val 114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0120" y="1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chanism of connector 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27920" y="4633920"/>
            <a:ext cx="1600200" cy="580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ck with high humid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0365200">
            <a:off x="5122440" y="5219280"/>
            <a:ext cx="1805040" cy="325440"/>
          </a:xfrm>
          <a:prstGeom prst="leftArrow">
            <a:avLst>
              <a:gd name="adj1" fmla="val 50000"/>
              <a:gd name="adj2" fmla="val 138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8880" y="5508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ause 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05200" y="5508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ause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550800"/>
            <a:ext cx="11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ause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51600" y="43210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aus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609480"/>
            <a:ext cx="761976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57200"/>
            <a:ext cx="3124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act Resistanc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9907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than 4m o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3716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 at DC 20mV  20mA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6094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dgment Criteria : less than 50m o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362320"/>
            <a:ext cx="7619760" cy="3581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209680"/>
            <a:ext cx="3962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sertion and Remove Forc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2895480"/>
          <a:ext cx="5029200" cy="29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5029200" cy="29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257800" y="10666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me level as Gold pl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3526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3200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sors are removed only few tim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4382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dgment Criteria : less than 4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7162920" y="41148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ough level for sens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5105520"/>
            <a:ext cx="76197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609480"/>
            <a:ext cx="761976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57200"/>
            <a:ext cx="24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gh humidity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6094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dgment Criteria : no-fault on basic specific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362320"/>
            <a:ext cx="7619760" cy="2361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33720"/>
            <a:ext cx="2438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eat cycl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11430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4290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4382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dgment Criteria : no-fault on basic specific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990720"/>
            <a:ext cx="251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midity :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ture : 85 degrees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9907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219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2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990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fault by oxidization of the pin-pl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809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523880" y="2743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28951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8951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038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819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53640" y="34657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g.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191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30m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590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30m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281952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34290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352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fault by fretting mov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876920"/>
            <a:ext cx="2438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bration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52578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dgment Criteria : no-fault on basic specific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5486400"/>
            <a:ext cx="2438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External vibration :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frequency :10 to 2000 Hz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60199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ctuation : 1.5mm  15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624852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 : 15min. / sweep   total 2.5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638680"/>
            <a:ext cx="152640" cy="838440"/>
          </a:xfrm>
          <a:custGeom>
            <a:avLst/>
            <a:gdLst>
              <a:gd name="textAreaLeft" fmla="*/ 0 w 152640"/>
              <a:gd name="textAreaRight" fmla="*/ 55080 w 1526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57913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71500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fault by fret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external vibr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8:16:26Z</dcterms:created>
  <dc:creator>tankaz</dc:creator>
  <dc:description/>
  <dc:language>en-US</dc:language>
  <cp:lastModifiedBy>tankaz</cp:lastModifiedBy>
  <dcterms:modified xsi:type="dcterms:W3CDTF">2003-03-18T13:10:44Z</dcterms:modified>
  <cp:revision>6</cp:revision>
  <dc:subject/>
  <dc:title>PowerPoint プレゼンテーション</dc:title>
</cp:coreProperties>
</file>