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FA9-428D-401F-A48D-2B0222D8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419-907C-4647-97E5-AAE6194A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B6D-C88A-41A3-848D-0880EE2B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B10-1873-4C5F-910B-7199B491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74E-0FBA-40F7-8D01-AE2EC063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08F-F34A-44F5-9B50-323ADA05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EDF-19B9-45A9-9BF0-06F9D20F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465-6251-4B8C-B01F-13BEBD90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CC2-F3CC-4A83-8E3D-D5BEC485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33B-A827-4EE4-BA33-E16D353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A3C-4CE1-4608-9528-8CD1E19E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C0A-0B57-4430-9F82-E1C5A94A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EAEC-1E5B-4ABF-A53B-3C1DA6B12C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914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name 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371600" y="1143000"/>
          <a:ext cx="701028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70102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752480" y="3886200"/>
          <a:ext cx="6324840" cy="27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886200"/>
                    <a:ext cx="63248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041800" y="1074600"/>
            <a:ext cx="1676520" cy="91692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13259"/>
              <a:gd name="adj5" fmla="val 153606"/>
              <a:gd name="adj6" fmla="val -67689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ss with Nickel pl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SUS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429000"/>
            <a:ext cx="927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5787"/>
              <a:gd name="adj5" fmla="val -145833"/>
              <a:gd name="adj6" fmla="val 164384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BT pla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3505320"/>
            <a:ext cx="990720" cy="19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30520" y="504720"/>
            <a:ext cx="1716120" cy="916920"/>
          </a:xfrm>
          <a:prstGeom prst="borderCallout2">
            <a:avLst>
              <a:gd name="adj1" fmla="val 18750"/>
              <a:gd name="adj2" fmla="val -8333"/>
              <a:gd name="adj3" fmla="val 12351"/>
              <a:gd name="adj4" fmla="val -22018"/>
              <a:gd name="adj5" fmla="val 148898"/>
              <a:gd name="adj6" fmla="val -39574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NG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per with nickel pl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43560"/>
            <a:ext cx="1716120" cy="916920"/>
          </a:xfrm>
          <a:prstGeom prst="borderCallout2">
            <a:avLst>
              <a:gd name="adj1" fmla="val 18750"/>
              <a:gd name="adj2" fmla="val -8333"/>
              <a:gd name="adj3" fmla="val 12351"/>
              <a:gd name="adj4" fmla="val 120537"/>
              <a:gd name="adj5" fmla="val 141245"/>
              <a:gd name="adj6" fmla="val 136722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NG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per with nickel pl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040" y="3733920"/>
            <a:ext cx="149544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123037"/>
              <a:gd name="adj5" fmla="val -161476"/>
              <a:gd name="adj6" fmla="val 141800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olyary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la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809880"/>
            <a:ext cx="7596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3124080"/>
            <a:ext cx="149544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16666"/>
              <a:gd name="adj5" fmla="val -109851"/>
              <a:gd name="adj6" fmla="val -32370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olyester ela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105520" y="3276720"/>
            <a:ext cx="30456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1170000"/>
            <a:ext cx="83844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35986"/>
              <a:gd name="adj5" fmla="val 329685"/>
              <a:gd name="adj6" fmla="val -133129"/>
            </a:avLst>
          </a:prstGeom>
          <a:noFill/>
          <a:ln w="9360">
            <a:solidFill>
              <a:srgbClr val="ff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name for standard E2A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3:10:26Z</dcterms:created>
  <dc:creator>tankaz</dc:creator>
  <dc:description/>
  <dc:language>en-US</dc:language>
  <cp:lastModifiedBy>tankaz</cp:lastModifiedBy>
  <dcterms:modified xsi:type="dcterms:W3CDTF">2003-06-06T09:00:57Z</dcterms:modified>
  <cp:revision>8</cp:revision>
  <dc:subject/>
  <dc:title>PowerPoint プレゼンテーション</dc:title>
</cp:coreProperties>
</file>