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ensing_mast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039560" y="640080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5146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 Narrow"/>
              </a:rPr>
              <a:t>Sensor Business Un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36960" y="782640"/>
            <a:ext cx="335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est Criteria for E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51080" y="1157400"/>
            <a:ext cx="310536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y </a:t>
            </a:r>
            <a:r>
              <a:rPr b="0" lang="en-US" sz="5400" spc="-1" strike="noStrike">
                <a:solidFill>
                  <a:srgbClr val="ff0066"/>
                </a:solidFill>
                <a:latin typeface="Arial Narrow"/>
              </a:rPr>
              <a:t>+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om standard n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89160" y="2476440"/>
            <a:ext cx="331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eneral funct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1438200"/>
            <a:ext cx="7197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1581120"/>
            <a:ext cx="4456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+/-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 judgment i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6640" y="2025720"/>
            <a:ext cx="72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is evaluating the test result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/- 3 sig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51000" y="3527280"/>
          <a:ext cx="57816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1000" y="3527280"/>
                    <a:ext cx="57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08360" y="3946680"/>
            <a:ext cx="459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327800" y="3409560"/>
            <a:ext cx="0" cy="20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38320" y="3475080"/>
            <a:ext cx="43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+/-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 = 99.7%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760" y="3044880"/>
            <a:ext cx="442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eces inspection (100%)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600" y="2351160"/>
            <a:ext cx="10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8400" y="3057480"/>
            <a:ext cx="36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st for inductive sensor 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st Norm for inductiv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1566720"/>
            <a:ext cx="20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0947-5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280" y="2286000"/>
            <a:ext cx="31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60947-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8280" y="1579680"/>
            <a:ext cx="42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ive proximity switch n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29653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rate (water proof regulation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320" y="296532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6052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1640" y="230040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voltage equip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4680" y="355140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22400" y="4481640"/>
            <a:ext cx="42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test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9800" y="5148360"/>
            <a:ext cx="42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test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5840" y="475452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 in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3840" y="4819680"/>
            <a:ext cx="614520" cy="301680"/>
          </a:xfrm>
          <a:prstGeom prst="leftArrow">
            <a:avLst>
              <a:gd name="adj1" fmla="val 50000"/>
              <a:gd name="adj2" fmla="val 50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st for inductive sensor 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bient temp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14680" y="1554120"/>
            <a:ext cx="54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hour at 85degC  with max load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200" y="156672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orig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78400" y="1917720"/>
            <a:ext cx="10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6040" y="280836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at shock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1680" y="2898720"/>
            <a:ext cx="54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0 to 85degC   each 1h   100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22520" y="3767040"/>
            <a:ext cx="761760" cy="1600200"/>
            <a:chOff x="1622520" y="3767040"/>
            <a:chExt cx="761760" cy="1600200"/>
          </a:xfrm>
        </p:grpSpPr>
        <p:sp>
          <p:nvSpPr>
            <p:cNvPr id="83" name=""/>
            <p:cNvSpPr/>
            <p:nvPr/>
          </p:nvSpPr>
          <p:spPr>
            <a:xfrm flipV="1">
              <a:off x="1622520" y="3767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22520" y="3767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84280" y="37670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84280" y="3766680"/>
            <a:ext cx="761760" cy="1600200"/>
            <a:chOff x="2384280" y="3766680"/>
            <a:chExt cx="761760" cy="1600200"/>
          </a:xfrm>
        </p:grpSpPr>
        <p:sp>
          <p:nvSpPr>
            <p:cNvPr id="87" name=""/>
            <p:cNvSpPr/>
            <p:nvPr/>
          </p:nvSpPr>
          <p:spPr>
            <a:xfrm>
              <a:off x="2384280" y="4528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4280" y="5366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146040" y="3766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46400" y="3767040"/>
            <a:ext cx="761760" cy="1600200"/>
            <a:chOff x="3146400" y="3767040"/>
            <a:chExt cx="761760" cy="1600200"/>
          </a:xfrm>
        </p:grpSpPr>
        <p:sp>
          <p:nvSpPr>
            <p:cNvPr id="91" name=""/>
            <p:cNvSpPr/>
            <p:nvPr/>
          </p:nvSpPr>
          <p:spPr>
            <a:xfrm flipV="1">
              <a:off x="3146400" y="3767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6400" y="3767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08160" y="37670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908520" y="536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94320" y="46054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4320" y="460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17240" y="460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17600" y="353844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2520" y="3462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8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84280" y="54435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-4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2520" y="46814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6200" y="4757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84280" y="4681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0600" y="4757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81240" y="44744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bient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st for inductive sensor 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er proof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4680" y="1554120"/>
            <a:ext cx="54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67: under 1m water 30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4200" y="156672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0529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917720"/>
            <a:ext cx="10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2808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ot and Cold water cy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27280" y="2833560"/>
            <a:ext cx="54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70degC   each 30min   50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24320" y="4114800"/>
            <a:ext cx="761760" cy="1600200"/>
            <a:chOff x="3424320" y="4114800"/>
            <a:chExt cx="761760" cy="1600200"/>
          </a:xfrm>
        </p:grpSpPr>
        <p:sp>
          <p:nvSpPr>
            <p:cNvPr id="115" name=""/>
            <p:cNvSpPr/>
            <p:nvPr/>
          </p:nvSpPr>
          <p:spPr>
            <a:xfrm flipV="1">
              <a:off x="342432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4320" y="4114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86080" y="4114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186080" y="4114440"/>
            <a:ext cx="761760" cy="1600200"/>
            <a:chOff x="4186080" y="4114440"/>
            <a:chExt cx="761760" cy="1600200"/>
          </a:xfrm>
        </p:grpSpPr>
        <p:sp>
          <p:nvSpPr>
            <p:cNvPr id="119" name=""/>
            <p:cNvSpPr/>
            <p:nvPr/>
          </p:nvSpPr>
          <p:spPr>
            <a:xfrm>
              <a:off x="4186080" y="48765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86080" y="5714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947840" y="41144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48200" y="4114800"/>
            <a:ext cx="761760" cy="1600200"/>
            <a:chOff x="4948200" y="4114800"/>
            <a:chExt cx="761760" cy="1600200"/>
          </a:xfrm>
        </p:grpSpPr>
        <p:sp>
          <p:nvSpPr>
            <p:cNvPr id="123" name=""/>
            <p:cNvSpPr/>
            <p:nvPr/>
          </p:nvSpPr>
          <p:spPr>
            <a:xfrm flipV="1">
              <a:off x="494820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8200" y="4114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9960" y="4114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71032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9612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96120" y="4952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1904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9400" y="3886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432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8608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5 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43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5105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860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5105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183040" y="4822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bient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3200400"/>
            <a:ext cx="84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69K for standard E2A seri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2A = IP67, IP69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st for inductive sensor 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bration / Shoc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0200" y="1554120"/>
            <a:ext cx="61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bration : 10 to 55Hz, 1mm Amplitude, 5min sweep, 30min each ax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4200" y="156672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0947-5-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6600" y="210024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6040" y="2808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orig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57600" y="1881360"/>
            <a:ext cx="61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ck     : Half sign pulse, 30g acceleration, 11ms pulse, 3 times / ax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84600" y="2873520"/>
            <a:ext cx="635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bration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0 to 2000H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.5m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mplitude,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5m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weep,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50m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ach a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84600" y="3643200"/>
            <a:ext cx="635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ck : (Hammer shock tes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tting the mounting bracket of sensor by metal hamm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200g acceleration, 300,000 time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8200" y="4989600"/>
            <a:ext cx="81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original test criteria is based on experience in prox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86400" y="790560"/>
            <a:ext cx="365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st for inductive sensor 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90560"/>
            <a:ext cx="9144000" cy="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87320"/>
            <a:ext cx="5486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ise immunity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30600" y="1698480"/>
            <a:ext cx="61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FI (3V/m) , FTB (2kV), ESD (4/8kV) , conducted noise immunity (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200" y="156672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0947-5-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76600" y="210024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8200" y="25099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RON orig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2914560"/>
            <a:ext cx="61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FI (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0V/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, FTB (2kV), ESD (4/8kV) , conducted noise immunity (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0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5080" y="329868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nverter noise tes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3297240"/>
            <a:ext cx="615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quare shape wave common noise </a:t>
            </a:r>
            <a:r>
              <a:rPr b="1" lang="en-US" sz="1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simulated for real inverter no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7720" y="3544920"/>
            <a:ext cx="55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 to 30kHz: 60Vp-p,  30k to 100kHz: 40Vp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5080" y="3940200"/>
            <a:ext cx="189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ulse voltage immunity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938760"/>
            <a:ext cx="61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V (between power line),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1.5kV (common mode), 100 ohm impe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7720" y="4186080"/>
            <a:ext cx="55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 to 30kHz: 60Vp-p,  30k to 100kHz: 40Vp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00016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ulse voltage immunity (1kV, 1,2/50usec, 500 ohm source imped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5080" y="4710240"/>
            <a:ext cx="189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Mobile phone noise immunity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09800" y="4708440"/>
            <a:ext cx="61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800MHz, 1.5GHz, 1.9GHz mobile phone </a:t>
            </a:r>
            <a:r>
              <a:rPr b="1" lang="en-US" sz="1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0.2m to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09800" y="5033880"/>
            <a:ext cx="61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27MHz, 144MHz, 430MHz, 900MHz, 1200MHz transceiver (10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3120" y="5334120"/>
            <a:ext cx="16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0.2m to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8840" y="2898720"/>
            <a:ext cx="27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C 60947-5-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9640" y="5643720"/>
            <a:ext cx="79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criteria is simulating the real application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3:41:25Z</dcterms:created>
  <dc:creator>Client</dc:creator>
  <dc:description/>
  <dc:language>en-US</dc:language>
  <cp:lastModifiedBy>NHA0019E</cp:lastModifiedBy>
  <cp:lastPrinted>2004-03-04T16:06:01Z</cp:lastPrinted>
  <dcterms:modified xsi:type="dcterms:W3CDTF">2005-09-06T14:43:48Z</dcterms:modified>
  <cp:revision>263</cp:revision>
  <dc:subject/>
  <dc:title>Kein Folientitel</dc:title>
</cp:coreProperties>
</file>