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8728-508B-4CD8-BC5F-FEE24E970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8245-0356-4988-9E0C-4A4C9D1C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ABB2-9630-4600-9276-473FDC8A4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FE69-40CC-4B91-AEFA-96B3B28E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4ED4-0AF6-4A01-A7F6-A3F33D03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8CF7-B3CB-4D3D-BC91-5E3674A6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66A0-9059-44FF-90BC-204ACBD3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E64C-3B43-41BB-8241-B64DD9C5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A222-E900-47E4-8CFB-5D118492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2387-E7BA-44A2-921D-2015F777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DDD4-8F73-4240-9E36-30E810FC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D70B-714D-4930-9DF1-C17CB75B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25EF-C04B-43C4-9DEE-4801CD86217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 short body length of E2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2849400"/>
            <a:ext cx="681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realize further short body type by semi-separated amplifier st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ep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619200"/>
            <a:ext cx="497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ep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333440"/>
            <a:ext cx="6858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333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333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1333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333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409760"/>
            <a:ext cx="7596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01760" y="1587600"/>
            <a:ext cx="2736720" cy="469800"/>
          </a:xfrm>
          <a:custGeom>
            <a:avLst/>
            <a:gdLst/>
            <a:ahLst/>
            <a:rect l="l" t="t" r="r" b="b"/>
            <a:pathLst>
              <a:path w="2208" h="408">
                <a:moveTo>
                  <a:pt x="0" y="56"/>
                </a:moveTo>
                <a:cubicBezTo>
                  <a:pt x="28" y="28"/>
                  <a:pt x="56" y="0"/>
                  <a:pt x="192" y="8"/>
                </a:cubicBezTo>
                <a:cubicBezTo>
                  <a:pt x="328" y="16"/>
                  <a:pt x="672" y="72"/>
                  <a:pt x="816" y="104"/>
                </a:cubicBezTo>
                <a:cubicBezTo>
                  <a:pt x="960" y="136"/>
                  <a:pt x="888" y="152"/>
                  <a:pt x="1056" y="200"/>
                </a:cubicBezTo>
                <a:cubicBezTo>
                  <a:pt x="1224" y="248"/>
                  <a:pt x="1632" y="376"/>
                  <a:pt x="1824" y="392"/>
                </a:cubicBezTo>
                <a:cubicBezTo>
                  <a:pt x="2016" y="408"/>
                  <a:pt x="2112" y="352"/>
                  <a:pt x="2208" y="29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78160" y="1790640"/>
            <a:ext cx="17272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5898960" y="1834920"/>
            <a:ext cx="216000" cy="203400"/>
          </a:xfrm>
          <a:custGeom>
            <a:avLst/>
            <a:gdLst>
              <a:gd name="textAreaLeft" fmla="*/ 47520 w 216000"/>
              <a:gd name="textAreaRight" fmla="*/ 168480 w 216000"/>
              <a:gd name="textAreaTop" fmla="*/ 44640 h 203400"/>
              <a:gd name="textAreaBottom" fmla="*/ 158760 h 20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rot="5400000">
            <a:off x="3974040" y="1841400"/>
            <a:ext cx="216000" cy="190440"/>
          </a:xfrm>
          <a:custGeom>
            <a:avLst/>
            <a:gdLst>
              <a:gd name="textAreaLeft" fmla="*/ 47520 w 216000"/>
              <a:gd name="textAreaRight" fmla="*/ 168480 w 216000"/>
              <a:gd name="textAreaTop" fmla="*/ 41760 h 190440"/>
              <a:gd name="textAreaBottom" fmla="*/ 1486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1854360"/>
            <a:ext cx="1701720" cy="469800"/>
          </a:xfrm>
          <a:custGeom>
            <a:avLst/>
            <a:gdLst/>
            <a:ahLst/>
            <a:rect l="l" t="t" r="r" b="b"/>
            <a:pathLst>
              <a:path w="2208" h="408">
                <a:moveTo>
                  <a:pt x="0" y="56"/>
                </a:moveTo>
                <a:cubicBezTo>
                  <a:pt x="28" y="28"/>
                  <a:pt x="56" y="0"/>
                  <a:pt x="192" y="8"/>
                </a:cubicBezTo>
                <a:cubicBezTo>
                  <a:pt x="328" y="16"/>
                  <a:pt x="672" y="72"/>
                  <a:pt x="816" y="104"/>
                </a:cubicBezTo>
                <a:cubicBezTo>
                  <a:pt x="960" y="136"/>
                  <a:pt x="888" y="152"/>
                  <a:pt x="1056" y="200"/>
                </a:cubicBezTo>
                <a:cubicBezTo>
                  <a:pt x="1224" y="248"/>
                  <a:pt x="1632" y="376"/>
                  <a:pt x="1824" y="392"/>
                </a:cubicBezTo>
                <a:cubicBezTo>
                  <a:pt x="2016" y="408"/>
                  <a:pt x="2112" y="352"/>
                  <a:pt x="2208" y="296"/>
                </a:cubicBezTo>
              </a:path>
            </a:pathLst>
          </a:custGeom>
          <a:noFill/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 rot="5400000">
            <a:off x="1890720" y="-458280"/>
            <a:ext cx="407880" cy="3376440"/>
          </a:xfrm>
          <a:custGeom>
            <a:avLst/>
            <a:gdLst>
              <a:gd name="textAreaLeft" fmla="*/ 260640 w 407880"/>
              <a:gd name="textAreaRight" fmla="*/ 408240 w 407880"/>
              <a:gd name="textAreaTop" fmla="*/ 87840 h 3376440"/>
              <a:gd name="textAreaBottom" fmla="*/ 3288600 h 337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5600" y="3059280"/>
            <a:ext cx="726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rot="19898400">
            <a:off x="7745760" y="2057040"/>
            <a:ext cx="432000" cy="120600"/>
          </a:xfrm>
          <a:custGeom>
            <a:avLst/>
            <a:gdLst/>
            <a:ahLst/>
            <a:rect l="l" t="t" r="r" b="b"/>
            <a:pathLst>
              <a:path w="112" h="52">
                <a:moveTo>
                  <a:pt x="112" y="24"/>
                </a:moveTo>
                <a:cubicBezTo>
                  <a:pt x="81" y="38"/>
                  <a:pt x="51" y="52"/>
                  <a:pt x="32" y="48"/>
                </a:cubicBezTo>
                <a:cubicBezTo>
                  <a:pt x="13" y="44"/>
                  <a:pt x="6" y="22"/>
                  <a:pt x="0" y="0"/>
                </a:cubicBezTo>
              </a:path>
            </a:pathLst>
          </a:custGeom>
          <a:noFill/>
          <a:ln w="22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7785000" y="2158920"/>
            <a:ext cx="432000" cy="120600"/>
          </a:xfrm>
          <a:custGeom>
            <a:avLst/>
            <a:gdLst/>
            <a:ahLst/>
            <a:rect l="l" t="t" r="r" b="b"/>
            <a:pathLst>
              <a:path w="112" h="52">
                <a:moveTo>
                  <a:pt x="112" y="24"/>
                </a:moveTo>
                <a:cubicBezTo>
                  <a:pt x="81" y="38"/>
                  <a:pt x="51" y="52"/>
                  <a:pt x="32" y="48"/>
                </a:cubicBezTo>
                <a:cubicBezTo>
                  <a:pt x="13" y="44"/>
                  <a:pt x="6" y="22"/>
                  <a:pt x="0" y="0"/>
                </a:cubicBezTo>
              </a:path>
            </a:pathLst>
          </a:custGeom>
          <a:noFill/>
          <a:ln w="22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rot="1871400">
            <a:off x="7708320" y="2247480"/>
            <a:ext cx="431640" cy="120600"/>
          </a:xfrm>
          <a:custGeom>
            <a:avLst/>
            <a:gdLst/>
            <a:ahLst/>
            <a:rect l="l" t="t" r="r" b="b"/>
            <a:pathLst>
              <a:path w="112" h="52">
                <a:moveTo>
                  <a:pt x="112" y="24"/>
                </a:moveTo>
                <a:cubicBezTo>
                  <a:pt x="81" y="38"/>
                  <a:pt x="51" y="52"/>
                  <a:pt x="32" y="48"/>
                </a:cubicBezTo>
                <a:cubicBezTo>
                  <a:pt x="13" y="44"/>
                  <a:pt x="6" y="22"/>
                  <a:pt x="0" y="0"/>
                </a:cubicBezTo>
              </a:path>
            </a:pathLst>
          </a:custGeom>
          <a:noFill/>
          <a:ln w="22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 rot="5400000">
            <a:off x="5414760" y="-222120"/>
            <a:ext cx="395280" cy="3376440"/>
          </a:xfrm>
          <a:custGeom>
            <a:avLst/>
            <a:gdLst>
              <a:gd name="textAreaLeft" fmla="*/ 252720 w 395280"/>
              <a:gd name="textAreaRight" fmla="*/ 395640 w 395280"/>
              <a:gd name="textAreaTop" fmla="*/ 87840 h 3376440"/>
              <a:gd name="textAreaBottom" fmla="*/ 3288600 h 337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5360" y="404640"/>
            <a:ext cx="35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68440" y="7034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sor 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1880" y="92880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pl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94040" y="209700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elded 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3800" y="1933560"/>
            <a:ext cx="0" cy="1228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7360" y="1949400"/>
            <a:ext cx="0" cy="1228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3560" y="310356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409840" y="3252960"/>
          <a:ext cx="4844880" cy="3286080"/>
        </p:xfrm>
        <a:graphic>
          <a:graphicData uri="http://schemas.openxmlformats.org/drawingml/2006/table">
            <a:tbl>
              <a:tblPr/>
              <a:tblGrid>
                <a:gridCol w="1368360"/>
                <a:gridCol w="1378080"/>
                <a:gridCol w="209844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dy l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ield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-shiel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2085840" y="447840"/>
            <a:ext cx="57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hese type will be realized by R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ep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63640" y="1589040"/>
            <a:ext cx="68580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9960" y="15890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15920" y="15890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92240" y="15890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68560" y="15890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87320" y="1665360"/>
            <a:ext cx="763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54120" y="1843200"/>
            <a:ext cx="1386000" cy="469800"/>
          </a:xfrm>
          <a:custGeom>
            <a:avLst/>
            <a:gdLst/>
            <a:ahLst/>
            <a:rect l="l" t="t" r="r" b="b"/>
            <a:pathLst>
              <a:path w="2208" h="408">
                <a:moveTo>
                  <a:pt x="0" y="56"/>
                </a:moveTo>
                <a:cubicBezTo>
                  <a:pt x="28" y="28"/>
                  <a:pt x="56" y="0"/>
                  <a:pt x="192" y="8"/>
                </a:cubicBezTo>
                <a:cubicBezTo>
                  <a:pt x="328" y="16"/>
                  <a:pt x="672" y="72"/>
                  <a:pt x="816" y="104"/>
                </a:cubicBezTo>
                <a:cubicBezTo>
                  <a:pt x="960" y="136"/>
                  <a:pt x="888" y="152"/>
                  <a:pt x="1056" y="200"/>
                </a:cubicBezTo>
                <a:cubicBezTo>
                  <a:pt x="1224" y="248"/>
                  <a:pt x="1632" y="376"/>
                  <a:pt x="1824" y="392"/>
                </a:cubicBezTo>
                <a:cubicBezTo>
                  <a:pt x="2016" y="408"/>
                  <a:pt x="2112" y="352"/>
                  <a:pt x="2208" y="29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32320" y="2046240"/>
            <a:ext cx="17272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6153120" y="2090880"/>
            <a:ext cx="216000" cy="203040"/>
          </a:xfrm>
          <a:custGeom>
            <a:avLst/>
            <a:gdLst>
              <a:gd name="textAreaLeft" fmla="*/ 47520 w 216000"/>
              <a:gd name="textAreaRight" fmla="*/ 168480 w 216000"/>
              <a:gd name="textAreaTop" fmla="*/ 44640 h 203040"/>
              <a:gd name="textAreaBottom" fmla="*/ 158400 h 20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rot="5400000">
            <a:off x="4228200" y="2097000"/>
            <a:ext cx="216000" cy="190440"/>
          </a:xfrm>
          <a:custGeom>
            <a:avLst/>
            <a:gdLst>
              <a:gd name="textAreaLeft" fmla="*/ 47520 w 216000"/>
              <a:gd name="textAreaRight" fmla="*/ 168480 w 216000"/>
              <a:gd name="textAreaTop" fmla="*/ 41760 h 190440"/>
              <a:gd name="textAreaBottom" fmla="*/ 1486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99280" y="2109960"/>
            <a:ext cx="1701720" cy="469800"/>
          </a:xfrm>
          <a:custGeom>
            <a:avLst/>
            <a:gdLst/>
            <a:ahLst/>
            <a:rect l="l" t="t" r="r" b="b"/>
            <a:pathLst>
              <a:path w="2208" h="408">
                <a:moveTo>
                  <a:pt x="0" y="56"/>
                </a:moveTo>
                <a:cubicBezTo>
                  <a:pt x="28" y="28"/>
                  <a:pt x="56" y="0"/>
                  <a:pt x="192" y="8"/>
                </a:cubicBezTo>
                <a:cubicBezTo>
                  <a:pt x="328" y="16"/>
                  <a:pt x="672" y="72"/>
                  <a:pt x="816" y="104"/>
                </a:cubicBezTo>
                <a:cubicBezTo>
                  <a:pt x="960" y="136"/>
                  <a:pt x="888" y="152"/>
                  <a:pt x="1056" y="200"/>
                </a:cubicBezTo>
                <a:cubicBezTo>
                  <a:pt x="1224" y="248"/>
                  <a:pt x="1632" y="376"/>
                  <a:pt x="1824" y="392"/>
                </a:cubicBezTo>
                <a:cubicBezTo>
                  <a:pt x="2016" y="408"/>
                  <a:pt x="2112" y="352"/>
                  <a:pt x="2208" y="296"/>
                </a:cubicBezTo>
              </a:path>
            </a:pathLst>
          </a:custGeom>
          <a:noFill/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 rot="5400000">
            <a:off x="2144520" y="-202680"/>
            <a:ext cx="407880" cy="3376800"/>
          </a:xfrm>
          <a:custGeom>
            <a:avLst/>
            <a:gdLst>
              <a:gd name="textAreaLeft" fmla="*/ 260640 w 407880"/>
              <a:gd name="textAreaRight" fmla="*/ 408240 w 407880"/>
              <a:gd name="textAreaTop" fmla="*/ 87840 h 3376800"/>
              <a:gd name="textAreaBottom" fmla="*/ 3288960 h 337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rot="19898400">
            <a:off x="8000640" y="2313000"/>
            <a:ext cx="431640" cy="120240"/>
          </a:xfrm>
          <a:custGeom>
            <a:avLst/>
            <a:gdLst/>
            <a:ahLst/>
            <a:rect l="l" t="t" r="r" b="b"/>
            <a:pathLst>
              <a:path w="112" h="52">
                <a:moveTo>
                  <a:pt x="112" y="24"/>
                </a:moveTo>
                <a:cubicBezTo>
                  <a:pt x="81" y="38"/>
                  <a:pt x="51" y="52"/>
                  <a:pt x="32" y="48"/>
                </a:cubicBezTo>
                <a:cubicBezTo>
                  <a:pt x="13" y="44"/>
                  <a:pt x="6" y="22"/>
                  <a:pt x="0" y="0"/>
                </a:cubicBezTo>
              </a:path>
            </a:pathLst>
          </a:custGeom>
          <a:noFill/>
          <a:ln w="22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8038440" y="2414520"/>
            <a:ext cx="431640" cy="120600"/>
          </a:xfrm>
          <a:custGeom>
            <a:avLst/>
            <a:gdLst/>
            <a:ahLst/>
            <a:rect l="l" t="t" r="r" b="b"/>
            <a:pathLst>
              <a:path w="112" h="52">
                <a:moveTo>
                  <a:pt x="112" y="24"/>
                </a:moveTo>
                <a:cubicBezTo>
                  <a:pt x="81" y="38"/>
                  <a:pt x="51" y="52"/>
                  <a:pt x="32" y="48"/>
                </a:cubicBezTo>
                <a:cubicBezTo>
                  <a:pt x="13" y="44"/>
                  <a:pt x="6" y="22"/>
                  <a:pt x="0" y="0"/>
                </a:cubicBezTo>
              </a:path>
            </a:pathLst>
          </a:custGeom>
          <a:noFill/>
          <a:ln w="22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rot="1871400">
            <a:off x="7962480" y="2503440"/>
            <a:ext cx="432000" cy="120240"/>
          </a:xfrm>
          <a:custGeom>
            <a:avLst/>
            <a:gdLst/>
            <a:ahLst/>
            <a:rect l="l" t="t" r="r" b="b"/>
            <a:pathLst>
              <a:path w="112" h="52">
                <a:moveTo>
                  <a:pt x="112" y="24"/>
                </a:moveTo>
                <a:cubicBezTo>
                  <a:pt x="81" y="38"/>
                  <a:pt x="51" y="52"/>
                  <a:pt x="32" y="48"/>
                </a:cubicBezTo>
                <a:cubicBezTo>
                  <a:pt x="13" y="44"/>
                  <a:pt x="6" y="22"/>
                  <a:pt x="0" y="0"/>
                </a:cubicBezTo>
              </a:path>
            </a:pathLst>
          </a:custGeom>
          <a:noFill/>
          <a:ln w="22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 rot="5400000">
            <a:off x="5668920" y="33120"/>
            <a:ext cx="395280" cy="3376800"/>
          </a:xfrm>
          <a:custGeom>
            <a:avLst/>
            <a:gdLst>
              <a:gd name="textAreaLeft" fmla="*/ 252720 w 395280"/>
              <a:gd name="textAreaRight" fmla="*/ 395640 w 395280"/>
              <a:gd name="textAreaTop" fmla="*/ 87840 h 3376800"/>
              <a:gd name="textAreaBottom" fmla="*/ 3288960 h 337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97120" y="2158920"/>
            <a:ext cx="276120" cy="189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35160" y="2158920"/>
            <a:ext cx="276480" cy="189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21202800">
            <a:off x="3294000" y="2181240"/>
            <a:ext cx="960480" cy="93600"/>
          </a:xfrm>
          <a:custGeom>
            <a:avLst/>
            <a:gdLst/>
            <a:ahLst/>
            <a:rect l="l" t="t" r="r" b="b"/>
            <a:pathLst>
              <a:path w="2208" h="408">
                <a:moveTo>
                  <a:pt x="0" y="56"/>
                </a:moveTo>
                <a:cubicBezTo>
                  <a:pt x="28" y="28"/>
                  <a:pt x="56" y="0"/>
                  <a:pt x="192" y="8"/>
                </a:cubicBezTo>
                <a:cubicBezTo>
                  <a:pt x="328" y="16"/>
                  <a:pt x="672" y="72"/>
                  <a:pt x="816" y="104"/>
                </a:cubicBezTo>
                <a:cubicBezTo>
                  <a:pt x="960" y="136"/>
                  <a:pt x="888" y="152"/>
                  <a:pt x="1056" y="200"/>
                </a:cubicBezTo>
                <a:cubicBezTo>
                  <a:pt x="1224" y="248"/>
                  <a:pt x="1632" y="376"/>
                  <a:pt x="1824" y="392"/>
                </a:cubicBezTo>
                <a:cubicBezTo>
                  <a:pt x="2016" y="408"/>
                  <a:pt x="2112" y="352"/>
                  <a:pt x="2208" y="29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0360" y="361800"/>
            <a:ext cx="35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17840" y="97308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sor 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37120" y="119700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pl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95240" y="3298680"/>
            <a:ext cx="72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3800" y="2173320"/>
            <a:ext cx="0" cy="1228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57360" y="2189160"/>
            <a:ext cx="0" cy="1228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7720" y="332748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409840" y="3252960"/>
          <a:ext cx="4844880" cy="3286080"/>
        </p:xfrm>
        <a:graphic>
          <a:graphicData uri="http://schemas.openxmlformats.org/drawingml/2006/table">
            <a:tbl>
              <a:tblPr/>
              <a:tblGrid>
                <a:gridCol w="1368360"/>
                <a:gridCol w="1378080"/>
                <a:gridCol w="209844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dy l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ield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-shiel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1469880" y="229248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elded 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93800" y="265104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8 size conn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85840" y="447840"/>
            <a:ext cx="57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hese type will be realized by R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5:45:40Z</dcterms:created>
  <dc:creator>NHA0019E</dc:creator>
  <dc:description/>
  <dc:language>en-US</dc:language>
  <cp:lastModifiedBy>NHA0019E</cp:lastModifiedBy>
  <dcterms:modified xsi:type="dcterms:W3CDTF">2005-09-07T12:14:23Z</dcterms:modified>
  <cp:revision>13</cp:revision>
  <dc:subject/>
  <dc:title>PowerPoint プレゼンテーション</dc:title>
</cp:coreProperties>
</file>