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029D-624E-41C0-A395-A180EE65D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A7A3-37FA-4323-9A49-1F5AA0278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ED77-9F98-44F2-A99F-ACF728F0A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9A1F-A0A9-4E31-AD22-91F336A6E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5B42-0402-42DE-BE1B-3D6411A67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6914-4A9B-4BD0-AF55-ACAFED887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1E3F-9459-404F-8B62-DF86F27BF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3A88-A4E2-4886-8914-FF5FE1856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11E2-BBAB-40E1-ABBB-44B220792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1AFA-573D-43A9-AA57-14F04FB0D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569D-742C-4DD8-BE34-23CF29972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AC9D-54BC-4295-947C-A20A42234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C6FF3-53C6-4BB9-82C8-7EE60F7156E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21932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unting torque 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371600" y="236232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2A keeps same mounting strength as E2E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71600" y="30481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higher strength is required, we can provide SUS case typ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71600" y="44053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2A has the special structure for fixing between inner body and c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7391520" y="0"/>
            <a:ext cx="17524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ＭＳ Ｐゴシック"/>
              </a:rPr>
              <a:t>Confident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2280" y="160200"/>
            <a:ext cx="2218320" cy="45972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rque limit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990720" y="1676520"/>
            <a:ext cx="2514240" cy="609480"/>
            <a:chOff x="990720" y="1676520"/>
            <a:chExt cx="2514240" cy="609480"/>
          </a:xfrm>
        </p:grpSpPr>
        <p:sp>
          <p:nvSpPr>
            <p:cNvPr id="48" name=""/>
            <p:cNvSpPr/>
            <p:nvPr/>
          </p:nvSpPr>
          <p:spPr>
            <a:xfrm>
              <a:off x="2330640" y="2199960"/>
              <a:ext cx="227880" cy="3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990720" y="1676520"/>
              <a:ext cx="2514240" cy="609480"/>
              <a:chOff x="990720" y="1676520"/>
              <a:chExt cx="2514240" cy="609480"/>
            </a:xfrm>
          </p:grpSpPr>
          <p:sp>
            <p:nvSpPr>
              <p:cNvPr id="50" name=""/>
              <p:cNvSpPr/>
              <p:nvPr/>
            </p:nvSpPr>
            <p:spPr>
              <a:xfrm>
                <a:off x="1996200" y="2234880"/>
                <a:ext cx="3330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2599920" y="1887120"/>
                <a:ext cx="43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2700720" y="1911600"/>
                <a:ext cx="0" cy="23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flipH="1" flipV="1">
                <a:off x="2895840" y="1917360"/>
                <a:ext cx="1800" cy="215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896200" y="1914480"/>
                <a:ext cx="35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2932200" y="1936440"/>
                <a:ext cx="37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972520" y="1914480"/>
                <a:ext cx="36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3008520" y="1918440"/>
                <a:ext cx="0" cy="215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896200" y="2133720"/>
                <a:ext cx="35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932200" y="2112120"/>
                <a:ext cx="30600" cy="2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2972520" y="2133720"/>
                <a:ext cx="3276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563920" y="2149920"/>
                <a:ext cx="36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2646720" y="2147040"/>
                <a:ext cx="50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2563920" y="1915560"/>
                <a:ext cx="36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V="1">
                <a:off x="2599920" y="1887120"/>
                <a:ext cx="0" cy="27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2642760" y="1887120"/>
                <a:ext cx="0" cy="28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2642760" y="1909080"/>
                <a:ext cx="57240" cy="2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V="1">
                <a:off x="990720" y="1676520"/>
                <a:ext cx="42120" cy="6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032840" y="1676520"/>
                <a:ext cx="41040" cy="6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V="1">
                <a:off x="1074240" y="1676520"/>
                <a:ext cx="42120" cy="6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116720" y="1676520"/>
                <a:ext cx="41040" cy="6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V="1">
                <a:off x="1158120" y="1676520"/>
                <a:ext cx="42480" cy="6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1200600" y="1676520"/>
                <a:ext cx="41040" cy="6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V="1">
                <a:off x="1242000" y="1676520"/>
                <a:ext cx="42120" cy="6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284480" y="1676520"/>
                <a:ext cx="41040" cy="6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V="1">
                <a:off x="1325880" y="1676520"/>
                <a:ext cx="42480" cy="6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1368360" y="1676520"/>
                <a:ext cx="41040" cy="6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V="1">
                <a:off x="1409760" y="1676520"/>
                <a:ext cx="42120" cy="6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1451880" y="1676520"/>
                <a:ext cx="41040" cy="6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V="1">
                <a:off x="1493280" y="1676520"/>
                <a:ext cx="42120" cy="6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1535760" y="1676520"/>
                <a:ext cx="41040" cy="6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V="1">
                <a:off x="1577160" y="1676520"/>
                <a:ext cx="42480" cy="6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1619640" y="1676520"/>
                <a:ext cx="42120" cy="6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1662120" y="1676520"/>
                <a:ext cx="41040" cy="6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703520" y="1676520"/>
                <a:ext cx="42120" cy="6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V="1">
                <a:off x="1746000" y="1676520"/>
                <a:ext cx="42480" cy="6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1788480" y="1676520"/>
                <a:ext cx="41040" cy="6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>
                <a:off x="1829880" y="1676520"/>
                <a:ext cx="42120" cy="6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1872000" y="1676520"/>
                <a:ext cx="41040" cy="6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>
                <a:off x="1913400" y="1676520"/>
                <a:ext cx="42480" cy="6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1956240" y="1676520"/>
                <a:ext cx="27360" cy="47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990720" y="2216160"/>
                <a:ext cx="42120" cy="6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>
                <a:off x="1032840" y="2216160"/>
                <a:ext cx="41040" cy="6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074240" y="2216160"/>
                <a:ext cx="42120" cy="6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flipV="1">
                <a:off x="1116720" y="2216160"/>
                <a:ext cx="41040" cy="6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158120" y="2216160"/>
                <a:ext cx="42480" cy="6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flipV="1">
                <a:off x="1200600" y="2216160"/>
                <a:ext cx="41040" cy="6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242000" y="2216160"/>
                <a:ext cx="42120" cy="6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flipV="1">
                <a:off x="1284480" y="2216160"/>
                <a:ext cx="41040" cy="6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325880" y="2216160"/>
                <a:ext cx="42480" cy="6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flipV="1">
                <a:off x="1368360" y="2216160"/>
                <a:ext cx="41040" cy="6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409760" y="2216160"/>
                <a:ext cx="42120" cy="6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flipV="1">
                <a:off x="1451880" y="2216160"/>
                <a:ext cx="41040" cy="6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493280" y="2216160"/>
                <a:ext cx="42120" cy="6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V="1">
                <a:off x="1535760" y="2216160"/>
                <a:ext cx="41040" cy="6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1577160" y="2216160"/>
                <a:ext cx="42480" cy="6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flipV="1">
                <a:off x="1619640" y="2216160"/>
                <a:ext cx="42120" cy="6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662120" y="2216160"/>
                <a:ext cx="41040" cy="6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V="1">
                <a:off x="1703520" y="2216160"/>
                <a:ext cx="42120" cy="6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1746000" y="2216160"/>
                <a:ext cx="42480" cy="6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flipV="1">
                <a:off x="1788480" y="2216160"/>
                <a:ext cx="41040" cy="6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1829880" y="2216160"/>
                <a:ext cx="42120" cy="6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1872000" y="2216160"/>
                <a:ext cx="41040" cy="6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913400" y="2216160"/>
                <a:ext cx="42480" cy="6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1956240" y="2234520"/>
                <a:ext cx="33840" cy="50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990720" y="1748160"/>
                <a:ext cx="0" cy="472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flipV="1">
                <a:off x="2401920" y="1853280"/>
                <a:ext cx="20880" cy="36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V="1">
                <a:off x="2397600" y="1754280"/>
                <a:ext cx="0" cy="98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426040" y="1890000"/>
                <a:ext cx="134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3008520" y="1949760"/>
                <a:ext cx="496440" cy="141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985760" y="1723680"/>
                <a:ext cx="343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332800" y="1755720"/>
                <a:ext cx="6228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002680" y="2217960"/>
                <a:ext cx="324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>
                <a:off x="2563920" y="1890000"/>
                <a:ext cx="0" cy="312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599920" y="2169000"/>
                <a:ext cx="43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>
                <a:off x="2743560" y="1914480"/>
                <a:ext cx="720" cy="21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2744280" y="1914480"/>
                <a:ext cx="36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2780640" y="1936440"/>
                <a:ext cx="38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2819880" y="1914480"/>
                <a:ext cx="36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2855880" y="1918440"/>
                <a:ext cx="0" cy="215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2744280" y="2133720"/>
                <a:ext cx="36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2780640" y="2112120"/>
                <a:ext cx="38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2819880" y="2133720"/>
                <a:ext cx="327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855880" y="1948680"/>
                <a:ext cx="42120" cy="1418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700720" y="1951200"/>
                <a:ext cx="42480" cy="1418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073160" y="1744560"/>
                <a:ext cx="0" cy="47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155960" y="1747440"/>
                <a:ext cx="0" cy="479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1243080" y="1747440"/>
                <a:ext cx="0" cy="479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325880" y="1744560"/>
                <a:ext cx="0" cy="47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408320" y="1747440"/>
                <a:ext cx="0" cy="479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1744560"/>
                <a:ext cx="0" cy="47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578240" y="1747440"/>
                <a:ext cx="0" cy="479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661040" y="1747440"/>
                <a:ext cx="0" cy="479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744920" y="1744560"/>
                <a:ext cx="0" cy="47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827720" y="1744560"/>
                <a:ext cx="0" cy="47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1999440" y="1724400"/>
                <a:ext cx="0" cy="51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2155680" y="1744560"/>
                <a:ext cx="0" cy="469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072880" y="1744560"/>
                <a:ext cx="0" cy="469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1913400" y="1741680"/>
                <a:ext cx="0" cy="479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1999440" y="1741680"/>
                <a:ext cx="324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2242440" y="1741680"/>
                <a:ext cx="0" cy="472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2330640" y="1724400"/>
                <a:ext cx="0" cy="51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2780640" y="1913760"/>
                <a:ext cx="0" cy="212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2819880" y="1913760"/>
                <a:ext cx="0" cy="221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2932200" y="1913760"/>
                <a:ext cx="0" cy="219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2970360" y="1917360"/>
                <a:ext cx="0" cy="21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2422800" y="1890000"/>
                <a:ext cx="0" cy="31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7" name=""/>
          <p:cNvSpPr/>
          <p:nvPr/>
        </p:nvSpPr>
        <p:spPr>
          <a:xfrm>
            <a:off x="1371600" y="1066680"/>
            <a:ext cx="152280" cy="17398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219320" y="1447920"/>
            <a:ext cx="152280" cy="1066680"/>
          </a:xfrm>
          <a:prstGeom prst="rect">
            <a:avLst/>
          </a:prstGeom>
          <a:solidFill>
            <a:srgbClr val="b2b2b2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523880" y="1447920"/>
            <a:ext cx="152640" cy="1066680"/>
          </a:xfrm>
          <a:prstGeom prst="rect">
            <a:avLst/>
          </a:prstGeom>
          <a:solidFill>
            <a:srgbClr val="b2b2b2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09480" y="1295280"/>
            <a:ext cx="381240" cy="1600200"/>
          </a:xfrm>
          <a:custGeom>
            <a:avLst/>
            <a:gdLst>
              <a:gd name="textAreaLeft" fmla="*/ 51120 w 381240"/>
              <a:gd name="textAreaRight" fmla="*/ 330120 w 381240"/>
              <a:gd name="textAreaTop" fmla="*/ 280080 h 1600200"/>
              <a:gd name="textAreaBottom" fmla="*/ 116028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33280" y="838080"/>
            <a:ext cx="161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ght by torque wren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1295280" y="114300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1600200" y="1143000"/>
            <a:ext cx="15228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832040" y="1000080"/>
            <a:ext cx="102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ached nu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768320" y="4792680"/>
            <a:ext cx="263520" cy="146844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38360" y="4568760"/>
            <a:ext cx="579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98680" y="4984920"/>
            <a:ext cx="122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498680" y="4557600"/>
            <a:ext cx="122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65160" y="4815000"/>
            <a:ext cx="55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65160" y="4387680"/>
            <a:ext cx="55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27480" y="5240160"/>
            <a:ext cx="266760" cy="10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498680" y="430200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8680" y="5838840"/>
            <a:ext cx="122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498680" y="5411880"/>
            <a:ext cx="122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65160" y="5240160"/>
            <a:ext cx="55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65160" y="5667480"/>
            <a:ext cx="55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298600" y="4799160"/>
            <a:ext cx="266760" cy="14666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32120" y="5070600"/>
            <a:ext cx="266760" cy="1195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848040" y="5419800"/>
            <a:ext cx="2667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197080" y="458136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670200" y="5202360"/>
            <a:ext cx="62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692440" y="4827600"/>
            <a:ext cx="563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200400" y="500868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052000" y="3962520"/>
            <a:ext cx="8726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12 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822760" y="380880"/>
            <a:ext cx="48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2A keeps high strength same as E2E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384200" y="2844720"/>
            <a:ext cx="0" cy="266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523880" y="2857680"/>
            <a:ext cx="0" cy="26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143000" y="3022560"/>
            <a:ext cx="851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582920" y="2781360"/>
            <a:ext cx="49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m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210280" y="1198440"/>
            <a:ext cx="0" cy="20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222880" y="2441520"/>
            <a:ext cx="12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10280" y="1508040"/>
            <a:ext cx="12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02320" y="1378080"/>
            <a:ext cx="58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702320" y="2273400"/>
            <a:ext cx="579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997600" y="2066760"/>
            <a:ext cx="277920" cy="1219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986520" y="2808360"/>
            <a:ext cx="292320" cy="477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488360" y="2800440"/>
            <a:ext cx="287280" cy="48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257800" y="1797120"/>
            <a:ext cx="603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１４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851440" y="1822320"/>
            <a:ext cx="55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１４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397640" y="2557440"/>
            <a:ext cx="4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６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348240" y="2190600"/>
            <a:ext cx="587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１０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853320" y="2565360"/>
            <a:ext cx="569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６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rot="10800000">
            <a:off x="4503240" y="1019160"/>
            <a:ext cx="362880" cy="13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oken limit (N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442120" y="2041560"/>
            <a:ext cx="277560" cy="124452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521400" y="2435400"/>
            <a:ext cx="277920" cy="85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788080" y="1003320"/>
            <a:ext cx="8269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8  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8021520" y="2800440"/>
            <a:ext cx="287280" cy="48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931160" y="2557440"/>
            <a:ext cx="4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６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184720" y="4162320"/>
            <a:ext cx="0" cy="190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184720" y="5241960"/>
            <a:ext cx="154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653000" y="5075280"/>
            <a:ext cx="70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522760" y="4910040"/>
            <a:ext cx="281160" cy="116388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045120" y="4915080"/>
            <a:ext cx="290520" cy="1160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583320" y="4910040"/>
            <a:ext cx="276120" cy="1160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410080" y="4494240"/>
            <a:ext cx="53676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5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ore than 7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184720" y="4411800"/>
            <a:ext cx="154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52920" y="4272120"/>
            <a:ext cx="816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647320" y="3987720"/>
            <a:ext cx="12992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18, M30 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078680" y="4910040"/>
            <a:ext cx="276120" cy="1160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8018640" y="5176800"/>
            <a:ext cx="276120" cy="89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899480" y="4879440"/>
            <a:ext cx="803160" cy="1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5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55(M18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574040" y="4910040"/>
            <a:ext cx="276120" cy="1160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992280" y="1359720"/>
            <a:ext cx="106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S cas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342040" y="4321080"/>
            <a:ext cx="2786040" cy="711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567400" y="5321160"/>
            <a:ext cx="2290680" cy="551160"/>
          </a:xfrm>
          <a:prstGeom prst="wedgeRectCallout">
            <a:avLst>
              <a:gd name="adj1" fmla="val -37939"/>
              <a:gd name="adj2" fmla="val -133287"/>
            </a:avLst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70 Nm is threshold limit value on hand wrench fixing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rot="10800000">
            <a:off x="685440" y="4495680"/>
            <a:ext cx="362880" cy="13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oken limit (N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rot="10800000">
            <a:off x="4463640" y="4141800"/>
            <a:ext cx="362880" cy="13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oken limit (N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948280" y="4467240"/>
            <a:ext cx="53676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5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ore than 7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445080" y="4494240"/>
            <a:ext cx="53676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5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ore than 7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969240" y="4494240"/>
            <a:ext cx="53640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5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ore than 7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453440" y="4508640"/>
            <a:ext cx="53640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5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ore than 7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199120" y="328608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186520" y="337176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2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19680" y="337176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2E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866000" y="32860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064280" y="3341520"/>
            <a:ext cx="484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y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405480" y="3341520"/>
            <a:ext cx="685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AMATA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548480" y="335124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929720" y="3417840"/>
            <a:ext cx="6364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+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487520" y="626904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474920" y="635472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2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008080" y="635472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2E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154400" y="626904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352680" y="6324480"/>
            <a:ext cx="484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y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693880" y="6324480"/>
            <a:ext cx="685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AMATA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836880" y="633420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194440" y="60786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346720" y="616428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2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880240" y="616428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2E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861320" y="60786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24840" y="6134040"/>
            <a:ext cx="484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yence    E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66040" y="6134040"/>
            <a:ext cx="685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AMATAKE      FL7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709040" y="6143760"/>
            <a:ext cx="533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M  IG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8089920" y="621036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P+F   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ＮＢＢ５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5" name=""/>
          <p:cNvGraphicFramePr/>
          <p:nvPr/>
        </p:nvGraphicFramePr>
        <p:xfrm>
          <a:off x="817560" y="1762200"/>
          <a:ext cx="3583080" cy="222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7560" y="1762200"/>
                    <a:ext cx="3583080" cy="22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7" name=""/>
          <p:cNvSpPr/>
          <p:nvPr/>
        </p:nvSpPr>
        <p:spPr>
          <a:xfrm>
            <a:off x="3301920" y="343080"/>
            <a:ext cx="4043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special slot was added to case in order to fix between case and inner bod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120760" y="1803240"/>
            <a:ext cx="1371600" cy="1295640"/>
          </a:xfrm>
          <a:prstGeom prst="ellipse">
            <a:avLst/>
          </a:prstGeom>
          <a:noFill/>
          <a:ln w="572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rot="8973000">
            <a:off x="2986200" y="1606320"/>
            <a:ext cx="1541520" cy="582480"/>
          </a:xfrm>
          <a:prstGeom prst="rightArrow">
            <a:avLst>
              <a:gd name="adj1" fmla="val 50000"/>
              <a:gd name="adj2" fmla="val 66162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31480" y="312840"/>
            <a:ext cx="2902680" cy="45972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ing method of 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860640" y="2425680"/>
            <a:ext cx="491364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structure avoids to be loose the fixing between case and inner bod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 It’s the original structure by OMRON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9T17:23:22Z</dcterms:created>
  <dc:creator>tankaz</dc:creator>
  <dc:description/>
  <dc:language>en-US</dc:language>
  <cp:lastModifiedBy>NHA0019E</cp:lastModifiedBy>
  <dcterms:modified xsi:type="dcterms:W3CDTF">2005-02-23T13:06:49Z</dcterms:modified>
  <cp:revision>8</cp:revision>
  <dc:subject/>
  <dc:title>PowerPoint プレゼンテーション</dc:title>
</cp:coreProperties>
</file>