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1B09-AC2D-4389-A8F6-BB42E4440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31AF-19D4-4A59-8629-5388E3D5B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D4CE-21A7-4CC8-8837-825601B7D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EF45-E1B3-4ED2-AA2C-ADA1187B8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E287-9BDF-4A72-B8BC-698E69275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8F32-557A-458F-9069-7536451F9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A007-2FFE-426C-A930-684A62F0D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454C-0A87-42C1-9BCA-EFA196745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FD08-9BE4-4ED0-B4E0-9C8FE79F3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6DBA-18EC-40CD-8CFD-3207EB3F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3803-7894-4249-A366-03D58256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0BBF-F1A4-4B8D-AEEE-77939806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DCACD-B2F0-4429-BAB3-5E9415CF7D5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09760" y="536400"/>
            <a:ext cx="5500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 concept for E2A 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proximity sensor 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984400" y="3213000"/>
            <a:ext cx="55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ule concep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111560" y="3724200"/>
            <a:ext cx="439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er cost 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095720" y="4305240"/>
            <a:ext cx="55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rt lead time 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90760" y="262080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dividual desig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73600" y="2716200"/>
            <a:ext cx="752400" cy="322200"/>
          </a:xfrm>
          <a:prstGeom prst="rightArrow">
            <a:avLst>
              <a:gd name="adj1" fmla="val 50000"/>
              <a:gd name="adj2" fmla="val 583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51200" y="2620800"/>
            <a:ext cx="360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dule combin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476360" y="4979880"/>
            <a:ext cx="7485120" cy="1463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810400" y="871560"/>
            <a:ext cx="3136680" cy="14349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648400" y="5094360"/>
            <a:ext cx="318780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rter delivery time for custom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950160" y="3121200"/>
            <a:ext cx="2361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reli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cust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043000" y="5106960"/>
            <a:ext cx="304812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cost-effect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64120" y="123336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) Products consist of 4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5320" y="671400"/>
            <a:ext cx="23097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vidual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292000" y="658800"/>
            <a:ext cx="2733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ule comb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52800" y="717480"/>
            <a:ext cx="2179440" cy="309600"/>
          </a:xfrm>
          <a:prstGeom prst="rightArrow">
            <a:avLst>
              <a:gd name="adj1" fmla="val 50000"/>
              <a:gd name="adj2" fmla="val 175988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04080" y="1635120"/>
            <a:ext cx="294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Century"/>
              </a:rPr>
              <a:t>2) Sensing spec is depend on  only Sensing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6000" y="3597120"/>
            <a:ext cx="318744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automatic process for sensing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3841800">
            <a:off x="4034160" y="545400"/>
            <a:ext cx="365400" cy="2306520"/>
          </a:xfrm>
          <a:prstGeom prst="downArrow">
            <a:avLst>
              <a:gd name="adj1" fmla="val 51407"/>
              <a:gd name="adj2" fmla="val 114148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1966200">
            <a:off x="5108040" y="1208160"/>
            <a:ext cx="411480" cy="1087200"/>
          </a:xfrm>
          <a:prstGeom prst="downArrow">
            <a:avLst>
              <a:gd name="adj1" fmla="val 50000"/>
              <a:gd name="adj2" fmla="val 66054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9318800">
            <a:off x="1685880" y="4447800"/>
            <a:ext cx="352440" cy="6620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49600" y="2265480"/>
            <a:ext cx="204804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tion the variety of p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0040" y="2265480"/>
            <a:ext cx="320220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tion the variety of sensing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76360" y="3170160"/>
            <a:ext cx="352440" cy="408240"/>
          </a:xfrm>
          <a:prstGeom prst="downArrow">
            <a:avLst>
              <a:gd name="adj1" fmla="val 50000"/>
              <a:gd name="adj2" fmla="val 28958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49600" y="3602160"/>
            <a:ext cx="245592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tion the parts control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 rot="2281200">
            <a:off x="4738680" y="4476240"/>
            <a:ext cx="352440" cy="6620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53160" y="3129120"/>
            <a:ext cx="352080" cy="407880"/>
          </a:xfrm>
          <a:prstGeom prst="downArrow">
            <a:avLst>
              <a:gd name="adj1" fmla="val 50000"/>
              <a:gd name="adj2" fmla="val 28962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724800" y="2378160"/>
            <a:ext cx="393480" cy="2644560"/>
          </a:xfrm>
          <a:prstGeom prst="downArrow">
            <a:avLst>
              <a:gd name="adj1" fmla="val 50000"/>
              <a:gd name="adj2" fmla="val 112016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6000" y="30960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d concep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54680" y="28116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w concep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14400" y="5611680"/>
            <a:ext cx="4332240" cy="104796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33680" y="5892840"/>
            <a:ext cx="310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Benefit for Custo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19200" y="4753080"/>
            <a:ext cx="619200" cy="18795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844560" y="1204920"/>
            <a:ext cx="283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) Each parts for each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121440" y="5100480"/>
            <a:ext cx="2793960" cy="115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- Cable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；　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2m, 5m, 10m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　　　　　　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Robot 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　　　　　　　（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PUR Halone-free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- pig 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578640" y="4898880"/>
            <a:ext cx="1938240" cy="3373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nnection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057400" y="2155680"/>
          <a:ext cx="4495680" cy="304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155680"/>
                    <a:ext cx="4495680" cy="30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2971800" y="4975200"/>
          <a:ext cx="990720" cy="96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4975200"/>
                    <a:ext cx="99072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6051960" y="2234520"/>
            <a:ext cx="297720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・ＤＣ２Ｗ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　　　ＮＯ、ＮＣ、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non-polarity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・ＤＣ３Ｗ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　　　ＮＯ、ＮＣ、ＰＮＰ、ＮＰＮ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Voltage output, Open coll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・ＡＣ２Ｗ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・ＡＣＤＣ２Ｗ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5880" y="1905120"/>
            <a:ext cx="177804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 put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114800" y="3451320"/>
            <a:ext cx="1143000" cy="83808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1548000">
            <a:off x="2895120" y="2689200"/>
            <a:ext cx="1600200" cy="106668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2514600" y="457200"/>
            <a:ext cx="457200" cy="1600200"/>
          </a:xfrm>
          <a:prstGeom prst="line">
            <a:avLst/>
          </a:prstGeom>
          <a:ln w="38160">
            <a:solidFill>
              <a:srgbClr val="ff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4876920" y="2286000"/>
            <a:ext cx="1295280" cy="11653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191120" y="533520"/>
            <a:ext cx="1828800" cy="238428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6476760" y="4594320"/>
            <a:ext cx="685800" cy="38088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447920" y="2994120"/>
          <a:ext cx="838080" cy="804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47920" y="2994120"/>
                    <a:ext cx="838080" cy="80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152280" y="4365720"/>
          <a:ext cx="838440" cy="804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280" y="4365720"/>
                    <a:ext cx="838440" cy="80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 rot="20080800">
            <a:off x="1600200" y="5432400"/>
            <a:ext cx="762120" cy="533520"/>
          </a:xfrm>
          <a:prstGeom prst="ellipse">
            <a:avLst/>
          </a:prstGeom>
          <a:solidFill>
            <a:srgbClr val="dad88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762120" y="3603600"/>
          <a:ext cx="914400" cy="828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2120" y="3603600"/>
                    <a:ext cx="9144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 rot="20080800">
            <a:off x="2209680" y="4670280"/>
            <a:ext cx="762120" cy="533520"/>
          </a:xfrm>
          <a:prstGeom prst="ellipse">
            <a:avLst/>
          </a:prstGeom>
          <a:solidFill>
            <a:srgbClr val="b2b2b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657600" y="4289400"/>
          <a:ext cx="990720" cy="968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657600" y="4289400"/>
                    <a:ext cx="99072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 rot="20080800">
            <a:off x="3352680" y="4289400"/>
            <a:ext cx="762120" cy="533520"/>
          </a:xfrm>
          <a:prstGeom prst="ellipse">
            <a:avLst/>
          </a:prstGeom>
          <a:solidFill>
            <a:srgbClr val="b2b2b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362320" y="5813280"/>
          <a:ext cx="990360" cy="968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362320" y="5813280"/>
                    <a:ext cx="99036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2" name="" descr=""/>
          <p:cNvPicPr/>
          <p:nvPr/>
        </p:nvPicPr>
        <p:blipFill>
          <a:blip r:embed="rId15"/>
          <a:stretch/>
        </p:blipFill>
        <p:spPr>
          <a:xfrm>
            <a:off x="4572000" y="4975200"/>
            <a:ext cx="1447920" cy="10764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6"/>
          <a:stretch/>
        </p:blipFill>
        <p:spPr>
          <a:xfrm>
            <a:off x="3962520" y="5661000"/>
            <a:ext cx="1400040" cy="9619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952880" y="3832200"/>
            <a:ext cx="1524240" cy="1219320"/>
          </a:xfrm>
          <a:prstGeom prst="ellipse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279840" y="459720"/>
            <a:ext cx="3008880" cy="137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・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ss barrel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；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hort body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　　　　　　　　　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ng body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・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ainless barr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・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flon coating barr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・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flon barr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・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lastic barr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967360" y="152280"/>
            <a:ext cx="1752480" cy="3373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ody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8120" y="506160"/>
            <a:ext cx="2136600" cy="9464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Distance ra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1, x2, x3(pla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Different frequen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Teflon coating 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057400" y="2003400"/>
            <a:ext cx="1143000" cy="1143000"/>
          </a:xfrm>
          <a:prstGeom prst="ellipse">
            <a:avLst/>
          </a:prstGeom>
          <a:noFill/>
          <a:ln w="2844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971800" y="152280"/>
            <a:ext cx="1638360" cy="33732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sing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" y="304920"/>
            <a:ext cx="2819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entury"/>
              </a:rPr>
              <a:t>Flexible Comb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533520" y="1600200"/>
          <a:ext cx="800100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00200"/>
                    <a:ext cx="800100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2278080" y="860400"/>
            <a:ext cx="9968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Coil c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802880" y="1143000"/>
            <a:ext cx="722520" cy="730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00400" y="1219320"/>
            <a:ext cx="10666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Spoo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76720" y="1600200"/>
            <a:ext cx="129996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Ferrite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95800" y="2400480"/>
            <a:ext cx="1755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Sensing 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ＩＣ、ＰＷ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248000" y="2809800"/>
            <a:ext cx="533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F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07240" y="3392640"/>
            <a:ext cx="2706480" cy="63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Base metal c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( Brass, SUS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238880" y="4343400"/>
            <a:ext cx="124956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Cable clum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905120" y="1371600"/>
            <a:ext cx="12952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2514240" y="1752480"/>
            <a:ext cx="7621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952720" y="2685960"/>
            <a:ext cx="362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609720" y="3095640"/>
            <a:ext cx="65700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5562360" y="3714840"/>
            <a:ext cx="471240" cy="47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6781680" y="449568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543800" y="4952880"/>
            <a:ext cx="123660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Cable prot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7162920" y="51055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305920" y="5638680"/>
            <a:ext cx="8380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c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7696080" y="5791320"/>
            <a:ext cx="6098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1247760"/>
            <a:ext cx="2895840" cy="21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"/>
              </a:rPr>
              <a:t>Sensing Mo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3049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"/>
              </a:rPr>
              <a:t>E2A Technology Inno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" y="685800"/>
            <a:ext cx="8458200" cy="76320"/>
          </a:xfrm>
          <a:prstGeom prst="rect">
            <a:avLst/>
          </a:prstGeom>
          <a:gradFill rotWithShape="0">
            <a:gsLst>
              <a:gs pos="0">
                <a:srgbClr val="2f2f75"/>
              </a:gs>
              <a:gs pos="50000">
                <a:srgbClr val="6666ff"/>
              </a:gs>
              <a:gs pos="100000">
                <a:srgbClr val="2f2f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2160000">
            <a:off x="2663640" y="3044520"/>
            <a:ext cx="155520" cy="1555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efefe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2160000">
            <a:off x="3955680" y="3809880"/>
            <a:ext cx="158760" cy="1555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efefe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2160000">
            <a:off x="4190760" y="3962520"/>
            <a:ext cx="75960" cy="152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05520" y="2857680"/>
            <a:ext cx="19810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OUTPIUT 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ＩＣ、ＰＷ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3962160" y="3152880"/>
            <a:ext cx="1152360" cy="657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614840" y="488880"/>
          <a:ext cx="3038400" cy="97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14840" y="488880"/>
                    <a:ext cx="3038400" cy="9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2384280" y="2935440"/>
            <a:ext cx="489240" cy="250560"/>
          </a:xfrm>
          <a:custGeom>
            <a:avLst/>
            <a:gdLst/>
            <a:ahLst/>
            <a:rect l="l" t="t" r="r" b="b"/>
            <a:pathLst>
              <a:path w="308" h="158">
                <a:moveTo>
                  <a:pt x="0" y="103"/>
                </a:moveTo>
                <a:cubicBezTo>
                  <a:pt x="35" y="91"/>
                  <a:pt x="61" y="75"/>
                  <a:pt x="95" y="64"/>
                </a:cubicBezTo>
                <a:cubicBezTo>
                  <a:pt x="124" y="21"/>
                  <a:pt x="95" y="53"/>
                  <a:pt x="134" y="32"/>
                </a:cubicBezTo>
                <a:cubicBezTo>
                  <a:pt x="151" y="23"/>
                  <a:pt x="182" y="1"/>
                  <a:pt x="182" y="1"/>
                </a:cubicBezTo>
                <a:cubicBezTo>
                  <a:pt x="190" y="3"/>
                  <a:pt x="202" y="0"/>
                  <a:pt x="205" y="8"/>
                </a:cubicBezTo>
                <a:cubicBezTo>
                  <a:pt x="206" y="10"/>
                  <a:pt x="197" y="64"/>
                  <a:pt x="190" y="72"/>
                </a:cubicBezTo>
                <a:cubicBezTo>
                  <a:pt x="180" y="85"/>
                  <a:pt x="156" y="90"/>
                  <a:pt x="142" y="95"/>
                </a:cubicBezTo>
                <a:cubicBezTo>
                  <a:pt x="116" y="113"/>
                  <a:pt x="92" y="117"/>
                  <a:pt x="63" y="127"/>
                </a:cubicBezTo>
                <a:cubicBezTo>
                  <a:pt x="79" y="80"/>
                  <a:pt x="123" y="70"/>
                  <a:pt x="166" y="56"/>
                </a:cubicBezTo>
                <a:cubicBezTo>
                  <a:pt x="182" y="51"/>
                  <a:pt x="213" y="40"/>
                  <a:pt x="213" y="40"/>
                </a:cubicBezTo>
                <a:cubicBezTo>
                  <a:pt x="229" y="43"/>
                  <a:pt x="248" y="38"/>
                  <a:pt x="261" y="48"/>
                </a:cubicBezTo>
                <a:cubicBezTo>
                  <a:pt x="268" y="53"/>
                  <a:pt x="259" y="66"/>
                  <a:pt x="253" y="72"/>
                </a:cubicBezTo>
                <a:cubicBezTo>
                  <a:pt x="208" y="116"/>
                  <a:pt x="139" y="126"/>
                  <a:pt x="87" y="158"/>
                </a:cubicBezTo>
                <a:cubicBezTo>
                  <a:pt x="108" y="97"/>
                  <a:pt x="211" y="99"/>
                  <a:pt x="261" y="95"/>
                </a:cubicBezTo>
                <a:cubicBezTo>
                  <a:pt x="303" y="86"/>
                  <a:pt x="287" y="87"/>
                  <a:pt x="308" y="87"/>
                </a:cubicBezTo>
              </a:path>
            </a:pathLst>
          </a:custGeom>
          <a:noFill/>
          <a:ln w="223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314880" y="2009880"/>
            <a:ext cx="151416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Winded shie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2685600" y="2286000"/>
            <a:ext cx="638280" cy="75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M12CNL" descr=""/>
          <p:cNvPicPr/>
          <p:nvPr/>
        </p:nvPicPr>
        <p:blipFill>
          <a:blip r:embed="rId5"/>
          <a:stretch/>
        </p:blipFill>
        <p:spPr>
          <a:xfrm>
            <a:off x="4694400" y="1420920"/>
            <a:ext cx="2693880" cy="6444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8077320" y="1079640"/>
            <a:ext cx="106668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Filling res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5805000" y="838080"/>
            <a:ext cx="2266920" cy="40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5892480" y="1228680"/>
            <a:ext cx="214164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0440" y="3495600"/>
            <a:ext cx="17528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"/>
              </a:rPr>
              <a:t>Optimized sha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98320" y="3817800"/>
            <a:ext cx="26672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"/>
              </a:rPr>
              <a:t>Less effect of base metal c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8320" y="4140360"/>
            <a:ext cx="220356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"/>
              </a:rPr>
              <a:t>High accuracy assemb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98320" y="4462560"/>
            <a:ext cx="220356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"/>
              </a:rPr>
              <a:t>Lower cost noise shie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38400" y="4867200"/>
            <a:ext cx="520560" cy="563760"/>
          </a:xfrm>
          <a:prstGeom prst="downArrow">
            <a:avLst>
              <a:gd name="adj1" fmla="val 50000"/>
              <a:gd name="adj2" fmla="val 2707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5360" y="5189400"/>
            <a:ext cx="4332240" cy="1668600"/>
          </a:xfrm>
          <a:prstGeom prst="irregularSeal1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50920" y="5643720"/>
            <a:ext cx="294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Century"/>
              </a:rPr>
              <a:t>Sensing spec is depend on only Sensing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04920" y="546120"/>
            <a:ext cx="8610480" cy="6032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4470480" y="533520"/>
            <a:ext cx="25200" cy="6057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1560" y="6304680"/>
            <a:ext cx="2313720" cy="36828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■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Environment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896440" y="521640"/>
            <a:ext cx="3162960" cy="36828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■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Improve the water-pro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5257440" y="251460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47400" y="1623960"/>
            <a:ext cx="3640320" cy="73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i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 Take a long distance of water-invasion 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 New material bonds the plastic and cabl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46440" y="965160"/>
            <a:ext cx="4156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The product-tail design change the structure and materials.  </a:t>
            </a:r>
            <a:r>
              <a:rPr b="1" lang="zh-CN" sz="14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35960" y="5871600"/>
            <a:ext cx="20887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Reduce the lead me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1968480" cy="21337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914400" y="1650960"/>
            <a:ext cx="888840" cy="1270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3505320"/>
            <a:ext cx="8610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2743200" y="2819520"/>
            <a:ext cx="3886200" cy="1294560"/>
            <a:chOff x="2743200" y="2819520"/>
            <a:chExt cx="3886200" cy="1294560"/>
          </a:xfrm>
        </p:grpSpPr>
        <p:sp>
          <p:nvSpPr>
            <p:cNvPr id="167" name=""/>
            <p:cNvSpPr/>
            <p:nvPr/>
          </p:nvSpPr>
          <p:spPr>
            <a:xfrm>
              <a:off x="3337200" y="2963520"/>
              <a:ext cx="2114640" cy="973440"/>
            </a:xfrm>
            <a:custGeom>
              <a:avLst/>
              <a:gdLst/>
              <a:ahLst/>
              <a:rect l="l" t="t" r="r" b="b"/>
              <a:pathLst>
                <a:path w="106" h="66">
                  <a:moveTo>
                    <a:pt x="5" y="0"/>
                  </a:moveTo>
                  <a:cubicBezTo>
                    <a:pt x="4" y="2"/>
                    <a:pt x="3" y="4"/>
                    <a:pt x="2" y="6"/>
                  </a:cubicBezTo>
                  <a:cubicBezTo>
                    <a:pt x="0" y="12"/>
                    <a:pt x="0" y="20"/>
                    <a:pt x="2" y="26"/>
                  </a:cubicBezTo>
                  <a:cubicBezTo>
                    <a:pt x="3" y="29"/>
                    <a:pt x="5" y="34"/>
                    <a:pt x="5" y="34"/>
                  </a:cubicBezTo>
                  <a:cubicBezTo>
                    <a:pt x="4" y="45"/>
                    <a:pt x="3" y="55"/>
                    <a:pt x="3" y="66"/>
                  </a:cubicBezTo>
                  <a:lnTo>
                    <a:pt x="76" y="63"/>
                  </a:lnTo>
                  <a:lnTo>
                    <a:pt x="96" y="59"/>
                  </a:lnTo>
                  <a:lnTo>
                    <a:pt x="103" y="58"/>
                  </a:lnTo>
                  <a:cubicBezTo>
                    <a:pt x="105" y="56"/>
                    <a:pt x="100" y="52"/>
                    <a:pt x="100" y="50"/>
                  </a:cubicBezTo>
                  <a:cubicBezTo>
                    <a:pt x="99" y="44"/>
                    <a:pt x="100" y="43"/>
                    <a:pt x="99" y="37"/>
                  </a:cubicBezTo>
                  <a:cubicBezTo>
                    <a:pt x="99" y="33"/>
                    <a:pt x="98" y="23"/>
                    <a:pt x="100" y="20"/>
                  </a:cubicBezTo>
                  <a:cubicBezTo>
                    <a:pt x="101" y="17"/>
                    <a:pt x="106" y="8"/>
                    <a:pt x="104" y="7"/>
                  </a:cubicBezTo>
                  <a:lnTo>
                    <a:pt x="88" y="6"/>
                  </a:lnTo>
                  <a:lnTo>
                    <a:pt x="71" y="0"/>
                  </a:lnTo>
                  <a:lnTo>
                    <a:pt x="5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10800000">
              <a:off x="2836080" y="3349800"/>
              <a:ext cx="857880" cy="461520"/>
            </a:xfrm>
            <a:custGeom>
              <a:avLst/>
              <a:gdLst/>
              <a:ahLst/>
              <a:rect l="l" t="t" r="r" b="b"/>
              <a:pathLst>
                <a:path w="54" h="39">
                  <a:moveTo>
                    <a:pt x="45" y="0"/>
                  </a:moveTo>
                  <a:lnTo>
                    <a:pt x="0" y="0"/>
                  </a:lnTo>
                  <a:lnTo>
                    <a:pt x="0" y="28"/>
                  </a:lnTo>
                  <a:cubicBezTo>
                    <a:pt x="41" y="26"/>
                    <a:pt x="54" y="39"/>
                    <a:pt x="44" y="23"/>
                  </a:cubicBezTo>
                  <a:cubicBezTo>
                    <a:pt x="41" y="18"/>
                    <a:pt x="46" y="27"/>
                    <a:pt x="42" y="20"/>
                  </a:cubicBezTo>
                  <a:cubicBezTo>
                    <a:pt x="42" y="17"/>
                    <a:pt x="46" y="4"/>
                    <a:pt x="45" y="0"/>
                  </a:cubicBez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22360" y="3407040"/>
              <a:ext cx="552600" cy="234720"/>
            </a:xfrm>
            <a:custGeom>
              <a:avLst/>
              <a:gdLst/>
              <a:ahLst/>
              <a:rect l="l" t="t" r="r" b="b"/>
              <a:pathLst>
                <a:path w="140" h="11">
                  <a:moveTo>
                    <a:pt x="0" y="1"/>
                  </a:moveTo>
                  <a:cubicBezTo>
                    <a:pt x="3" y="1"/>
                    <a:pt x="12" y="0"/>
                    <a:pt x="21" y="1"/>
                  </a:cubicBezTo>
                  <a:cubicBezTo>
                    <a:pt x="30" y="2"/>
                    <a:pt x="46" y="4"/>
                    <a:pt x="55" y="6"/>
                  </a:cubicBezTo>
                  <a:cubicBezTo>
                    <a:pt x="64" y="8"/>
                    <a:pt x="67" y="11"/>
                    <a:pt x="77" y="10"/>
                  </a:cubicBezTo>
                  <a:cubicBezTo>
                    <a:pt x="87" y="9"/>
                    <a:pt x="103" y="2"/>
                    <a:pt x="113" y="1"/>
                  </a:cubicBezTo>
                  <a:cubicBezTo>
                    <a:pt x="123" y="0"/>
                    <a:pt x="135" y="1"/>
                    <a:pt x="140" y="1"/>
                  </a:cubicBezTo>
                </a:path>
              </a:pathLst>
            </a:custGeom>
            <a:noFill/>
            <a:ln w="255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254560" y="3445560"/>
              <a:ext cx="1082520" cy="568800"/>
            </a:xfrm>
            <a:custGeom>
              <a:avLst/>
              <a:gdLst/>
              <a:ahLst/>
              <a:rect l="l" t="t" r="r" b="b"/>
              <a:pathLst>
                <a:path w="964" h="426">
                  <a:moveTo>
                    <a:pt x="0" y="416"/>
                  </a:moveTo>
                  <a:lnTo>
                    <a:pt x="328" y="426"/>
                  </a:lnTo>
                  <a:lnTo>
                    <a:pt x="455" y="358"/>
                  </a:lnTo>
                  <a:lnTo>
                    <a:pt x="659" y="306"/>
                  </a:lnTo>
                  <a:lnTo>
                    <a:pt x="754" y="281"/>
                  </a:lnTo>
                  <a:lnTo>
                    <a:pt x="907" y="269"/>
                  </a:lnTo>
                  <a:lnTo>
                    <a:pt x="954" y="269"/>
                  </a:lnTo>
                  <a:lnTo>
                    <a:pt x="964" y="0"/>
                  </a:lnTo>
                  <a:lnTo>
                    <a:pt x="10" y="0"/>
                  </a:lnTo>
                  <a:lnTo>
                    <a:pt x="0" y="41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248800" y="2935800"/>
              <a:ext cx="1088280" cy="554040"/>
            </a:xfrm>
            <a:custGeom>
              <a:avLst/>
              <a:gdLst/>
              <a:ahLst/>
              <a:rect l="l" t="t" r="r" b="b"/>
              <a:pathLst>
                <a:path w="969" h="415">
                  <a:moveTo>
                    <a:pt x="0" y="3"/>
                  </a:moveTo>
                  <a:lnTo>
                    <a:pt x="341" y="0"/>
                  </a:lnTo>
                  <a:lnTo>
                    <a:pt x="498" y="59"/>
                  </a:lnTo>
                  <a:lnTo>
                    <a:pt x="662" y="112"/>
                  </a:lnTo>
                  <a:lnTo>
                    <a:pt x="758" y="136"/>
                  </a:lnTo>
                  <a:lnTo>
                    <a:pt x="911" y="148"/>
                  </a:lnTo>
                  <a:lnTo>
                    <a:pt x="959" y="148"/>
                  </a:lnTo>
                  <a:lnTo>
                    <a:pt x="969" y="415"/>
                  </a:lnTo>
                  <a:lnTo>
                    <a:pt x="10" y="41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000400" y="3384000"/>
              <a:ext cx="187560" cy="5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040000" y="3296160"/>
              <a:ext cx="117720" cy="878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21502800">
              <a:off x="5482080" y="3306960"/>
              <a:ext cx="147960" cy="10260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19" y="0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18" y="7"/>
                  </a:lnTo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62400">
              <a:off x="5614560" y="3253320"/>
              <a:ext cx="285120" cy="21096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19" y="0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18" y="7"/>
                  </a:lnTo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344200" y="3289320"/>
              <a:ext cx="228960" cy="158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16"/>
                  </a:moveTo>
                  <a:lnTo>
                    <a:pt x="35" y="16"/>
                  </a:lnTo>
                  <a:lnTo>
                    <a:pt x="33" y="10"/>
                  </a:lnTo>
                  <a:lnTo>
                    <a:pt x="29" y="3"/>
                  </a:lnTo>
                  <a:lnTo>
                    <a:pt x="19" y="0"/>
                  </a:lnTo>
                  <a:lnTo>
                    <a:pt x="12" y="1"/>
                  </a:lnTo>
                  <a:lnTo>
                    <a:pt x="7" y="7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 rot="510000">
              <a:off x="5493600" y="3550320"/>
              <a:ext cx="147960" cy="11052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19" y="0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18" y="7"/>
                  </a:lnTo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6800">
              <a:off x="5612760" y="3494520"/>
              <a:ext cx="285120" cy="22320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19" y="0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18" y="7"/>
                  </a:lnTo>
                </a:path>
              </a:pathLst>
            </a:custGeom>
            <a:solidFill>
              <a:srgbClr val="99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771160" y="3202920"/>
              <a:ext cx="799200" cy="537840"/>
            </a:xfrm>
            <a:custGeom>
              <a:avLst/>
              <a:gdLst/>
              <a:ahLst/>
              <a:rect l="l" t="t" r="r" b="b"/>
              <a:pathLst>
                <a:path w="65" h="19">
                  <a:moveTo>
                    <a:pt x="56" y="0"/>
                  </a:moveTo>
                  <a:lnTo>
                    <a:pt x="0" y="0"/>
                  </a:lnTo>
                  <a:lnTo>
                    <a:pt x="0" y="19"/>
                  </a:lnTo>
                  <a:lnTo>
                    <a:pt x="65" y="19"/>
                  </a:lnTo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5333040" y="3505320"/>
              <a:ext cx="250200" cy="1666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16"/>
                  </a:moveTo>
                  <a:lnTo>
                    <a:pt x="35" y="16"/>
                  </a:lnTo>
                  <a:lnTo>
                    <a:pt x="33" y="10"/>
                  </a:lnTo>
                  <a:lnTo>
                    <a:pt x="29" y="3"/>
                  </a:lnTo>
                  <a:lnTo>
                    <a:pt x="19" y="0"/>
                  </a:lnTo>
                  <a:lnTo>
                    <a:pt x="12" y="1"/>
                  </a:lnTo>
                  <a:lnTo>
                    <a:pt x="7" y="7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61200" y="3440520"/>
              <a:ext cx="1031040" cy="83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53440" y="2940840"/>
              <a:ext cx="694080" cy="495360"/>
            </a:xfrm>
            <a:custGeom>
              <a:avLst/>
              <a:gdLst/>
              <a:ahLst/>
              <a:rect l="l" t="t" r="r" b="b"/>
              <a:pathLst>
                <a:path w="707" h="431">
                  <a:moveTo>
                    <a:pt x="0" y="59"/>
                  </a:moveTo>
                  <a:lnTo>
                    <a:pt x="55" y="104"/>
                  </a:lnTo>
                  <a:lnTo>
                    <a:pt x="189" y="104"/>
                  </a:lnTo>
                  <a:lnTo>
                    <a:pt x="275" y="163"/>
                  </a:lnTo>
                  <a:lnTo>
                    <a:pt x="369" y="178"/>
                  </a:lnTo>
                  <a:lnTo>
                    <a:pt x="497" y="431"/>
                  </a:lnTo>
                  <a:lnTo>
                    <a:pt x="563" y="428"/>
                  </a:lnTo>
                  <a:lnTo>
                    <a:pt x="566" y="173"/>
                  </a:lnTo>
                  <a:lnTo>
                    <a:pt x="614" y="116"/>
                  </a:lnTo>
                  <a:lnTo>
                    <a:pt x="707" y="116"/>
                  </a:lnTo>
                  <a:lnTo>
                    <a:pt x="707" y="44"/>
                  </a:lnTo>
                  <a:lnTo>
                    <a:pt x="534" y="45"/>
                  </a:lnTo>
                  <a:lnTo>
                    <a:pt x="534" y="0"/>
                  </a:lnTo>
                  <a:lnTo>
                    <a:pt x="495" y="0"/>
                  </a:lnTo>
                  <a:lnTo>
                    <a:pt x="291" y="0"/>
                  </a:lnTo>
                  <a:lnTo>
                    <a:pt x="291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00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 flipV="1" rot="10800000">
              <a:off x="2850840" y="3101400"/>
              <a:ext cx="849960" cy="525960"/>
            </a:xfrm>
            <a:custGeom>
              <a:avLst/>
              <a:gdLst/>
              <a:ahLst/>
              <a:rect l="l" t="t" r="r" b="b"/>
              <a:pathLst>
                <a:path w="54" h="39">
                  <a:moveTo>
                    <a:pt x="45" y="0"/>
                  </a:moveTo>
                  <a:lnTo>
                    <a:pt x="0" y="0"/>
                  </a:lnTo>
                  <a:lnTo>
                    <a:pt x="0" y="28"/>
                  </a:lnTo>
                  <a:cubicBezTo>
                    <a:pt x="41" y="26"/>
                    <a:pt x="54" y="39"/>
                    <a:pt x="44" y="23"/>
                  </a:cubicBezTo>
                  <a:cubicBezTo>
                    <a:pt x="41" y="18"/>
                    <a:pt x="46" y="27"/>
                    <a:pt x="42" y="20"/>
                  </a:cubicBezTo>
                  <a:cubicBezTo>
                    <a:pt x="42" y="17"/>
                    <a:pt x="46" y="4"/>
                    <a:pt x="45" y="0"/>
                  </a:cubicBez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 rot="16200000">
              <a:off x="2838240" y="3022920"/>
              <a:ext cx="867960" cy="876960"/>
            </a:xfrm>
            <a:custGeom>
              <a:avLst/>
              <a:gdLst/>
              <a:ahLst/>
              <a:rect l="l" t="t" r="r" b="b"/>
              <a:pathLst>
                <a:path w="112" h="96">
                  <a:moveTo>
                    <a:pt x="112" y="94"/>
                  </a:moveTo>
                  <a:lnTo>
                    <a:pt x="112" y="17"/>
                  </a:lnTo>
                  <a:lnTo>
                    <a:pt x="108" y="17"/>
                  </a:lnTo>
                  <a:lnTo>
                    <a:pt x="108" y="0"/>
                  </a:lnTo>
                  <a:lnTo>
                    <a:pt x="5" y="0"/>
                  </a:lnTo>
                  <a:lnTo>
                    <a:pt x="4" y="17"/>
                  </a:lnTo>
                  <a:lnTo>
                    <a:pt x="0" y="17"/>
                  </a:lnTo>
                  <a:lnTo>
                    <a:pt x="0" y="96"/>
                  </a:lnTo>
                  <a:lnTo>
                    <a:pt x="11" y="96"/>
                  </a:lnTo>
                  <a:lnTo>
                    <a:pt x="11" y="3"/>
                  </a:lnTo>
                  <a:lnTo>
                    <a:pt x="101" y="3"/>
                  </a:lnTo>
                  <a:lnTo>
                    <a:pt x="101" y="94"/>
                  </a:lnTo>
                  <a:lnTo>
                    <a:pt x="112" y="94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 rot="10800000">
              <a:off x="2865600" y="3134160"/>
              <a:ext cx="388080" cy="654120"/>
            </a:xfrm>
            <a:custGeom>
              <a:avLst/>
              <a:gdLst/>
              <a:ahLst/>
              <a:rect l="l" t="t" r="r" b="b"/>
              <a:pathLst>
                <a:path w="45" h="80">
                  <a:moveTo>
                    <a:pt x="0" y="0"/>
                  </a:moveTo>
                  <a:lnTo>
                    <a:pt x="45" y="0"/>
                  </a:lnTo>
                  <a:lnTo>
                    <a:pt x="45" y="80"/>
                  </a:lnTo>
                  <a:lnTo>
                    <a:pt x="0" y="80"/>
                  </a:lnTo>
                  <a:lnTo>
                    <a:pt x="0" y="62"/>
                  </a:lnTo>
                  <a:lnTo>
                    <a:pt x="26" y="62"/>
                  </a:lnTo>
                  <a:lnTo>
                    <a:pt x="26" y="51"/>
                  </a:lnTo>
                  <a:lnTo>
                    <a:pt x="0" y="51"/>
                  </a:lnTo>
                  <a:lnTo>
                    <a:pt x="0" y="26"/>
                  </a:lnTo>
                  <a:lnTo>
                    <a:pt x="25" y="26"/>
                  </a:lnTo>
                  <a:lnTo>
                    <a:pt x="25" y="15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 rot="10800000">
              <a:off x="3256560" y="3440160"/>
              <a:ext cx="937800" cy="759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16200000">
              <a:off x="3075120" y="3634920"/>
              <a:ext cx="118800" cy="576000"/>
            </a:xfrm>
            <a:custGeom>
              <a:avLst/>
              <a:gdLst/>
              <a:ahLst/>
              <a:rect l="l" t="t" r="r" b="b"/>
              <a:pathLst>
                <a:path w="15" h="64">
                  <a:moveTo>
                    <a:pt x="15" y="0"/>
                  </a:moveTo>
                  <a:lnTo>
                    <a:pt x="0" y="0"/>
                  </a:lnTo>
                  <a:lnTo>
                    <a:pt x="0" y="64"/>
                  </a:lnTo>
                  <a:lnTo>
                    <a:pt x="5" y="64"/>
                  </a:lnTo>
                  <a:lnTo>
                    <a:pt x="5" y="12"/>
                  </a:lnTo>
                  <a:lnTo>
                    <a:pt x="15" y="1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16200000">
              <a:off x="3084840" y="2705040"/>
              <a:ext cx="117360" cy="601560"/>
            </a:xfrm>
            <a:custGeom>
              <a:avLst/>
              <a:gdLst/>
              <a:ahLst/>
              <a:rect l="l" t="t" r="r" b="b"/>
              <a:pathLst>
                <a:path w="15" h="66">
                  <a:moveTo>
                    <a:pt x="0" y="1"/>
                  </a:moveTo>
                  <a:lnTo>
                    <a:pt x="14" y="1"/>
                  </a:lnTo>
                  <a:lnTo>
                    <a:pt x="15" y="0"/>
                  </a:lnTo>
                  <a:lnTo>
                    <a:pt x="15" y="66"/>
                  </a:lnTo>
                  <a:lnTo>
                    <a:pt x="10" y="66"/>
                  </a:lnTo>
                  <a:lnTo>
                    <a:pt x="10" y="14"/>
                  </a:lnTo>
                  <a:lnTo>
                    <a:pt x="0" y="14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" name=""/>
            <p:cNvGrpSpPr/>
            <p:nvPr/>
          </p:nvGrpSpPr>
          <p:grpSpPr>
            <a:xfrm>
              <a:off x="2898000" y="2819520"/>
              <a:ext cx="2139480" cy="209520"/>
              <a:chOff x="2898000" y="2819520"/>
              <a:chExt cx="2139480" cy="209520"/>
            </a:xfrm>
          </p:grpSpPr>
          <p:sp>
            <p:nvSpPr>
              <p:cNvPr id="190" name=""/>
              <p:cNvSpPr/>
              <p:nvPr/>
            </p:nvSpPr>
            <p:spPr>
              <a:xfrm>
                <a:off x="2898000" y="2819520"/>
                <a:ext cx="2139480" cy="209520"/>
              </a:xfrm>
              <a:custGeom>
                <a:avLst/>
                <a:gdLst/>
                <a:ahLst/>
                <a:rect l="l" t="t" r="r" b="b"/>
                <a:pathLst>
                  <a:path w="2180" h="182">
                    <a:moveTo>
                      <a:pt x="69" y="0"/>
                    </a:moveTo>
                    <a:lnTo>
                      <a:pt x="0" y="90"/>
                    </a:lnTo>
                    <a:lnTo>
                      <a:pt x="0" y="179"/>
                    </a:lnTo>
                    <a:lnTo>
                      <a:pt x="2178" y="182"/>
                    </a:lnTo>
                    <a:lnTo>
                      <a:pt x="2180" y="96"/>
                    </a:lnTo>
                    <a:lnTo>
                      <a:pt x="2111" y="2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898000" y="2921760"/>
                <a:ext cx="213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>
              <a:off x="4750200" y="3533760"/>
              <a:ext cx="693720" cy="471240"/>
            </a:xfrm>
            <a:custGeom>
              <a:avLst/>
              <a:gdLst/>
              <a:ahLst/>
              <a:rect l="l" t="t" r="r" b="b"/>
              <a:pathLst>
                <a:path w="707" h="410">
                  <a:moveTo>
                    <a:pt x="0" y="354"/>
                  </a:moveTo>
                  <a:lnTo>
                    <a:pt x="68" y="293"/>
                  </a:lnTo>
                  <a:lnTo>
                    <a:pt x="179" y="296"/>
                  </a:lnTo>
                  <a:lnTo>
                    <a:pt x="275" y="255"/>
                  </a:lnTo>
                  <a:lnTo>
                    <a:pt x="369" y="241"/>
                  </a:lnTo>
                  <a:lnTo>
                    <a:pt x="497" y="0"/>
                  </a:lnTo>
                  <a:lnTo>
                    <a:pt x="563" y="3"/>
                  </a:lnTo>
                  <a:lnTo>
                    <a:pt x="566" y="245"/>
                  </a:lnTo>
                  <a:lnTo>
                    <a:pt x="614" y="300"/>
                  </a:lnTo>
                  <a:lnTo>
                    <a:pt x="707" y="300"/>
                  </a:lnTo>
                  <a:lnTo>
                    <a:pt x="707" y="368"/>
                  </a:lnTo>
                  <a:lnTo>
                    <a:pt x="534" y="367"/>
                  </a:lnTo>
                  <a:lnTo>
                    <a:pt x="534" y="410"/>
                  </a:lnTo>
                  <a:lnTo>
                    <a:pt x="495" y="410"/>
                  </a:lnTo>
                  <a:lnTo>
                    <a:pt x="291" y="410"/>
                  </a:lnTo>
                  <a:lnTo>
                    <a:pt x="291" y="354"/>
                  </a:lnTo>
                  <a:lnTo>
                    <a:pt x="0" y="354"/>
                  </a:lnTo>
                  <a:close/>
                </a:path>
              </a:pathLst>
            </a:custGeom>
            <a:solidFill>
              <a:srgbClr val="00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2892240" y="3903840"/>
              <a:ext cx="2142720" cy="210240"/>
              <a:chOff x="2892240" y="3903840"/>
              <a:chExt cx="2142720" cy="210240"/>
            </a:xfrm>
          </p:grpSpPr>
          <p:sp>
            <p:nvSpPr>
              <p:cNvPr id="194" name=""/>
              <p:cNvSpPr/>
              <p:nvPr/>
            </p:nvSpPr>
            <p:spPr>
              <a:xfrm flipV="1">
                <a:off x="2892240" y="3903840"/>
                <a:ext cx="2142720" cy="210240"/>
              </a:xfrm>
              <a:custGeom>
                <a:avLst/>
                <a:gdLst/>
                <a:ahLst/>
                <a:rect l="l" t="t" r="r" b="b"/>
                <a:pathLst>
                  <a:path w="1047" h="118">
                    <a:moveTo>
                      <a:pt x="33" y="3"/>
                    </a:moveTo>
                    <a:lnTo>
                      <a:pt x="0" y="61"/>
                    </a:lnTo>
                    <a:lnTo>
                      <a:pt x="0" y="118"/>
                    </a:lnTo>
                    <a:lnTo>
                      <a:pt x="1047" y="117"/>
                    </a:lnTo>
                    <a:lnTo>
                      <a:pt x="1047" y="60"/>
                    </a:lnTo>
                    <a:lnTo>
                      <a:pt x="1011" y="0"/>
                    </a:lnTo>
                    <a:lnTo>
                      <a:pt x="33" y="3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892240" y="4007520"/>
                <a:ext cx="214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6" name=""/>
            <p:cNvSpPr/>
            <p:nvPr/>
          </p:nvSpPr>
          <p:spPr>
            <a:xfrm>
              <a:off x="4773960" y="30330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60280" y="3027600"/>
              <a:ext cx="471600" cy="400680"/>
            </a:xfrm>
            <a:custGeom>
              <a:avLst/>
              <a:gdLst/>
              <a:ahLst/>
              <a:rect l="l" t="t" r="r" b="b"/>
              <a:pathLst>
                <a:path w="408" h="296">
                  <a:moveTo>
                    <a:pt x="0" y="0"/>
                  </a:moveTo>
                  <a:lnTo>
                    <a:pt x="28" y="28"/>
                  </a:lnTo>
                  <a:lnTo>
                    <a:pt x="156" y="28"/>
                  </a:lnTo>
                  <a:lnTo>
                    <a:pt x="220" y="72"/>
                  </a:lnTo>
                  <a:lnTo>
                    <a:pt x="304" y="88"/>
                  </a:lnTo>
                  <a:lnTo>
                    <a:pt x="408" y="296"/>
                  </a:lnTo>
                </a:path>
              </a:pathLst>
            </a:cu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276880" y="2942280"/>
              <a:ext cx="170640" cy="491040"/>
            </a:xfrm>
            <a:custGeom>
              <a:avLst/>
              <a:gdLst/>
              <a:ahLst/>
              <a:rect l="l" t="t" r="r" b="b"/>
              <a:pathLst>
                <a:path w="152" h="380">
                  <a:moveTo>
                    <a:pt x="0" y="0"/>
                  </a:moveTo>
                  <a:lnTo>
                    <a:pt x="0" y="40"/>
                  </a:lnTo>
                  <a:lnTo>
                    <a:pt x="152" y="40"/>
                  </a:lnTo>
                  <a:lnTo>
                    <a:pt x="152" y="104"/>
                  </a:lnTo>
                  <a:lnTo>
                    <a:pt x="72" y="108"/>
                  </a:lnTo>
                  <a:lnTo>
                    <a:pt x="28" y="160"/>
                  </a:lnTo>
                  <a:lnTo>
                    <a:pt x="28" y="380"/>
                  </a:lnTo>
                </a:path>
              </a:pathLst>
            </a:cu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613840" y="3204000"/>
              <a:ext cx="723240" cy="96120"/>
            </a:xfrm>
            <a:custGeom>
              <a:avLst/>
              <a:gdLst/>
              <a:ahLst/>
              <a:rect l="l" t="t" r="r" b="b"/>
              <a:pathLst>
                <a:path w="584" h="79">
                  <a:moveTo>
                    <a:pt x="0" y="79"/>
                  </a:moveTo>
                  <a:lnTo>
                    <a:pt x="0" y="43"/>
                  </a:lnTo>
                  <a:lnTo>
                    <a:pt x="140" y="39"/>
                  </a:lnTo>
                  <a:lnTo>
                    <a:pt x="144" y="3"/>
                  </a:lnTo>
                  <a:lnTo>
                    <a:pt x="584" y="0"/>
                  </a:lnTo>
                </a:path>
              </a:pathLst>
            </a:cu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604840" y="3412440"/>
              <a:ext cx="166320" cy="149400"/>
            </a:xfrm>
            <a:custGeom>
              <a:avLst/>
              <a:gdLst/>
              <a:ahLst/>
              <a:rect l="l" t="t" r="r" b="b"/>
              <a:pathLst>
                <a:path w="148" h="104">
                  <a:moveTo>
                    <a:pt x="0" y="0"/>
                  </a:moveTo>
                  <a:lnTo>
                    <a:pt x="4" y="40"/>
                  </a:lnTo>
                  <a:lnTo>
                    <a:pt x="148" y="40"/>
                  </a:lnTo>
                  <a:lnTo>
                    <a:pt x="144" y="64"/>
                  </a:lnTo>
                  <a:lnTo>
                    <a:pt x="4" y="64"/>
                  </a:lnTo>
                  <a:lnTo>
                    <a:pt x="8" y="104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600160" y="3660840"/>
              <a:ext cx="736560" cy="101160"/>
            </a:xfrm>
            <a:custGeom>
              <a:avLst/>
              <a:gdLst/>
              <a:ahLst/>
              <a:rect l="l" t="t" r="r" b="b"/>
              <a:pathLst>
                <a:path w="626" h="60">
                  <a:moveTo>
                    <a:pt x="0" y="0"/>
                  </a:moveTo>
                  <a:lnTo>
                    <a:pt x="8" y="32"/>
                  </a:lnTo>
                  <a:lnTo>
                    <a:pt x="156" y="32"/>
                  </a:lnTo>
                  <a:lnTo>
                    <a:pt x="156" y="60"/>
                  </a:lnTo>
                  <a:lnTo>
                    <a:pt x="626" y="60"/>
                  </a:lnTo>
                </a:path>
              </a:pathLst>
            </a:cu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519000" y="3027600"/>
              <a:ext cx="194040" cy="400680"/>
            </a:xfrm>
            <a:custGeom>
              <a:avLst/>
              <a:gdLst/>
              <a:ahLst/>
              <a:rect l="l" t="t" r="r" b="b"/>
              <a:pathLst>
                <a:path w="173" h="300">
                  <a:moveTo>
                    <a:pt x="53" y="300"/>
                  </a:moveTo>
                  <a:cubicBezTo>
                    <a:pt x="25" y="284"/>
                    <a:pt x="21" y="282"/>
                    <a:pt x="1" y="252"/>
                  </a:cubicBezTo>
                  <a:cubicBezTo>
                    <a:pt x="3" y="242"/>
                    <a:pt x="0" y="236"/>
                    <a:pt x="3" y="226"/>
                  </a:cubicBezTo>
                  <a:cubicBezTo>
                    <a:pt x="6" y="214"/>
                    <a:pt x="37" y="108"/>
                    <a:pt x="37" y="108"/>
                  </a:cubicBezTo>
                  <a:cubicBezTo>
                    <a:pt x="41" y="67"/>
                    <a:pt x="27" y="112"/>
                    <a:pt x="27" y="72"/>
                  </a:cubicBezTo>
                  <a:lnTo>
                    <a:pt x="173" y="72"/>
                  </a:lnTo>
                  <a:lnTo>
                    <a:pt x="173" y="0"/>
                  </a:lnTo>
                </a:path>
              </a:pathLst>
            </a:cu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864160" y="3118680"/>
              <a:ext cx="6782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743200" y="3481560"/>
              <a:ext cx="3886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886840" y="2915640"/>
              <a:ext cx="2159640" cy="108000"/>
            </a:xfrm>
            <a:custGeom>
              <a:avLst/>
              <a:gdLst/>
              <a:ahLst/>
              <a:rect l="l" t="t" r="r" b="b"/>
              <a:pathLst>
                <a:path w="1923" h="81">
                  <a:moveTo>
                    <a:pt x="0" y="6"/>
                  </a:moveTo>
                  <a:lnTo>
                    <a:pt x="0" y="81"/>
                  </a:lnTo>
                  <a:lnTo>
                    <a:pt x="1920" y="81"/>
                  </a:lnTo>
                  <a:lnTo>
                    <a:pt x="1923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389520" y="1239480"/>
            <a:ext cx="35654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Reduce the collision by objective targ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69400" y="-1080"/>
            <a:ext cx="24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2A Expla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943600" y="2514600"/>
            <a:ext cx="22860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124080"/>
            <a:ext cx="53352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1905120" y="2209320"/>
            <a:ext cx="304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67200" y="2860920"/>
            <a:ext cx="221688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Product designed b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Magnetic-field Simul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43280" y="1527120"/>
            <a:ext cx="2422440" cy="94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8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　；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5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　→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12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；　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　→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18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；　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　→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30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；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　→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303000" y="4486320"/>
            <a:ext cx="98532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limi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isfenol-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3886200" y="3657600"/>
            <a:ext cx="22860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572000" y="4232880"/>
            <a:ext cx="4249800" cy="1787040"/>
            <a:chOff x="4572000" y="4232880"/>
            <a:chExt cx="4249800" cy="1787040"/>
          </a:xfrm>
        </p:grpSpPr>
        <p:sp>
          <p:nvSpPr>
            <p:cNvPr id="216" name=""/>
            <p:cNvSpPr/>
            <p:nvPr/>
          </p:nvSpPr>
          <p:spPr>
            <a:xfrm>
              <a:off x="4572000" y="4419720"/>
              <a:ext cx="1230480" cy="159840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683480" y="4406760"/>
              <a:ext cx="1092240" cy="158760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722120" y="4242240"/>
              <a:ext cx="604440" cy="45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SP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mou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638680" y="4419720"/>
              <a:ext cx="2055960" cy="1600200"/>
            </a:xfrm>
            <a:prstGeom prst="rect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 flipV="1">
              <a:off x="7628040" y="4929120"/>
              <a:ext cx="372960" cy="23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 flipV="1">
              <a:off x="7743960" y="5462640"/>
              <a:ext cx="257040" cy="23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8242200" y="5665680"/>
              <a:ext cx="100080" cy="44640"/>
              <a:chOff x="8242200" y="5665680"/>
              <a:chExt cx="100080" cy="44640"/>
            </a:xfrm>
          </p:grpSpPr>
          <p:sp>
            <p:nvSpPr>
              <p:cNvPr id="223" name=""/>
              <p:cNvSpPr/>
              <p:nvPr/>
            </p:nvSpPr>
            <p:spPr>
              <a:xfrm>
                <a:off x="8331120" y="5666400"/>
                <a:ext cx="8280" cy="37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242920" y="5665680"/>
                <a:ext cx="9000" cy="37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242200" y="5687640"/>
                <a:ext cx="100080" cy="226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8273880" y="5675040"/>
                <a:ext cx="38160" cy="316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 flipH="1" flipV="1">
              <a:off x="8044560" y="5465160"/>
              <a:ext cx="473400" cy="191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099280" y="5506920"/>
              <a:ext cx="59040" cy="60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14400" bIns="14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099280" y="5535720"/>
              <a:ext cx="59040" cy="58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12600" bIns="12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393040" y="5504040"/>
              <a:ext cx="84240" cy="87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1040" bIns="41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393040" y="5532480"/>
              <a:ext cx="84240" cy="87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1040" bIns="41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5400000">
              <a:off x="8300880" y="5487840"/>
              <a:ext cx="52200" cy="77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5400000">
              <a:off x="8206560" y="5488560"/>
              <a:ext cx="52200" cy="76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 flipV="1">
              <a:off x="8216280" y="4709520"/>
              <a:ext cx="136440" cy="214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282160" y="4762440"/>
              <a:ext cx="28440" cy="146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 flipV="1" rot="16200000">
              <a:off x="8257320" y="4757400"/>
              <a:ext cx="47520" cy="79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 flipV="1" rot="10800000">
              <a:off x="8190000" y="4725000"/>
              <a:ext cx="133200" cy="50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 flipV="1" rot="10800000">
              <a:off x="8272440" y="4820040"/>
              <a:ext cx="47520" cy="47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rot="10800000">
              <a:off x="8629560" y="4856040"/>
              <a:ext cx="69840" cy="68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22320" bIns="223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16200000">
              <a:off x="8099280" y="4901760"/>
              <a:ext cx="88920" cy="146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16200000">
              <a:off x="8144640" y="4941000"/>
              <a:ext cx="28800" cy="68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16200000">
              <a:off x="8165880" y="4962240"/>
              <a:ext cx="28800" cy="25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204040" y="5156280"/>
              <a:ext cx="177840" cy="162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352000" y="4735440"/>
              <a:ext cx="185400" cy="189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5400000">
              <a:off x="8455680" y="4755240"/>
              <a:ext cx="44280" cy="7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rot="16200000">
              <a:off x="8273880" y="4927680"/>
              <a:ext cx="7920" cy="45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16200000">
              <a:off x="8272440" y="5016600"/>
              <a:ext cx="7920" cy="46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rot="16200000">
              <a:off x="8243640" y="4981320"/>
              <a:ext cx="101880" cy="28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rot="16200000">
              <a:off x="8264520" y="4973760"/>
              <a:ext cx="39600" cy="39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318520" y="5003640"/>
              <a:ext cx="119160" cy="684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379000" y="5003640"/>
              <a:ext cx="68040" cy="6840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379000" y="5072040"/>
              <a:ext cx="237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379000" y="5003640"/>
              <a:ext cx="237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 flipV="1" rot="5400000">
              <a:off x="8287920" y="4887000"/>
              <a:ext cx="18720" cy="20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-25560" bIns="-2556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346960" y="5156280"/>
              <a:ext cx="227160" cy="162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505720" y="5189400"/>
              <a:ext cx="50760" cy="49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3240" bIns="3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450280" y="5164200"/>
              <a:ext cx="23760" cy="102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16200000">
              <a:off x="8422200" y="5226840"/>
              <a:ext cx="76320" cy="68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21960" bIns="2196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rot="5400000">
              <a:off x="8368200" y="5152320"/>
              <a:ext cx="34920" cy="58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12600" bIns="126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5400000">
              <a:off x="8363520" y="5202720"/>
              <a:ext cx="50760" cy="61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15840" bIns="1584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5400000">
              <a:off x="8370000" y="5223600"/>
              <a:ext cx="38160" cy="61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15840" bIns="1584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505720" y="5219640"/>
              <a:ext cx="50760" cy="50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80" bIns="4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505720" y="5243400"/>
              <a:ext cx="50760" cy="46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564400" y="5156280"/>
              <a:ext cx="140040" cy="162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639280" y="5168880"/>
              <a:ext cx="55440" cy="50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80" bIns="4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217000" y="4929120"/>
              <a:ext cx="15840" cy="316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53560" y="5019840"/>
              <a:ext cx="163440" cy="131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10800000">
              <a:off x="8164440" y="5076720"/>
              <a:ext cx="39600" cy="36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5400000">
              <a:off x="8366040" y="5264280"/>
              <a:ext cx="46080" cy="61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15840" bIns="1584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453520" y="5170320"/>
              <a:ext cx="17280" cy="19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-27000" bIns="-27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5400000">
              <a:off x="8383320" y="4775040"/>
              <a:ext cx="36360" cy="39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-6120" bIns="-612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244000" y="5167440"/>
              <a:ext cx="20520" cy="81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10800000">
              <a:off x="8203680" y="5219280"/>
              <a:ext cx="73080" cy="173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5400000">
              <a:off x="8234280" y="4868640"/>
              <a:ext cx="36360" cy="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6480" bIns="6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6200000">
              <a:off x="8366040" y="4843080"/>
              <a:ext cx="17640" cy="112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591400" y="5162400"/>
              <a:ext cx="22320" cy="103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613720" y="5162400"/>
              <a:ext cx="20520" cy="103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6200000">
              <a:off x="8576280" y="5226840"/>
              <a:ext cx="76320" cy="68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21960" bIns="2196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16200000">
              <a:off x="8527320" y="5124960"/>
              <a:ext cx="19080" cy="96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594640" y="5170320"/>
              <a:ext cx="15840" cy="2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-25200" bIns="-25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5400000">
              <a:off x="8477280" y="4770360"/>
              <a:ext cx="101520" cy="209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5400000">
              <a:off x="8115840" y="5025240"/>
              <a:ext cx="45720" cy="3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5400000">
              <a:off x="8074440" y="5068080"/>
              <a:ext cx="60120" cy="81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34920" bIns="3492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505720" y="4938840"/>
              <a:ext cx="7920" cy="47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421840" y="4937040"/>
              <a:ext cx="7920" cy="4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420040" y="4965840"/>
              <a:ext cx="96840" cy="28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450280" y="4950000"/>
              <a:ext cx="38160" cy="39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8545680" y="5113440"/>
              <a:ext cx="7920" cy="47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8459640" y="5114880"/>
              <a:ext cx="7920" cy="47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8458200" y="5104800"/>
              <a:ext cx="98280" cy="28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8489880" y="5110200"/>
              <a:ext cx="36720" cy="39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8408880" y="5095080"/>
              <a:ext cx="7920" cy="4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8321760" y="5097600"/>
              <a:ext cx="7920" cy="47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8319960" y="5087880"/>
              <a:ext cx="100080" cy="28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8352000" y="5091840"/>
              <a:ext cx="37800" cy="39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467400" y="5108400"/>
              <a:ext cx="200160" cy="109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340320" y="5218200"/>
              <a:ext cx="314640" cy="287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4960" y="5218200"/>
              <a:ext cx="66600" cy="156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719760" y="5218200"/>
              <a:ext cx="314280" cy="288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0" name=""/>
            <p:cNvGrpSpPr/>
            <p:nvPr/>
          </p:nvGrpSpPr>
          <p:grpSpPr>
            <a:xfrm>
              <a:off x="6517800" y="5357880"/>
              <a:ext cx="489240" cy="36000"/>
              <a:chOff x="6517800" y="5357880"/>
              <a:chExt cx="489240" cy="36000"/>
            </a:xfrm>
          </p:grpSpPr>
          <p:sp>
            <p:nvSpPr>
              <p:cNvPr id="301" name=""/>
              <p:cNvSpPr/>
              <p:nvPr/>
            </p:nvSpPr>
            <p:spPr>
              <a:xfrm rot="5400000">
                <a:off x="6753240" y="5122080"/>
                <a:ext cx="18000" cy="489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5400000">
                <a:off x="6753240" y="5140080"/>
                <a:ext cx="18000" cy="489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6567120" y="5319720"/>
              <a:ext cx="552600" cy="38160"/>
              <a:chOff x="6567120" y="5319720"/>
              <a:chExt cx="552600" cy="38160"/>
            </a:xfrm>
          </p:grpSpPr>
          <p:sp>
            <p:nvSpPr>
              <p:cNvPr id="304" name=""/>
              <p:cNvSpPr/>
              <p:nvPr/>
            </p:nvSpPr>
            <p:spPr>
              <a:xfrm rot="5400000">
                <a:off x="6833880" y="5052960"/>
                <a:ext cx="19080" cy="552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5400000">
                <a:off x="6833880" y="5072040"/>
                <a:ext cx="19080" cy="552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6" name=""/>
            <p:cNvSpPr/>
            <p:nvPr/>
          </p:nvSpPr>
          <p:spPr>
            <a:xfrm flipV="1" rot="16200000">
              <a:off x="6831000" y="5413320"/>
              <a:ext cx="114480" cy="76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 rot="16200000">
              <a:off x="6924600" y="5389560"/>
              <a:ext cx="115920" cy="122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 rot="16200000">
              <a:off x="6726240" y="5382360"/>
              <a:ext cx="114120" cy="133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9" name=""/>
            <p:cNvGrpSpPr/>
            <p:nvPr/>
          </p:nvGrpSpPr>
          <p:grpSpPr>
            <a:xfrm>
              <a:off x="6738840" y="5075280"/>
              <a:ext cx="92160" cy="244440"/>
              <a:chOff x="6738840" y="5075280"/>
              <a:chExt cx="92160" cy="244440"/>
            </a:xfrm>
          </p:grpSpPr>
          <p:grpSp>
            <p:nvGrpSpPr>
              <p:cNvPr id="310" name=""/>
              <p:cNvGrpSpPr/>
              <p:nvPr/>
            </p:nvGrpSpPr>
            <p:grpSpPr>
              <a:xfrm>
                <a:off x="6801480" y="5171040"/>
                <a:ext cx="11520" cy="16560"/>
                <a:chOff x="6801480" y="5171040"/>
                <a:chExt cx="11520" cy="16560"/>
              </a:xfrm>
            </p:grpSpPr>
            <p:sp>
              <p:nvSpPr>
                <p:cNvPr id="311" name=""/>
                <p:cNvSpPr/>
                <p:nvPr/>
              </p:nvSpPr>
              <p:spPr>
                <a:xfrm flipH="1">
                  <a:off x="6801480" y="5175720"/>
                  <a:ext cx="11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 flipH="1">
                  <a:off x="6801480" y="5181480"/>
                  <a:ext cx="11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6810120" y="5171040"/>
                  <a:ext cx="0" cy="16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6805440" y="5171040"/>
                  <a:ext cx="0" cy="16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5" name=""/>
              <p:cNvSpPr/>
              <p:nvPr/>
            </p:nvSpPr>
            <p:spPr>
              <a:xfrm>
                <a:off x="6738840" y="5075280"/>
                <a:ext cx="92160" cy="244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0800000">
                <a:off x="6745320" y="5244480"/>
                <a:ext cx="78120" cy="58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12240" bIns="1224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0800000">
                <a:off x="6746400" y="5148360"/>
                <a:ext cx="77760" cy="58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12240" bIns="1224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0800000">
                <a:off x="6746400" y="5085000"/>
                <a:ext cx="77760" cy="58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12240" bIns="1224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9" name=""/>
              <p:cNvGrpSpPr/>
              <p:nvPr/>
            </p:nvGrpSpPr>
            <p:grpSpPr>
              <a:xfrm>
                <a:off x="6798600" y="5166360"/>
                <a:ext cx="11520" cy="16560"/>
                <a:chOff x="6798600" y="5166360"/>
                <a:chExt cx="11520" cy="16560"/>
              </a:xfrm>
            </p:grpSpPr>
            <p:sp>
              <p:nvSpPr>
                <p:cNvPr id="320" name=""/>
                <p:cNvSpPr/>
                <p:nvPr/>
              </p:nvSpPr>
              <p:spPr>
                <a:xfrm flipH="1">
                  <a:off x="6798600" y="5171040"/>
                  <a:ext cx="11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 flipH="1">
                  <a:off x="6798600" y="5176800"/>
                  <a:ext cx="11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6807240" y="5166360"/>
                  <a:ext cx="0" cy="16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6802560" y="5166360"/>
                  <a:ext cx="0" cy="16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6800760" y="5275080"/>
                <a:ext cx="11520" cy="16560"/>
                <a:chOff x="6800760" y="5275080"/>
                <a:chExt cx="11520" cy="16560"/>
              </a:xfrm>
            </p:grpSpPr>
            <p:sp>
              <p:nvSpPr>
                <p:cNvPr id="325" name=""/>
                <p:cNvSpPr/>
                <p:nvPr/>
              </p:nvSpPr>
              <p:spPr>
                <a:xfrm flipH="1">
                  <a:off x="6800760" y="5279760"/>
                  <a:ext cx="11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 flipH="1">
                  <a:off x="6800760" y="5285520"/>
                  <a:ext cx="11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6809400" y="5275080"/>
                  <a:ext cx="0" cy="16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6804720" y="5275080"/>
                  <a:ext cx="0" cy="16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6801120" y="5111640"/>
                <a:ext cx="11520" cy="16560"/>
                <a:chOff x="6801120" y="5111640"/>
                <a:chExt cx="11520" cy="16560"/>
              </a:xfrm>
            </p:grpSpPr>
            <p:sp>
              <p:nvSpPr>
                <p:cNvPr id="330" name=""/>
                <p:cNvSpPr/>
                <p:nvPr/>
              </p:nvSpPr>
              <p:spPr>
                <a:xfrm flipH="1">
                  <a:off x="6801120" y="5116320"/>
                  <a:ext cx="11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 flipH="1">
                  <a:off x="6801120" y="5122080"/>
                  <a:ext cx="11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6809760" y="5111640"/>
                  <a:ext cx="0" cy="16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805080" y="5111640"/>
                  <a:ext cx="0" cy="16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34" name=""/>
            <p:cNvGrpSpPr/>
            <p:nvPr/>
          </p:nvGrpSpPr>
          <p:grpSpPr>
            <a:xfrm>
              <a:off x="6923160" y="5075280"/>
              <a:ext cx="93600" cy="244440"/>
              <a:chOff x="6923160" y="5075280"/>
              <a:chExt cx="93600" cy="244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6986880" y="5171040"/>
                <a:ext cx="11520" cy="16560"/>
                <a:chOff x="6986880" y="5171040"/>
                <a:chExt cx="11520" cy="16560"/>
              </a:xfrm>
            </p:grpSpPr>
            <p:sp>
              <p:nvSpPr>
                <p:cNvPr id="336" name=""/>
                <p:cNvSpPr/>
                <p:nvPr/>
              </p:nvSpPr>
              <p:spPr>
                <a:xfrm flipH="1">
                  <a:off x="6986880" y="5175720"/>
                  <a:ext cx="11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 flipH="1">
                  <a:off x="6986880" y="5181480"/>
                  <a:ext cx="11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6995520" y="5171040"/>
                  <a:ext cx="0" cy="16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6990840" y="5171040"/>
                  <a:ext cx="0" cy="16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0" name=""/>
              <p:cNvSpPr/>
              <p:nvPr/>
            </p:nvSpPr>
            <p:spPr>
              <a:xfrm>
                <a:off x="6923160" y="5075280"/>
                <a:ext cx="93600" cy="244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10800000">
                <a:off x="6929640" y="5244480"/>
                <a:ext cx="79560" cy="58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12240" bIns="1224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0800000">
                <a:off x="6930720" y="5148360"/>
                <a:ext cx="79200" cy="58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12240" bIns="1224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10800000">
                <a:off x="6930720" y="5085000"/>
                <a:ext cx="79200" cy="58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12240" bIns="1224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4" name=""/>
              <p:cNvGrpSpPr/>
              <p:nvPr/>
            </p:nvGrpSpPr>
            <p:grpSpPr>
              <a:xfrm>
                <a:off x="6984000" y="5166360"/>
                <a:ext cx="11520" cy="16560"/>
                <a:chOff x="6984000" y="5166360"/>
                <a:chExt cx="11520" cy="16560"/>
              </a:xfrm>
            </p:grpSpPr>
            <p:sp>
              <p:nvSpPr>
                <p:cNvPr id="345" name=""/>
                <p:cNvSpPr/>
                <p:nvPr/>
              </p:nvSpPr>
              <p:spPr>
                <a:xfrm flipH="1">
                  <a:off x="6984000" y="5171040"/>
                  <a:ext cx="11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flipH="1">
                  <a:off x="6984000" y="5176800"/>
                  <a:ext cx="11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6992640" y="5166360"/>
                  <a:ext cx="0" cy="16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6987960" y="5166360"/>
                  <a:ext cx="0" cy="16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9" name=""/>
              <p:cNvGrpSpPr/>
              <p:nvPr/>
            </p:nvGrpSpPr>
            <p:grpSpPr>
              <a:xfrm>
                <a:off x="6985800" y="5275080"/>
                <a:ext cx="11520" cy="16560"/>
                <a:chOff x="6985800" y="5275080"/>
                <a:chExt cx="11520" cy="16560"/>
              </a:xfrm>
            </p:grpSpPr>
            <p:sp>
              <p:nvSpPr>
                <p:cNvPr id="350" name=""/>
                <p:cNvSpPr/>
                <p:nvPr/>
              </p:nvSpPr>
              <p:spPr>
                <a:xfrm flipH="1">
                  <a:off x="6985800" y="5279760"/>
                  <a:ext cx="11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 flipH="1">
                  <a:off x="6985800" y="5285520"/>
                  <a:ext cx="11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6994440" y="5275080"/>
                  <a:ext cx="0" cy="16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6989760" y="5275080"/>
                  <a:ext cx="0" cy="16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"/>
              <p:cNvGrpSpPr/>
              <p:nvPr/>
            </p:nvGrpSpPr>
            <p:grpSpPr>
              <a:xfrm>
                <a:off x="6986520" y="5111640"/>
                <a:ext cx="11520" cy="16560"/>
                <a:chOff x="6986520" y="5111640"/>
                <a:chExt cx="11520" cy="16560"/>
              </a:xfrm>
            </p:grpSpPr>
            <p:sp>
              <p:nvSpPr>
                <p:cNvPr id="355" name=""/>
                <p:cNvSpPr/>
                <p:nvPr/>
              </p:nvSpPr>
              <p:spPr>
                <a:xfrm flipH="1">
                  <a:off x="6986520" y="5116320"/>
                  <a:ext cx="11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 flipH="1">
                  <a:off x="6986520" y="5122080"/>
                  <a:ext cx="11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6995160" y="5111640"/>
                  <a:ext cx="0" cy="16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6990480" y="5111640"/>
                  <a:ext cx="0" cy="16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59" name=""/>
            <p:cNvSpPr/>
            <p:nvPr/>
          </p:nvSpPr>
          <p:spPr>
            <a:xfrm flipV="1" rot="16200000">
              <a:off x="6929280" y="5312520"/>
              <a:ext cx="19080" cy="31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 rot="16200000">
              <a:off x="6814080" y="5351400"/>
              <a:ext cx="19080" cy="30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 rot="16200000">
              <a:off x="6974280" y="5334120"/>
              <a:ext cx="19080" cy="27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 rot="16200000">
              <a:off x="6974280" y="5353200"/>
              <a:ext cx="19080" cy="27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 rot="16200000">
              <a:off x="6763320" y="5351400"/>
              <a:ext cx="19080" cy="30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rot="5400000">
              <a:off x="6966720" y="5360040"/>
              <a:ext cx="31680" cy="122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 rot="16200000">
              <a:off x="6984720" y="5412600"/>
              <a:ext cx="114120" cy="73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 rot="16200000">
              <a:off x="6769800" y="5397480"/>
              <a:ext cx="34920" cy="39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 rot="16200000">
              <a:off x="6813360" y="5396760"/>
              <a:ext cx="34920" cy="41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rot="5400000">
              <a:off x="6784560" y="5429160"/>
              <a:ext cx="19080" cy="111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9" name=""/>
            <p:cNvGrpSpPr/>
            <p:nvPr/>
          </p:nvGrpSpPr>
          <p:grpSpPr>
            <a:xfrm>
              <a:off x="6854760" y="5356080"/>
              <a:ext cx="69480" cy="57240"/>
              <a:chOff x="6854760" y="5356080"/>
              <a:chExt cx="69480" cy="57240"/>
            </a:xfrm>
          </p:grpSpPr>
          <p:sp>
            <p:nvSpPr>
              <p:cNvPr id="370" name=""/>
              <p:cNvSpPr/>
              <p:nvPr/>
            </p:nvSpPr>
            <p:spPr>
              <a:xfrm>
                <a:off x="6854760" y="5356080"/>
                <a:ext cx="34560" cy="57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889320" y="5356080"/>
                <a:ext cx="34920" cy="57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6835680" y="5276880"/>
              <a:ext cx="152640" cy="127080"/>
              <a:chOff x="6835680" y="5276880"/>
              <a:chExt cx="152640" cy="127080"/>
            </a:xfrm>
          </p:grpSpPr>
          <p:grpSp>
            <p:nvGrpSpPr>
              <p:cNvPr id="373" name=""/>
              <p:cNvGrpSpPr/>
              <p:nvPr/>
            </p:nvGrpSpPr>
            <p:grpSpPr>
              <a:xfrm>
                <a:off x="6902640" y="5384520"/>
                <a:ext cx="25920" cy="11880"/>
                <a:chOff x="6902640" y="5384520"/>
                <a:chExt cx="25920" cy="11880"/>
              </a:xfrm>
            </p:grpSpPr>
            <p:sp>
              <p:nvSpPr>
                <p:cNvPr id="374" name=""/>
                <p:cNvSpPr/>
                <p:nvPr/>
              </p:nvSpPr>
              <p:spPr>
                <a:xfrm flipV="1">
                  <a:off x="6921360" y="5384520"/>
                  <a:ext cx="0" cy="11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 flipV="1">
                  <a:off x="6912000" y="5384520"/>
                  <a:ext cx="0" cy="11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 flipH="1">
                  <a:off x="6902640" y="5393880"/>
                  <a:ext cx="25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 flipH="1">
                  <a:off x="6902640" y="5388840"/>
                  <a:ext cx="25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8" name=""/>
              <p:cNvSpPr/>
              <p:nvPr/>
            </p:nvSpPr>
            <p:spPr>
              <a:xfrm rot="19800000">
                <a:off x="6888960" y="5325120"/>
                <a:ext cx="30600" cy="69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320" bIns="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835680" y="5276880"/>
                <a:ext cx="79200" cy="74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rot="2220000">
                <a:off x="6931800" y="5320800"/>
                <a:ext cx="20880" cy="81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899400" y="5363640"/>
                <a:ext cx="44280" cy="40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843240" y="5283720"/>
                <a:ext cx="64440" cy="61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3" name=""/>
              <p:cNvGrpSpPr/>
              <p:nvPr/>
            </p:nvGrpSpPr>
            <p:grpSpPr>
              <a:xfrm>
                <a:off x="6949080" y="5303520"/>
                <a:ext cx="39240" cy="37440"/>
                <a:chOff x="6949080" y="5303520"/>
                <a:chExt cx="39240" cy="37440"/>
              </a:xfrm>
            </p:grpSpPr>
            <p:sp>
              <p:nvSpPr>
                <p:cNvPr id="384" name=""/>
                <p:cNvSpPr/>
                <p:nvPr/>
              </p:nvSpPr>
              <p:spPr>
                <a:xfrm>
                  <a:off x="6949080" y="5303520"/>
                  <a:ext cx="39240" cy="374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6961320" y="5314320"/>
                  <a:ext cx="15480" cy="136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86" name=""/>
            <p:cNvSpPr/>
            <p:nvPr/>
          </p:nvSpPr>
          <p:spPr>
            <a:xfrm flipV="1" rot="16200000">
              <a:off x="6792840" y="5435640"/>
              <a:ext cx="30240" cy="39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21640" y="5424480"/>
              <a:ext cx="17280" cy="77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31680" bIns="31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 rot="16200000">
              <a:off x="6725880" y="5398560"/>
              <a:ext cx="34920" cy="37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 rot="16200000">
              <a:off x="6746760" y="5435640"/>
              <a:ext cx="30240" cy="39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735600" y="5156280"/>
              <a:ext cx="281160" cy="30636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5400000">
              <a:off x="6933240" y="5404680"/>
              <a:ext cx="20520" cy="3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 rot="16200000">
              <a:off x="6864120" y="5398200"/>
              <a:ext cx="42840" cy="7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rot="10800000">
              <a:off x="7081920" y="5073480"/>
              <a:ext cx="33120" cy="22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rot="10800000">
              <a:off x="7063920" y="5073480"/>
              <a:ext cx="19080" cy="270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047000" y="5102280"/>
              <a:ext cx="54000" cy="212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rot="10800000">
              <a:off x="7112160" y="5073480"/>
              <a:ext cx="18720" cy="270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7047000" y="5307840"/>
              <a:ext cx="83880" cy="49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664320" y="5294160"/>
              <a:ext cx="46080" cy="61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819840" y="5356080"/>
              <a:ext cx="34920" cy="57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 rot="16200000">
              <a:off x="6540120" y="5348880"/>
              <a:ext cx="17640" cy="30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6583320" y="5317920"/>
              <a:ext cx="0" cy="3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6458040" y="535932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398640" y="5405400"/>
              <a:ext cx="3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 flipV="1">
              <a:off x="6361920" y="5275440"/>
              <a:ext cx="81000" cy="55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 rot="16200000">
              <a:off x="6427440" y="5320800"/>
              <a:ext cx="27000" cy="153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 rot="16200000">
              <a:off x="6483960" y="5381640"/>
              <a:ext cx="19080" cy="30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 flipV="1">
              <a:off x="6408720" y="5145840"/>
              <a:ext cx="39600" cy="119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 flipV="1">
              <a:off x="6362640" y="5145840"/>
              <a:ext cx="39600" cy="119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 flipV="1">
              <a:off x="6530400" y="5400720"/>
              <a:ext cx="74520" cy="6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027840" y="5219640"/>
              <a:ext cx="314280" cy="285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 flipV="1" rot="16200000">
              <a:off x="6027840" y="5327640"/>
              <a:ext cx="42840" cy="161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 flipV="1">
              <a:off x="5955480" y="5137200"/>
              <a:ext cx="174600" cy="147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rot="5400000">
              <a:off x="6276960" y="5337000"/>
              <a:ext cx="44280" cy="133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rot="10800000">
              <a:off x="6342120" y="5349960"/>
              <a:ext cx="117360" cy="101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 flipV="1">
              <a:off x="6240600" y="5285520"/>
              <a:ext cx="102960" cy="79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 flipV="1" rot="5400000">
              <a:off x="6233040" y="5200200"/>
              <a:ext cx="96840" cy="45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 flipV="1">
              <a:off x="6226200" y="5106240"/>
              <a:ext cx="115920" cy="112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 flipV="1">
              <a:off x="6143040" y="5397480"/>
              <a:ext cx="82440" cy="92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9" name=""/>
            <p:cNvGrpSpPr/>
            <p:nvPr/>
          </p:nvGrpSpPr>
          <p:grpSpPr>
            <a:xfrm>
              <a:off x="6145200" y="5275440"/>
              <a:ext cx="152280" cy="126720"/>
              <a:chOff x="6145200" y="5275440"/>
              <a:chExt cx="152280" cy="126720"/>
            </a:xfrm>
          </p:grpSpPr>
          <p:grpSp>
            <p:nvGrpSpPr>
              <p:cNvPr id="420" name=""/>
              <p:cNvGrpSpPr/>
              <p:nvPr/>
            </p:nvGrpSpPr>
            <p:grpSpPr>
              <a:xfrm>
                <a:off x="6211800" y="5383080"/>
                <a:ext cx="25920" cy="11880"/>
                <a:chOff x="6211800" y="5383080"/>
                <a:chExt cx="25920" cy="11880"/>
              </a:xfrm>
            </p:grpSpPr>
            <p:sp>
              <p:nvSpPr>
                <p:cNvPr id="421" name=""/>
                <p:cNvSpPr/>
                <p:nvPr/>
              </p:nvSpPr>
              <p:spPr>
                <a:xfrm flipV="1">
                  <a:off x="6230520" y="5383080"/>
                  <a:ext cx="0" cy="11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 flipV="1">
                  <a:off x="6221160" y="5383080"/>
                  <a:ext cx="0" cy="11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 flipH="1">
                  <a:off x="6211800" y="5392440"/>
                  <a:ext cx="25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 flipH="1">
                  <a:off x="6211800" y="5387400"/>
                  <a:ext cx="25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5" name=""/>
              <p:cNvSpPr/>
              <p:nvPr/>
            </p:nvSpPr>
            <p:spPr>
              <a:xfrm rot="19800000">
                <a:off x="6198480" y="5323680"/>
                <a:ext cx="30600" cy="69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320" bIns="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145200" y="5275440"/>
                <a:ext cx="78840" cy="74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rot="2220000">
                <a:off x="6240960" y="5319000"/>
                <a:ext cx="20880" cy="80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208560" y="5361840"/>
                <a:ext cx="44280" cy="40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152760" y="5282280"/>
                <a:ext cx="64440" cy="61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0" name=""/>
              <p:cNvGrpSpPr/>
              <p:nvPr/>
            </p:nvGrpSpPr>
            <p:grpSpPr>
              <a:xfrm>
                <a:off x="6258240" y="5302080"/>
                <a:ext cx="39240" cy="37440"/>
                <a:chOff x="6258240" y="5302080"/>
                <a:chExt cx="39240" cy="3744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6258240" y="5302080"/>
                  <a:ext cx="39240" cy="374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6270480" y="5312880"/>
                  <a:ext cx="15480" cy="136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33" name=""/>
            <p:cNvGrpSpPr/>
            <p:nvPr/>
          </p:nvGrpSpPr>
          <p:grpSpPr>
            <a:xfrm>
              <a:off x="6554880" y="5218200"/>
              <a:ext cx="63360" cy="93600"/>
              <a:chOff x="6554880" y="5218200"/>
              <a:chExt cx="63360" cy="93600"/>
            </a:xfrm>
          </p:grpSpPr>
          <p:sp>
            <p:nvSpPr>
              <p:cNvPr id="434" name=""/>
              <p:cNvSpPr/>
              <p:nvPr/>
            </p:nvSpPr>
            <p:spPr>
              <a:xfrm>
                <a:off x="6554880" y="5218200"/>
                <a:ext cx="63360" cy="93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6562440" y="5229720"/>
                <a:ext cx="20160" cy="70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589440" y="5229720"/>
                <a:ext cx="20880" cy="70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7" name=""/>
            <p:cNvGrpSpPr/>
            <p:nvPr/>
          </p:nvGrpSpPr>
          <p:grpSpPr>
            <a:xfrm>
              <a:off x="6458040" y="5275440"/>
              <a:ext cx="152280" cy="125280"/>
              <a:chOff x="6458040" y="5275440"/>
              <a:chExt cx="152280" cy="125280"/>
            </a:xfrm>
          </p:grpSpPr>
          <p:grpSp>
            <p:nvGrpSpPr>
              <p:cNvPr id="438" name=""/>
              <p:cNvGrpSpPr/>
              <p:nvPr/>
            </p:nvGrpSpPr>
            <p:grpSpPr>
              <a:xfrm>
                <a:off x="6524640" y="5381640"/>
                <a:ext cx="25920" cy="11880"/>
                <a:chOff x="6524640" y="5381640"/>
                <a:chExt cx="25920" cy="11880"/>
              </a:xfrm>
            </p:grpSpPr>
            <p:sp>
              <p:nvSpPr>
                <p:cNvPr id="439" name=""/>
                <p:cNvSpPr/>
                <p:nvPr/>
              </p:nvSpPr>
              <p:spPr>
                <a:xfrm flipV="1">
                  <a:off x="6543360" y="5381640"/>
                  <a:ext cx="0" cy="11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 flipV="1">
                  <a:off x="6534000" y="5381640"/>
                  <a:ext cx="0" cy="11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 flipH="1">
                  <a:off x="6524640" y="5391000"/>
                  <a:ext cx="25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 flipH="1">
                  <a:off x="6524640" y="5385960"/>
                  <a:ext cx="25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3" name=""/>
              <p:cNvSpPr/>
              <p:nvPr/>
            </p:nvSpPr>
            <p:spPr>
              <a:xfrm rot="19800000">
                <a:off x="6510960" y="5323320"/>
                <a:ext cx="30600" cy="68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458040" y="5275440"/>
                <a:ext cx="78840" cy="73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rot="2220000">
                <a:off x="6554160" y="5319000"/>
                <a:ext cx="20880" cy="79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521400" y="5360760"/>
                <a:ext cx="44280" cy="39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465600" y="5282280"/>
                <a:ext cx="64440" cy="604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8" name=""/>
              <p:cNvGrpSpPr/>
              <p:nvPr/>
            </p:nvGrpSpPr>
            <p:grpSpPr>
              <a:xfrm>
                <a:off x="6571080" y="5301720"/>
                <a:ext cx="39240" cy="37080"/>
                <a:chOff x="6571080" y="5301720"/>
                <a:chExt cx="39240" cy="37080"/>
              </a:xfrm>
            </p:grpSpPr>
            <p:sp>
              <p:nvSpPr>
                <p:cNvPr id="449" name=""/>
                <p:cNvSpPr/>
                <p:nvPr/>
              </p:nvSpPr>
              <p:spPr>
                <a:xfrm>
                  <a:off x="6571080" y="5301720"/>
                  <a:ext cx="39240" cy="370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6583320" y="5312160"/>
                  <a:ext cx="15480" cy="133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51" name=""/>
            <p:cNvGrpSpPr/>
            <p:nvPr/>
          </p:nvGrpSpPr>
          <p:grpSpPr>
            <a:xfrm>
              <a:off x="6480000" y="5121360"/>
              <a:ext cx="63720" cy="93600"/>
              <a:chOff x="6480000" y="5121360"/>
              <a:chExt cx="63720" cy="93600"/>
            </a:xfrm>
          </p:grpSpPr>
          <p:sp>
            <p:nvSpPr>
              <p:cNvPr id="452" name=""/>
              <p:cNvSpPr/>
              <p:nvPr/>
            </p:nvSpPr>
            <p:spPr>
              <a:xfrm>
                <a:off x="6480000" y="5121360"/>
                <a:ext cx="63720" cy="93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487560" y="5132880"/>
                <a:ext cx="20160" cy="70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514920" y="5132880"/>
                <a:ext cx="21240" cy="70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5" name=""/>
            <p:cNvSpPr/>
            <p:nvPr/>
          </p:nvSpPr>
          <p:spPr>
            <a:xfrm flipH="1" flipV="1">
              <a:off x="6027120" y="5299200"/>
              <a:ext cx="106200" cy="79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 rot="10800000">
              <a:no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045120" y="5154480"/>
              <a:ext cx="281160" cy="30636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357960" y="5154480"/>
              <a:ext cx="280800" cy="30636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157720" y="5137200"/>
              <a:ext cx="133560" cy="6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802040" y="5137200"/>
              <a:ext cx="133560" cy="6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923000" y="5002200"/>
              <a:ext cx="258480" cy="23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157720" y="5438880"/>
              <a:ext cx="133560" cy="71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802040" y="5438880"/>
              <a:ext cx="133560" cy="71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923000" y="5303880"/>
              <a:ext cx="258480" cy="236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296120" y="5513400"/>
              <a:ext cx="12600" cy="114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169040" y="5510160"/>
              <a:ext cx="12960" cy="115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167600" y="5580000"/>
              <a:ext cx="146160" cy="69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215120" y="5540400"/>
              <a:ext cx="54000" cy="98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 flipV="1">
              <a:off x="5362200" y="5179680"/>
              <a:ext cx="466920" cy="27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340760" y="4929120"/>
              <a:ext cx="392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331040" y="5470560"/>
              <a:ext cx="393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537320" y="4637160"/>
              <a:ext cx="216000" cy="116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670160" y="4232880"/>
              <a:ext cx="1151640" cy="45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Final assembl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by work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511960" y="4269240"/>
              <a:ext cx="2011320" cy="45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ensor module productio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by Automatic mach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469280" y="4775040"/>
              <a:ext cx="332640" cy="7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Module sto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5" name=""/>
          <p:cNvSpPr/>
          <p:nvPr/>
        </p:nvSpPr>
        <p:spPr>
          <a:xfrm flipV="1">
            <a:off x="2971800" y="403848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2895480" y="3504960"/>
            <a:ext cx="76212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85800" y="5072040"/>
            <a:ext cx="1709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85800" y="4665600"/>
            <a:ext cx="17272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85800" y="4262400"/>
            <a:ext cx="1752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" y="3860640"/>
            <a:ext cx="1746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65080" y="5168880"/>
            <a:ext cx="260280" cy="3081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021040" y="5313240"/>
            <a:ext cx="260280" cy="154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865080" y="4016520"/>
            <a:ext cx="260280" cy="1152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021040" y="3978360"/>
            <a:ext cx="260280" cy="1334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865080" y="3916440"/>
            <a:ext cx="260280" cy="100080"/>
          </a:xfrm>
          <a:prstGeom prst="rect">
            <a:avLst/>
          </a:prstGeom>
          <a:solidFill>
            <a:srgbClr val="ff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295280" y="5464080"/>
            <a:ext cx="260640" cy="11160"/>
          </a:xfrm>
          <a:prstGeom prst="rect">
            <a:avLst/>
          </a:prstGeom>
          <a:solidFill>
            <a:srgbClr val="ff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021040" y="3805200"/>
            <a:ext cx="260280" cy="173160"/>
          </a:xfrm>
          <a:prstGeom prst="rect">
            <a:avLst/>
          </a:prstGeom>
          <a:solidFill>
            <a:srgbClr val="ff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85800" y="3657600"/>
            <a:ext cx="0" cy="181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85800" y="5475240"/>
            <a:ext cx="205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85800" y="5272200"/>
            <a:ext cx="205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85800" y="5072040"/>
            <a:ext cx="20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85800" y="4869000"/>
            <a:ext cx="205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85800" y="4665600"/>
            <a:ext cx="205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85800" y="4467240"/>
            <a:ext cx="205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85800" y="4262400"/>
            <a:ext cx="20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85800" y="4060800"/>
            <a:ext cx="205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85800" y="3860640"/>
            <a:ext cx="205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85800" y="3657600"/>
            <a:ext cx="20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85800" y="5475240"/>
            <a:ext cx="17208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454040" y="4495680"/>
            <a:ext cx="222480" cy="965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554120" y="5473800"/>
            <a:ext cx="260280" cy="9360"/>
          </a:xfrm>
          <a:prstGeom prst="rect">
            <a:avLst/>
          </a:prstGeom>
          <a:solidFill>
            <a:srgbClr val="ff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30400" y="4952160"/>
            <a:ext cx="40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91880" y="4114080"/>
            <a:ext cx="485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1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07080" y="350496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009800" y="3580200"/>
            <a:ext cx="97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 me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53400" y="5428440"/>
            <a:ext cx="715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is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2E□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287720" y="5536440"/>
            <a:ext cx="79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New E2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922040" y="5420520"/>
            <a:ext cx="61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m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 flipV="1">
            <a:off x="2133720" y="3885840"/>
            <a:ext cx="30456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2209320" y="4495680"/>
            <a:ext cx="38124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2209320" y="54100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rot="3790800">
            <a:off x="952200" y="4076640"/>
            <a:ext cx="762120" cy="228600"/>
          </a:xfrm>
          <a:prstGeom prst="rightArrow">
            <a:avLst>
              <a:gd name="adj1" fmla="val 62019"/>
              <a:gd name="adj2" fmla="val 8021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427120" y="4423320"/>
            <a:ext cx="614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r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568960" y="5256720"/>
            <a:ext cx="5007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391480" y="4037400"/>
            <a:ext cx="5526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746840" y="3873600"/>
            <a:ext cx="15264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634800" y="3542400"/>
            <a:ext cx="210852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inal assembly does not ne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arge amount of investmen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55800" y="946440"/>
            <a:ext cx="2449800" cy="307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veloping the triple dist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43720" y="496080"/>
            <a:ext cx="1933200" cy="36828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■ 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Double dis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235640" y="6252480"/>
            <a:ext cx="1827720" cy="36828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■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P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5T12:38:43Z</dcterms:created>
  <dc:creator>tankaz</dc:creator>
  <dc:description/>
  <dc:language>en-US</dc:language>
  <cp:lastModifiedBy>tankaz</cp:lastModifiedBy>
  <dcterms:modified xsi:type="dcterms:W3CDTF">2003-03-17T16:26:21Z</dcterms:modified>
  <cp:revision>14</cp:revision>
  <dc:subject/>
  <dc:title>PowerPoint プレゼンテーション</dc:title>
</cp:coreProperties>
</file>