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1F57-28DC-45D2-861B-947FF0A4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241C-BA16-4FD2-873A-6C06F397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77CF-29C8-4335-90F3-C0C5968B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399-2417-408D-A295-79C9F680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8784-2804-4359-81DE-899D7080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5370-DA8C-401B-8473-B08BC87D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C4DB-69B3-4E92-9C3B-AC79A4B6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A96C-3DBF-46FE-9167-386C09FC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8811-EFCD-40F3-A47B-60944E2B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7079-A6C2-46FD-B9CB-90BEA1B3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2BD9-34CD-4DAA-962E-9CF5E2ED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360A-1F7B-4C19-9F3B-C235DAEF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BFDB-C9A8-4924-945C-0031ABD866A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EMC type of E2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3623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E2As already have higher EMC level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ep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66880" y="2884320"/>
            <a:ext cx="693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2AU --- 30V/m RF noise immu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66880" y="3454560"/>
            <a:ext cx="693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2A --- 100V/m RF noise immu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7360" y="4807080"/>
            <a:ext cx="8076960" cy="116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still have problem in real applic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provide further modified type of E2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8280" y="4076640"/>
            <a:ext cx="8420040" cy="547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ep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22600" y="2606760"/>
            <a:ext cx="2279520" cy="89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346640" y="2665440"/>
            <a:ext cx="525240" cy="795240"/>
            <a:chOff x="4346640" y="2665440"/>
            <a:chExt cx="525240" cy="795240"/>
          </a:xfrm>
        </p:grpSpPr>
        <p:sp>
          <p:nvSpPr>
            <p:cNvPr id="51" name=""/>
            <p:cNvSpPr/>
            <p:nvPr/>
          </p:nvSpPr>
          <p:spPr>
            <a:xfrm>
              <a:off x="4346640" y="2665440"/>
              <a:ext cx="525240" cy="795240"/>
            </a:xfrm>
            <a:custGeom>
              <a:avLst/>
              <a:gdLst/>
              <a:ahLst/>
              <a:rect l="l" t="t" r="r" b="b"/>
              <a:pathLst>
                <a:path w="982" h="1530">
                  <a:moveTo>
                    <a:pt x="982" y="0"/>
                  </a:moveTo>
                  <a:lnTo>
                    <a:pt x="0" y="0"/>
                  </a:lnTo>
                  <a:lnTo>
                    <a:pt x="0" y="1530"/>
                  </a:lnTo>
                  <a:lnTo>
                    <a:pt x="982" y="1530"/>
                  </a:lnTo>
                  <a:lnTo>
                    <a:pt x="982" y="1303"/>
                  </a:lnTo>
                  <a:lnTo>
                    <a:pt x="387" y="1303"/>
                  </a:lnTo>
                  <a:lnTo>
                    <a:pt x="387" y="944"/>
                  </a:lnTo>
                  <a:lnTo>
                    <a:pt x="963" y="944"/>
                  </a:lnTo>
                  <a:lnTo>
                    <a:pt x="963" y="604"/>
                  </a:lnTo>
                  <a:lnTo>
                    <a:pt x="378" y="604"/>
                  </a:lnTo>
                  <a:lnTo>
                    <a:pt x="378" y="227"/>
                  </a:lnTo>
                  <a:lnTo>
                    <a:pt x="982" y="227"/>
                  </a:lnTo>
                  <a:lnTo>
                    <a:pt x="982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727520" y="2787120"/>
              <a:ext cx="36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31840" y="3151800"/>
              <a:ext cx="36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4549320" y="2781720"/>
              <a:ext cx="17352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549320" y="2781720"/>
              <a:ext cx="17820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4558680" y="3151080"/>
              <a:ext cx="17820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4554360" y="3156480"/>
              <a:ext cx="17352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17720" y="3013200"/>
            <a:ext cx="1543320" cy="88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9880" y="2892600"/>
            <a:ext cx="2683080" cy="890280"/>
          </a:xfrm>
          <a:custGeom>
            <a:avLst/>
            <a:gdLst/>
            <a:ahLst/>
            <a:rect l="l" t="t" r="r" b="b"/>
            <a:pathLst>
              <a:path w="1690" h="561">
                <a:moveTo>
                  <a:pt x="0" y="537"/>
                </a:moveTo>
                <a:cubicBezTo>
                  <a:pt x="282" y="549"/>
                  <a:pt x="565" y="561"/>
                  <a:pt x="727" y="509"/>
                </a:cubicBezTo>
                <a:cubicBezTo>
                  <a:pt x="889" y="457"/>
                  <a:pt x="887" y="306"/>
                  <a:pt x="972" y="226"/>
                </a:cubicBezTo>
                <a:cubicBezTo>
                  <a:pt x="1057" y="146"/>
                  <a:pt x="1147" y="56"/>
                  <a:pt x="1237" y="28"/>
                </a:cubicBezTo>
                <a:cubicBezTo>
                  <a:pt x="1327" y="0"/>
                  <a:pt x="1435" y="51"/>
                  <a:pt x="1511" y="56"/>
                </a:cubicBezTo>
                <a:cubicBezTo>
                  <a:pt x="1587" y="61"/>
                  <a:pt x="1638" y="58"/>
                  <a:pt x="1690" y="56"/>
                </a:cubicBezTo>
              </a:path>
            </a:pathLst>
          </a:custGeom>
          <a:noFill/>
          <a:ln w="82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655720" y="2325600"/>
            <a:ext cx="2230560" cy="209520"/>
            <a:chOff x="2655720" y="2325600"/>
            <a:chExt cx="2230560" cy="209520"/>
          </a:xfrm>
        </p:grpSpPr>
        <p:sp>
          <p:nvSpPr>
            <p:cNvPr id="61" name=""/>
            <p:cNvSpPr/>
            <p:nvPr/>
          </p:nvSpPr>
          <p:spPr>
            <a:xfrm>
              <a:off x="4546440" y="2339640"/>
              <a:ext cx="165240" cy="1954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1400" y="2336760"/>
              <a:ext cx="164880" cy="1951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03720" y="2339640"/>
              <a:ext cx="165240" cy="1954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78320" y="2336760"/>
              <a:ext cx="165240" cy="1951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60640" y="2334960"/>
              <a:ext cx="165240" cy="1954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35600" y="2331720"/>
              <a:ext cx="164880" cy="1954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17920" y="2334960"/>
              <a:ext cx="165240" cy="1954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92520" y="2331720"/>
              <a:ext cx="165240" cy="1954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70160" y="2330280"/>
              <a:ext cx="165240" cy="1951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44760" y="2327040"/>
              <a:ext cx="165240" cy="1954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27440" y="2330280"/>
              <a:ext cx="164880" cy="1951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02040" y="2327040"/>
              <a:ext cx="164880" cy="1954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55720" y="2325600"/>
              <a:ext cx="165240" cy="1951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 flipH="1" flipV="1">
            <a:off x="4881600" y="2533320"/>
            <a:ext cx="1440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624040" y="2519280"/>
            <a:ext cx="28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651040" y="3573360"/>
            <a:ext cx="2230560" cy="209520"/>
            <a:chOff x="2651040" y="3573360"/>
            <a:chExt cx="2230560" cy="209520"/>
          </a:xfrm>
        </p:grpSpPr>
        <p:sp>
          <p:nvSpPr>
            <p:cNvPr id="77" name=""/>
            <p:cNvSpPr/>
            <p:nvPr/>
          </p:nvSpPr>
          <p:spPr>
            <a:xfrm flipV="1">
              <a:off x="4541760" y="3573000"/>
              <a:ext cx="165240" cy="1954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716720" y="3576600"/>
              <a:ext cx="164880" cy="1951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4199040" y="3573000"/>
              <a:ext cx="165240" cy="1954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4373640" y="3576600"/>
              <a:ext cx="165240" cy="1951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855960" y="3577680"/>
              <a:ext cx="165240" cy="1954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030920" y="3580920"/>
              <a:ext cx="164880" cy="1954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513240" y="3577680"/>
              <a:ext cx="165240" cy="1954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3687840" y="3580920"/>
              <a:ext cx="165240" cy="1954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5480" y="3583080"/>
              <a:ext cx="165240" cy="1951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3340080" y="3585600"/>
              <a:ext cx="165240" cy="1954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822760" y="3583080"/>
              <a:ext cx="164880" cy="1951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2997360" y="3585600"/>
              <a:ext cx="164880" cy="1954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651040" y="3587760"/>
              <a:ext cx="165240" cy="1951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 flipH="1">
            <a:off x="4881240" y="3505320"/>
            <a:ext cx="19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24040" y="3505320"/>
            <a:ext cx="2880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4229400">
            <a:off x="5130360" y="2235240"/>
            <a:ext cx="343080" cy="86364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4229400">
            <a:off x="3999960" y="1562040"/>
            <a:ext cx="343080" cy="86364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20429400">
            <a:off x="469800" y="2869920"/>
            <a:ext cx="343080" cy="86364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 rot="20430000">
            <a:off x="3211560" y="3726000"/>
            <a:ext cx="544320" cy="4662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 rot="20430000">
            <a:off x="976320" y="3751200"/>
            <a:ext cx="544680" cy="4669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467160" y="2654280"/>
            <a:ext cx="164520" cy="304920"/>
            <a:chOff x="3467160" y="2654280"/>
            <a:chExt cx="164520" cy="304920"/>
          </a:xfrm>
        </p:grpSpPr>
        <p:sp>
          <p:nvSpPr>
            <p:cNvPr id="98" name=""/>
            <p:cNvSpPr/>
            <p:nvPr/>
          </p:nvSpPr>
          <p:spPr>
            <a:xfrm>
              <a:off x="3467160" y="277884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71120" y="283464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3553920" y="2654280"/>
              <a:ext cx="0" cy="12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553920" y="2834640"/>
              <a:ext cx="0" cy="12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657600" y="3137040"/>
            <a:ext cx="165240" cy="303840"/>
            <a:chOff x="3657600" y="3137040"/>
            <a:chExt cx="165240" cy="303840"/>
          </a:xfrm>
        </p:grpSpPr>
        <p:sp>
          <p:nvSpPr>
            <p:cNvPr id="103" name=""/>
            <p:cNvSpPr/>
            <p:nvPr/>
          </p:nvSpPr>
          <p:spPr>
            <a:xfrm>
              <a:off x="3657600" y="3261600"/>
              <a:ext cx="16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61920" y="3317040"/>
              <a:ext cx="16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3744360" y="3137040"/>
              <a:ext cx="0" cy="12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3744360" y="3316680"/>
              <a:ext cx="0" cy="124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384200" y="3759120"/>
            <a:ext cx="165240" cy="304920"/>
            <a:chOff x="1384200" y="3759120"/>
            <a:chExt cx="165240" cy="304920"/>
          </a:xfrm>
        </p:grpSpPr>
        <p:sp>
          <p:nvSpPr>
            <p:cNvPr id="108" name=""/>
            <p:cNvSpPr/>
            <p:nvPr/>
          </p:nvSpPr>
          <p:spPr>
            <a:xfrm>
              <a:off x="1384200" y="3883680"/>
              <a:ext cx="16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88520" y="3939480"/>
              <a:ext cx="16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470960" y="3759120"/>
              <a:ext cx="0" cy="12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470960" y="3939480"/>
              <a:ext cx="0" cy="12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695760" y="3733920"/>
            <a:ext cx="164520" cy="303840"/>
            <a:chOff x="3695760" y="3733920"/>
            <a:chExt cx="164520" cy="303840"/>
          </a:xfrm>
        </p:grpSpPr>
        <p:sp>
          <p:nvSpPr>
            <p:cNvPr id="113" name=""/>
            <p:cNvSpPr/>
            <p:nvPr/>
          </p:nvSpPr>
          <p:spPr>
            <a:xfrm>
              <a:off x="3695760" y="385848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99720" y="391392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782520" y="3733920"/>
              <a:ext cx="0" cy="12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782520" y="3913560"/>
              <a:ext cx="0" cy="124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631960" y="4175280"/>
            <a:ext cx="35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4280" y="509760"/>
            <a:ext cx="70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43080" y="896760"/>
            <a:ext cx="70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lower response frequency (10Hz respon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1316160"/>
            <a:ext cx="78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higher RF noise immunity when noise came in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from sensing su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651640" y="1633680"/>
            <a:ext cx="1573200" cy="80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964200" y="5857920"/>
            <a:ext cx="525600" cy="795240"/>
            <a:chOff x="6964200" y="5857920"/>
            <a:chExt cx="525600" cy="795240"/>
          </a:xfrm>
        </p:grpSpPr>
        <p:sp>
          <p:nvSpPr>
            <p:cNvPr id="123" name=""/>
            <p:cNvSpPr/>
            <p:nvPr/>
          </p:nvSpPr>
          <p:spPr>
            <a:xfrm>
              <a:off x="6964200" y="5857920"/>
              <a:ext cx="525600" cy="795240"/>
            </a:xfrm>
            <a:custGeom>
              <a:avLst/>
              <a:gdLst/>
              <a:ahLst/>
              <a:rect l="l" t="t" r="r" b="b"/>
              <a:pathLst>
                <a:path w="982" h="1530">
                  <a:moveTo>
                    <a:pt x="982" y="0"/>
                  </a:moveTo>
                  <a:lnTo>
                    <a:pt x="0" y="0"/>
                  </a:lnTo>
                  <a:lnTo>
                    <a:pt x="0" y="1530"/>
                  </a:lnTo>
                  <a:lnTo>
                    <a:pt x="982" y="1530"/>
                  </a:lnTo>
                  <a:lnTo>
                    <a:pt x="982" y="1303"/>
                  </a:lnTo>
                  <a:lnTo>
                    <a:pt x="387" y="1303"/>
                  </a:lnTo>
                  <a:lnTo>
                    <a:pt x="387" y="944"/>
                  </a:lnTo>
                  <a:lnTo>
                    <a:pt x="963" y="944"/>
                  </a:lnTo>
                  <a:lnTo>
                    <a:pt x="963" y="604"/>
                  </a:lnTo>
                  <a:lnTo>
                    <a:pt x="378" y="604"/>
                  </a:lnTo>
                  <a:lnTo>
                    <a:pt x="378" y="227"/>
                  </a:lnTo>
                  <a:lnTo>
                    <a:pt x="982" y="227"/>
                  </a:lnTo>
                  <a:lnTo>
                    <a:pt x="982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45080" y="5979600"/>
              <a:ext cx="36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49760" y="6344280"/>
              <a:ext cx="36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7166880" y="5974200"/>
              <a:ext cx="17352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166880" y="5974200"/>
              <a:ext cx="17820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7176600" y="6343560"/>
              <a:ext cx="17820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7171920" y="6348960"/>
              <a:ext cx="17352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391000" y="5884920"/>
            <a:ext cx="1260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cillation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62440" y="5884920"/>
            <a:ext cx="1334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tegration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08400" y="5899320"/>
            <a:ext cx="1334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witching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5900760"/>
            <a:ext cx="1335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tput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649560" y="6200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195880" y="6184800"/>
            <a:ext cx="19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741480" y="621504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242800" y="623088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79600" y="6245280"/>
            <a:ext cx="32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4280" y="4916520"/>
            <a:ext cx="79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 type has higher integration constant = lower respo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79400" y="5305320"/>
            <a:ext cx="79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wer sensitivity for disturbance from sensing coi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ep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5000" y="749160"/>
            <a:ext cx="59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ations of higher EMC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44640" y="1514520"/>
            <a:ext cx="59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low response frequency (10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2098800"/>
            <a:ext cx="66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another specifications are same as standard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84160" y="344808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type can be realized by RIS requ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5:45:40Z</dcterms:created>
  <dc:creator>NHA0019E</dc:creator>
  <dc:description/>
  <dc:language>en-US</dc:language>
  <cp:lastModifiedBy>NHA0019E</cp:lastModifiedBy>
  <dcterms:modified xsi:type="dcterms:W3CDTF">2005-09-06T15:34:25Z</dcterms:modified>
  <cp:revision>11</cp:revision>
  <dc:subject/>
  <dc:title>PowerPoint プレゼンテーション</dc:title>
</cp:coreProperties>
</file>