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F6D5-7DAB-4568-ADA5-1BC2767E2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748D-CA55-4AAE-A4A7-E5817AD7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A166-5CBE-4546-BD67-603E64B30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1C3D-55D6-4210-9B9A-B2656F693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D06D-8869-4307-ADB2-50C73F05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8A73-F684-4600-B140-5F834097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A4DB-62D4-43D2-92AC-97C9AAB5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01D2-F00D-4E8C-AF73-2F58AED0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8E3C-F828-4A34-BD77-DC918BA8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39AA-39EE-4865-B907-0F30250F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5159-0F20-48A1-9564-3851432C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D0B9-FFE8-4A84-8D14-D93AE2D8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5F8C-918D-4C16-A6F7-42DAC7A0FFA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12952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metal for E2A 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2090880" y="2563920"/>
            <a:ext cx="1939320" cy="326520"/>
            <a:chOff x="2090880" y="2563920"/>
            <a:chExt cx="1939320" cy="326520"/>
          </a:xfrm>
        </p:grpSpPr>
        <p:sp>
          <p:nvSpPr>
            <p:cNvPr id="43" name=""/>
            <p:cNvSpPr/>
            <p:nvPr/>
          </p:nvSpPr>
          <p:spPr>
            <a:xfrm>
              <a:off x="3122640" y="2842920"/>
              <a:ext cx="176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65600" y="2861640"/>
              <a:ext cx="257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331440" y="2674080"/>
              <a:ext cx="3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409200" y="2688120"/>
              <a:ext cx="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flipV="1">
              <a:off x="3559680" y="2691000"/>
              <a:ext cx="1440" cy="11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59680" y="2689560"/>
              <a:ext cx="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588480" y="2701800"/>
              <a:ext cx="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19440" y="2689560"/>
              <a:ext cx="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47160" y="2691360"/>
              <a:ext cx="0" cy="11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559680" y="2807280"/>
              <a:ext cx="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88480" y="2795040"/>
              <a:ext cx="22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19440" y="2807280"/>
              <a:ext cx="25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304080" y="2815560"/>
              <a:ext cx="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67080" y="2814120"/>
              <a:ext cx="3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04080" y="2689560"/>
              <a:ext cx="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331440" y="2674080"/>
              <a:ext cx="0" cy="14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63840" y="2674080"/>
              <a:ext cx="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63840" y="2686320"/>
              <a:ext cx="45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90880" y="2601360"/>
              <a:ext cx="0" cy="25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3177360" y="2657160"/>
              <a:ext cx="17640" cy="1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3174480" y="2604240"/>
              <a:ext cx="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197160" y="2676240"/>
              <a:ext cx="10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47160" y="2708280"/>
              <a:ext cx="383040" cy="7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57320" y="2587320"/>
              <a:ext cx="26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25880" y="2604600"/>
              <a:ext cx="4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70280" y="285300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3304080" y="2675880"/>
              <a:ext cx="0" cy="16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331440" y="2826000"/>
              <a:ext cx="3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3441600" y="2689560"/>
              <a:ext cx="1440" cy="1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43040" y="2689560"/>
              <a:ext cx="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70400" y="2701800"/>
              <a:ext cx="3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01360" y="2689560"/>
              <a:ext cx="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28720" y="2691360"/>
              <a:ext cx="0" cy="11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43040" y="2807280"/>
              <a:ext cx="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70400" y="2795040"/>
              <a:ext cx="3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01360" y="2807280"/>
              <a:ext cx="25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8720" y="2708280"/>
              <a:ext cx="32040" cy="7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09200" y="2710080"/>
              <a:ext cx="32040" cy="7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988360" y="2597760"/>
              <a:ext cx="0" cy="2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23920" y="2597760"/>
              <a:ext cx="0" cy="2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68840" y="2597760"/>
              <a:ext cx="24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54960" y="2597760"/>
              <a:ext cx="0" cy="2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22640" y="2587320"/>
              <a:ext cx="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70400" y="2689560"/>
              <a:ext cx="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1360" y="2689560"/>
              <a:ext cx="0" cy="1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88480" y="2689560"/>
              <a:ext cx="0" cy="1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617640" y="269136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95720" y="2676240"/>
              <a:ext cx="0" cy="16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90880" y="2563920"/>
              <a:ext cx="776160" cy="326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090880" y="3298680"/>
            <a:ext cx="1939320" cy="325080"/>
            <a:chOff x="2090880" y="3298680"/>
            <a:chExt cx="1939320" cy="325080"/>
          </a:xfrm>
        </p:grpSpPr>
        <p:sp>
          <p:nvSpPr>
            <p:cNvPr id="93" name=""/>
            <p:cNvSpPr/>
            <p:nvPr/>
          </p:nvSpPr>
          <p:spPr>
            <a:xfrm>
              <a:off x="3122640" y="3576600"/>
              <a:ext cx="176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865600" y="3594960"/>
              <a:ext cx="257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31440" y="3408480"/>
              <a:ext cx="3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09200" y="34225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3559680" y="3425400"/>
              <a:ext cx="1440" cy="11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9680" y="3423960"/>
              <a:ext cx="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88480" y="3435840"/>
              <a:ext cx="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19440" y="3423960"/>
              <a:ext cx="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47160" y="3425400"/>
              <a:ext cx="0" cy="11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59680" y="3540960"/>
              <a:ext cx="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88480" y="3529080"/>
              <a:ext cx="22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19440" y="3540960"/>
              <a:ext cx="25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04080" y="3549240"/>
              <a:ext cx="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67080" y="3547800"/>
              <a:ext cx="3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04080" y="3423960"/>
              <a:ext cx="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3331440" y="340848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63840" y="3408480"/>
              <a:ext cx="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63840" y="3420360"/>
              <a:ext cx="45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90880" y="3335760"/>
              <a:ext cx="0" cy="25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3177360" y="3391560"/>
              <a:ext cx="17640" cy="1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174480" y="3339000"/>
              <a:ext cx="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97160" y="3410280"/>
              <a:ext cx="10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47160" y="3442320"/>
              <a:ext cx="38304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57320" y="3322080"/>
              <a:ext cx="26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25880" y="3339360"/>
              <a:ext cx="4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70280" y="358668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04080" y="3409920"/>
              <a:ext cx="0" cy="16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31440" y="3559680"/>
              <a:ext cx="3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3441600" y="3423960"/>
              <a:ext cx="144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43040" y="3423960"/>
              <a:ext cx="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70400" y="3435840"/>
              <a:ext cx="3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01360" y="3423960"/>
              <a:ext cx="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28720" y="3425400"/>
              <a:ext cx="0" cy="11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43040" y="3540960"/>
              <a:ext cx="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70400" y="3529080"/>
              <a:ext cx="3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01360" y="3540960"/>
              <a:ext cx="25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28720" y="3442320"/>
              <a:ext cx="32040" cy="7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09200" y="3444120"/>
              <a:ext cx="32040" cy="7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88360" y="3332520"/>
              <a:ext cx="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923920" y="3332520"/>
              <a:ext cx="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68840" y="3332520"/>
              <a:ext cx="24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54960" y="3332520"/>
              <a:ext cx="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22640" y="3322080"/>
              <a:ext cx="0" cy="27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70400" y="3423960"/>
              <a:ext cx="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01360" y="342396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88480" y="342396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17640" y="3425400"/>
              <a:ext cx="0" cy="11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195720" y="3410280"/>
              <a:ext cx="0" cy="16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880" y="3298680"/>
              <a:ext cx="776160" cy="3250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462240" y="24764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2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3920" y="337500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2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2073240"/>
            <a:ext cx="4114800" cy="2041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4000" y="1828800"/>
            <a:ext cx="146988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8 shielded typ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2890800"/>
            <a:ext cx="465120" cy="3254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92320" y="243828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2155680"/>
            <a:ext cx="0" cy="97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372600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81600" y="39225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3924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10600" y="388944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1.0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095880" y="2236680"/>
            <a:ext cx="1903320" cy="407880"/>
            <a:chOff x="6095880" y="2236680"/>
            <a:chExt cx="1903320" cy="407880"/>
          </a:xfrm>
        </p:grpSpPr>
        <p:sp>
          <p:nvSpPr>
            <p:cNvPr id="154" name=""/>
            <p:cNvSpPr/>
            <p:nvPr/>
          </p:nvSpPr>
          <p:spPr>
            <a:xfrm>
              <a:off x="7108560" y="2585160"/>
              <a:ext cx="173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56200" y="2608560"/>
              <a:ext cx="25236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13400" y="2374560"/>
              <a:ext cx="3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89720" y="2391840"/>
              <a:ext cx="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7537320" y="2395800"/>
              <a:ext cx="14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37320" y="2393640"/>
              <a:ext cx="2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65760" y="240876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96000" y="239364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3000" y="239580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37320" y="2540520"/>
              <a:ext cx="2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565760" y="2525400"/>
              <a:ext cx="2232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596000" y="2540520"/>
              <a:ext cx="2520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86400" y="255096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348320" y="2549160"/>
              <a:ext cx="3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86400" y="239364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313400" y="2374200"/>
              <a:ext cx="0" cy="18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345080" y="2374560"/>
              <a:ext cx="0" cy="18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45080" y="2389320"/>
              <a:ext cx="4464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95880" y="2283120"/>
              <a:ext cx="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7162200" y="2352960"/>
              <a:ext cx="1764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159320" y="2287800"/>
              <a:ext cx="0" cy="6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81640" y="2376720"/>
              <a:ext cx="10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23000" y="2417040"/>
              <a:ext cx="376200" cy="95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48280" y="2265840"/>
              <a:ext cx="26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111800" y="228780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60880" y="2597760"/>
              <a:ext cx="24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7286400" y="2376720"/>
              <a:ext cx="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313400" y="2563920"/>
              <a:ext cx="3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7421400" y="2393280"/>
              <a:ext cx="1440" cy="14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22840" y="239364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49840" y="2408760"/>
              <a:ext cx="3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80080" y="239364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07080" y="239580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22840" y="254052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49840" y="2525400"/>
              <a:ext cx="3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80080" y="2540520"/>
              <a:ext cx="2556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07080" y="2417040"/>
              <a:ext cx="31680" cy="9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89720" y="2419200"/>
              <a:ext cx="31680" cy="9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76800" y="2278800"/>
              <a:ext cx="0" cy="31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13440" y="2278800"/>
              <a:ext cx="0" cy="31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859440" y="2278800"/>
              <a:ext cx="24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41960" y="2278800"/>
              <a:ext cx="0" cy="31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08560" y="2265840"/>
              <a:ext cx="0" cy="34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49840" y="2393640"/>
              <a:ext cx="0" cy="14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480080" y="2393640"/>
              <a:ext cx="0" cy="14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65760" y="2393640"/>
              <a:ext cx="0" cy="14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94200" y="239580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80200" y="2376720"/>
              <a:ext cx="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95880" y="2236680"/>
              <a:ext cx="761760" cy="407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095880" y="3298680"/>
            <a:ext cx="1903320" cy="407880"/>
            <a:chOff x="6095880" y="3298680"/>
            <a:chExt cx="1903320" cy="407880"/>
          </a:xfrm>
        </p:grpSpPr>
        <p:sp>
          <p:nvSpPr>
            <p:cNvPr id="204" name=""/>
            <p:cNvSpPr/>
            <p:nvPr/>
          </p:nvSpPr>
          <p:spPr>
            <a:xfrm>
              <a:off x="7108560" y="3647160"/>
              <a:ext cx="173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56200" y="3670560"/>
              <a:ext cx="25236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13400" y="3436560"/>
              <a:ext cx="3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89720" y="3453840"/>
              <a:ext cx="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7537320" y="3457800"/>
              <a:ext cx="14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37320" y="3455640"/>
              <a:ext cx="2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65760" y="347076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96000" y="345564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23000" y="345780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37320" y="3602520"/>
              <a:ext cx="2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65760" y="3587400"/>
              <a:ext cx="2232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96000" y="3602520"/>
              <a:ext cx="2520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286400" y="361296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48320" y="3611160"/>
              <a:ext cx="3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286400" y="345564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7313400" y="3436200"/>
              <a:ext cx="0" cy="18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345080" y="3436560"/>
              <a:ext cx="0" cy="18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345080" y="3451320"/>
              <a:ext cx="4464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095880" y="3345120"/>
              <a:ext cx="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162200" y="3414960"/>
              <a:ext cx="1764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159320" y="3349800"/>
              <a:ext cx="0" cy="6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181640" y="3438720"/>
              <a:ext cx="10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23000" y="3479040"/>
              <a:ext cx="376200" cy="95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48280" y="3327840"/>
              <a:ext cx="26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11800" y="334980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60880" y="3659760"/>
              <a:ext cx="24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7286400" y="3438720"/>
              <a:ext cx="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13400" y="3625920"/>
              <a:ext cx="3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7421400" y="3455280"/>
              <a:ext cx="1440" cy="14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22840" y="345564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449840" y="3470760"/>
              <a:ext cx="3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80080" y="345564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507080" y="345780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22840" y="360252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49840" y="3587400"/>
              <a:ext cx="3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80080" y="3602520"/>
              <a:ext cx="2556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07080" y="3479040"/>
              <a:ext cx="31680" cy="9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89720" y="3481200"/>
              <a:ext cx="31680" cy="9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976800" y="3340800"/>
              <a:ext cx="0" cy="31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913440" y="3340800"/>
              <a:ext cx="0" cy="31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59440" y="3340800"/>
              <a:ext cx="24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041960" y="3340800"/>
              <a:ext cx="0" cy="31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108560" y="3327840"/>
              <a:ext cx="0" cy="34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449840" y="3455640"/>
              <a:ext cx="0" cy="14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80080" y="3455640"/>
              <a:ext cx="0" cy="14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65760" y="3455640"/>
              <a:ext cx="0" cy="14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94200" y="345780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180200" y="3438720"/>
              <a:ext cx="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95880" y="3298680"/>
              <a:ext cx="761760" cy="407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773960" y="2376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2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34720" y="333540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2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2073240"/>
            <a:ext cx="4495680" cy="2041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9600" y="1828800"/>
            <a:ext cx="151560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12 shielded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00600" y="2727360"/>
            <a:ext cx="457200" cy="407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43320" y="385128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.5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71560" y="386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324160" y="367812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76480" y="38577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76480" y="364824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95440" y="2543040"/>
            <a:ext cx="88920" cy="371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86080" y="3276720"/>
            <a:ext cx="88560" cy="371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81120" y="2276640"/>
            <a:ext cx="0" cy="15332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14440" y="2990880"/>
            <a:ext cx="20952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14440" y="3629160"/>
            <a:ext cx="209520" cy="304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95160" y="2209680"/>
            <a:ext cx="81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Sn  = 2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81120" y="24098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34200" y="2981160"/>
            <a:ext cx="209520" cy="304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34200" y="3714840"/>
            <a:ext cx="209520" cy="304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67320" y="2228760"/>
            <a:ext cx="88920" cy="514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77040" y="3267000"/>
            <a:ext cx="79200" cy="5238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53000" y="2104920"/>
            <a:ext cx="0" cy="15336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53000" y="22384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67400" y="2162160"/>
            <a:ext cx="8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Sn  = 4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703520" y="6224760"/>
            <a:ext cx="1939320" cy="279360"/>
            <a:chOff x="1703520" y="6224760"/>
            <a:chExt cx="1939320" cy="279360"/>
          </a:xfrm>
        </p:grpSpPr>
        <p:sp>
          <p:nvSpPr>
            <p:cNvPr id="278" name=""/>
            <p:cNvSpPr/>
            <p:nvPr/>
          </p:nvSpPr>
          <p:spPr>
            <a:xfrm>
              <a:off x="2735280" y="6463440"/>
              <a:ext cx="1764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78240" y="6479280"/>
              <a:ext cx="257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944080" y="6319080"/>
              <a:ext cx="3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021840" y="633096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3172320" y="6333120"/>
              <a:ext cx="144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72320" y="6332400"/>
              <a:ext cx="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201120" y="6342480"/>
              <a:ext cx="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232080" y="6332400"/>
              <a:ext cx="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59800" y="6333480"/>
              <a:ext cx="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172320" y="6432480"/>
              <a:ext cx="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01120" y="6422400"/>
              <a:ext cx="22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232080" y="6432480"/>
              <a:ext cx="25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16720" y="6440040"/>
              <a:ext cx="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79720" y="6438600"/>
              <a:ext cx="3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16720" y="6332400"/>
              <a:ext cx="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2944080" y="6318720"/>
              <a:ext cx="0" cy="1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76480" y="6319080"/>
              <a:ext cx="0" cy="1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976480" y="6329160"/>
              <a:ext cx="45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03520" y="625644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2790000" y="6304680"/>
              <a:ext cx="1764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2787120" y="6259680"/>
              <a:ext cx="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09800" y="6320520"/>
              <a:ext cx="10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59800" y="6348240"/>
              <a:ext cx="383040" cy="6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469960" y="6244560"/>
              <a:ext cx="26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38520" y="6259680"/>
              <a:ext cx="4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482920" y="647208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2916720" y="6320160"/>
              <a:ext cx="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44080" y="6448680"/>
              <a:ext cx="3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054240" y="6332400"/>
              <a:ext cx="144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55680" y="6332400"/>
              <a:ext cx="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083040" y="6342480"/>
              <a:ext cx="3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114000" y="6332400"/>
              <a:ext cx="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41360" y="6333480"/>
              <a:ext cx="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55680" y="6432480"/>
              <a:ext cx="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83040" y="6422400"/>
              <a:ext cx="3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14000" y="6432480"/>
              <a:ext cx="25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41360" y="6348240"/>
              <a:ext cx="32040" cy="6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21840" y="6349680"/>
              <a:ext cx="32040" cy="6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601000" y="6253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536560" y="6253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81480" y="6253560"/>
              <a:ext cx="24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667600" y="6253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35280" y="6244560"/>
              <a:ext cx="0" cy="23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83040" y="6332400"/>
              <a:ext cx="0" cy="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114000" y="633240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01120" y="633240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230280" y="6333480"/>
              <a:ext cx="0" cy="10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08360" y="6320520"/>
              <a:ext cx="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03520" y="6224760"/>
              <a:ext cx="776160" cy="2793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703520" y="4938840"/>
            <a:ext cx="1939320" cy="279360"/>
            <a:chOff x="1703520" y="4938840"/>
            <a:chExt cx="1939320" cy="279360"/>
          </a:xfrm>
        </p:grpSpPr>
        <p:sp>
          <p:nvSpPr>
            <p:cNvPr id="328" name=""/>
            <p:cNvSpPr/>
            <p:nvPr/>
          </p:nvSpPr>
          <p:spPr>
            <a:xfrm>
              <a:off x="2735280" y="5177520"/>
              <a:ext cx="1764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478240" y="5193360"/>
              <a:ext cx="257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944080" y="5033160"/>
              <a:ext cx="3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021840" y="504504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>
              <a:off x="3172320" y="5047200"/>
              <a:ext cx="144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72320" y="5046480"/>
              <a:ext cx="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201120" y="5056560"/>
              <a:ext cx="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232080" y="5046480"/>
              <a:ext cx="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59800" y="5047560"/>
              <a:ext cx="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72320" y="5146560"/>
              <a:ext cx="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01120" y="5136480"/>
              <a:ext cx="22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232080" y="5146560"/>
              <a:ext cx="25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916720" y="5154120"/>
              <a:ext cx="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79720" y="5152680"/>
              <a:ext cx="3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916720" y="5046480"/>
              <a:ext cx="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2944080" y="5032800"/>
              <a:ext cx="0" cy="1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976480" y="5033160"/>
              <a:ext cx="0" cy="1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976480" y="5043240"/>
              <a:ext cx="45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703520" y="49705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flipV="1">
              <a:off x="2790000" y="5018760"/>
              <a:ext cx="1764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2787120" y="4973760"/>
              <a:ext cx="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809800" y="5034600"/>
              <a:ext cx="10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259800" y="5062320"/>
              <a:ext cx="383040" cy="6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469960" y="4958640"/>
              <a:ext cx="26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38520" y="4973760"/>
              <a:ext cx="4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482920" y="518616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2916720" y="5034240"/>
              <a:ext cx="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44080" y="5162760"/>
              <a:ext cx="3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3054240" y="5046480"/>
              <a:ext cx="144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055680" y="5046480"/>
              <a:ext cx="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83040" y="5056560"/>
              <a:ext cx="3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14000" y="5046480"/>
              <a:ext cx="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141360" y="5047560"/>
              <a:ext cx="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055680" y="5146560"/>
              <a:ext cx="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83040" y="5136480"/>
              <a:ext cx="3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114000" y="5146560"/>
              <a:ext cx="25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141360" y="5062320"/>
              <a:ext cx="32040" cy="6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21840" y="5063760"/>
              <a:ext cx="32040" cy="6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601000" y="49676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536560" y="49676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481480" y="4967640"/>
              <a:ext cx="24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667600" y="49676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35280" y="4958640"/>
              <a:ext cx="0" cy="23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083040" y="5046480"/>
              <a:ext cx="0" cy="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114000" y="504648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201120" y="504648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230280" y="5047560"/>
              <a:ext cx="0" cy="10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08360" y="5034600"/>
              <a:ext cx="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03520" y="4938840"/>
              <a:ext cx="776160" cy="279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1701720" y="593568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1402920" y="465948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65760" y="471024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1.5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7080" y="628020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2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8160" y="48895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2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8600" y="4378320"/>
            <a:ext cx="4114800" cy="2413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73280" y="4267080"/>
            <a:ext cx="151560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18 shielded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65480" y="4413240"/>
            <a:ext cx="2053800" cy="276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Reduce the free space = 2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171880" y="5403960"/>
            <a:ext cx="121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With attached n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411360" y="5486400"/>
            <a:ext cx="868320" cy="703440"/>
            <a:chOff x="3411360" y="5486400"/>
            <a:chExt cx="868320" cy="703440"/>
          </a:xfrm>
        </p:grpSpPr>
        <p:sp>
          <p:nvSpPr>
            <p:cNvPr id="387" name=""/>
            <p:cNvSpPr/>
            <p:nvPr/>
          </p:nvSpPr>
          <p:spPr>
            <a:xfrm>
              <a:off x="4114800" y="5918400"/>
              <a:ext cx="164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11360" y="573552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110120" y="5730840"/>
              <a:ext cx="16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18040" y="5912640"/>
              <a:ext cx="16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52240" y="573804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116600" y="5738040"/>
              <a:ext cx="15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60040" y="5486400"/>
              <a:ext cx="6480" cy="693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411360" y="5639760"/>
              <a:ext cx="0" cy="40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3411360" y="5546520"/>
              <a:ext cx="77760" cy="10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3482280" y="5541840"/>
              <a:ext cx="842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11360" y="6045120"/>
              <a:ext cx="77760" cy="5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89120" y="6101280"/>
              <a:ext cx="6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3792960" y="5486400"/>
              <a:ext cx="6480" cy="70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11360" y="5709960"/>
              <a:ext cx="703440" cy="2235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3139920" y="6004080"/>
            <a:ext cx="27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67240" y="6019920"/>
            <a:ext cx="387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870280" y="57150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2413800">
            <a:off x="2720520" y="5591160"/>
            <a:ext cx="284400" cy="273240"/>
          </a:xfrm>
          <a:prstGeom prst="rightArrow">
            <a:avLst>
              <a:gd name="adj1" fmla="val 50000"/>
              <a:gd name="adj2" fmla="val 2602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1880" y="5442120"/>
            <a:ext cx="465120" cy="4474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6019920" y="4883040"/>
            <a:ext cx="1903320" cy="334800"/>
            <a:chOff x="6019920" y="4883040"/>
            <a:chExt cx="1903320" cy="334800"/>
          </a:xfrm>
        </p:grpSpPr>
        <p:sp>
          <p:nvSpPr>
            <p:cNvPr id="407" name=""/>
            <p:cNvSpPr/>
            <p:nvPr/>
          </p:nvSpPr>
          <p:spPr>
            <a:xfrm>
              <a:off x="7032600" y="5169240"/>
              <a:ext cx="17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780240" y="5188320"/>
              <a:ext cx="252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237440" y="4996080"/>
              <a:ext cx="3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313760" y="5010480"/>
              <a:ext cx="0" cy="12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7461360" y="5013720"/>
              <a:ext cx="1440" cy="11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461360" y="5011920"/>
              <a:ext cx="2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489800" y="502416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520040" y="501192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547040" y="5013720"/>
              <a:ext cx="0" cy="11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461360" y="5132520"/>
              <a:ext cx="2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489800" y="5120280"/>
              <a:ext cx="22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520040" y="5132520"/>
              <a:ext cx="25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210440" y="514116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272360" y="5139720"/>
              <a:ext cx="3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210440" y="501192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7237440" y="4996080"/>
              <a:ext cx="0" cy="15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269120" y="499608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269120" y="5008320"/>
              <a:ext cx="44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019920" y="4921200"/>
              <a:ext cx="0" cy="25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 flipV="1">
              <a:off x="7086240" y="4978440"/>
              <a:ext cx="176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7083360" y="4924440"/>
              <a:ext cx="0" cy="5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105680" y="4998240"/>
              <a:ext cx="10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547040" y="5031000"/>
              <a:ext cx="376200" cy="7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772320" y="4907160"/>
              <a:ext cx="26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35840" y="492480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784920" y="5179680"/>
              <a:ext cx="24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210440" y="499788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237440" y="5151960"/>
              <a:ext cx="3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345440" y="5011920"/>
              <a:ext cx="1440" cy="12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346880" y="501192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373880" y="5024160"/>
              <a:ext cx="3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404120" y="501192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431120" y="5013720"/>
              <a:ext cx="0" cy="11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46880" y="513252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73880" y="5120280"/>
              <a:ext cx="3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04120" y="5132520"/>
              <a:ext cx="25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431120" y="5031000"/>
              <a:ext cx="31680" cy="7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13760" y="5033160"/>
              <a:ext cx="31680" cy="7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900840" y="4917600"/>
              <a:ext cx="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837480" y="4917600"/>
              <a:ext cx="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783480" y="4917600"/>
              <a:ext cx="24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966000" y="4917600"/>
              <a:ext cx="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032600" y="4907160"/>
              <a:ext cx="0" cy="2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73880" y="501192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404120" y="5011920"/>
              <a:ext cx="0" cy="12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489800" y="5011920"/>
              <a:ext cx="0" cy="12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18240" y="501372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04240" y="49982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4883040"/>
              <a:ext cx="761760" cy="334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4582440" y="62056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2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573800" y="48355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2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19720" y="4378320"/>
            <a:ext cx="4470120" cy="2416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259600" y="4267080"/>
            <a:ext cx="151560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30 shielded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7924680" y="5330880"/>
            <a:ext cx="852480" cy="703080"/>
            <a:chOff x="7924680" y="5330880"/>
            <a:chExt cx="852480" cy="703080"/>
          </a:xfrm>
        </p:grpSpPr>
        <p:sp>
          <p:nvSpPr>
            <p:cNvPr id="461" name=""/>
            <p:cNvSpPr/>
            <p:nvPr/>
          </p:nvSpPr>
          <p:spPr>
            <a:xfrm>
              <a:off x="8615160" y="5762520"/>
              <a:ext cx="1620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924680" y="55800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0480" y="5574960"/>
              <a:ext cx="1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618400" y="5756760"/>
              <a:ext cx="15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651880" y="558216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616960" y="5582160"/>
              <a:ext cx="1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070840" y="5330880"/>
              <a:ext cx="6480" cy="69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924680" y="5484240"/>
              <a:ext cx="0" cy="4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7924680" y="5391360"/>
              <a:ext cx="7632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7994520" y="5386320"/>
              <a:ext cx="828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924680" y="5889600"/>
              <a:ext cx="76320" cy="5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01000" y="5945400"/>
              <a:ext cx="6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8299440" y="5330880"/>
              <a:ext cx="6480" cy="70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924680" y="5554440"/>
              <a:ext cx="690480" cy="2235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8083440" y="5870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667640" y="5862600"/>
            <a:ext cx="27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393320" y="56088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4880" y="5216400"/>
            <a:ext cx="121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With attached n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rot="1669800">
            <a:off x="7157880" y="5572080"/>
            <a:ext cx="281160" cy="193680"/>
          </a:xfrm>
          <a:prstGeom prst="rightArrow">
            <a:avLst>
              <a:gd name="adj1" fmla="val 50000"/>
              <a:gd name="adj2" fmla="val 362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724280" y="5442120"/>
            <a:ext cx="457200" cy="3920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898640" y="4627440"/>
            <a:ext cx="209520" cy="3049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31840" y="5913360"/>
            <a:ext cx="209880" cy="3049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695600" y="4657680"/>
            <a:ext cx="19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695600" y="598644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706400" y="462600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1398240" y="598788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236960" y="596268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0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898640" y="5222880"/>
            <a:ext cx="209520" cy="3049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031840" y="6504120"/>
            <a:ext cx="209880" cy="2905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109520" y="4862520"/>
            <a:ext cx="88920" cy="3715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104840" y="6157800"/>
            <a:ext cx="88920" cy="3715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200240" y="4781520"/>
            <a:ext cx="0" cy="15336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90600" y="4591080"/>
            <a:ext cx="8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Sn  = 8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594160" y="2084400"/>
            <a:ext cx="1716840" cy="276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Realize the flush 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166160" y="2084400"/>
            <a:ext cx="1716840" cy="276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Realize the flush 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200640" y="4586400"/>
            <a:ext cx="209520" cy="304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200640" y="5222880"/>
            <a:ext cx="209520" cy="30492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74160" y="462744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0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5713200" y="464040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005520" y="4638600"/>
            <a:ext cx="19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016680" y="46069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699160" y="6167520"/>
            <a:ext cx="290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uble distance type does not appe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84960" y="4862520"/>
            <a:ext cx="88920" cy="3715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645080" y="4597560"/>
            <a:ext cx="8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Sn  = 15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90600" y="189000"/>
            <a:ext cx="493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luence of surrounding metal  (mounting cond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34800" y="1168560"/>
            <a:ext cx="8417160" cy="4597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duce the effect of mounting metal. 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by optimized RING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PA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390600" y="189000"/>
            <a:ext cx="493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luence of surrounding metal  (mounting cond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20760" y="1154160"/>
            <a:ext cx="8416800" cy="4597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ne-up the Double distance sensor in non-shielded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28800" y="2894040"/>
            <a:ext cx="0" cy="31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2680" y="23432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2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04920" y="1890720"/>
            <a:ext cx="4038480" cy="2147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38440" y="1676520"/>
            <a:ext cx="175500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8 non-shielded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828800" y="224964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28800" y="289404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81080" y="2249640"/>
            <a:ext cx="0" cy="64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828800" y="2033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1523520" y="2249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1523520" y="2894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00200" y="2249640"/>
            <a:ext cx="0" cy="64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71720" y="200808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514520" y="2087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990800" y="2106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176480" y="2249640"/>
            <a:ext cx="42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φ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1828800" y="2463840"/>
            <a:ext cx="1913040" cy="214200"/>
            <a:chOff x="1828800" y="2463840"/>
            <a:chExt cx="1913040" cy="214200"/>
          </a:xfrm>
        </p:grpSpPr>
        <p:sp>
          <p:nvSpPr>
            <p:cNvPr id="525" name=""/>
            <p:cNvSpPr/>
            <p:nvPr/>
          </p:nvSpPr>
          <p:spPr>
            <a:xfrm>
              <a:off x="2851200" y="2646720"/>
              <a:ext cx="1728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598840" y="2659320"/>
              <a:ext cx="2523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056040" y="2535840"/>
              <a:ext cx="3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32000" y="2544840"/>
              <a:ext cx="0" cy="8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 flipV="1">
              <a:off x="3279240" y="2547000"/>
              <a:ext cx="18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279600" y="2546640"/>
              <a:ext cx="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308400" y="255384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38640" y="2546640"/>
              <a:ext cx="2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365280" y="254736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279600" y="2623680"/>
              <a:ext cx="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308400" y="2615400"/>
              <a:ext cx="219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338640" y="2623680"/>
              <a:ext cx="252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029040" y="262872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090960" y="2628000"/>
              <a:ext cx="3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029040" y="254664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3056040" y="2535840"/>
              <a:ext cx="0" cy="9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87720" y="253584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087720" y="2544120"/>
              <a:ext cx="442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838160" y="248868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 flipV="1">
              <a:off x="2905200" y="2525400"/>
              <a:ext cx="17280" cy="1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2901960" y="2490480"/>
              <a:ext cx="0" cy="3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924280" y="2537640"/>
              <a:ext cx="10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365280" y="2558160"/>
              <a:ext cx="376560" cy="50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590920" y="2479680"/>
              <a:ext cx="26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854440" y="2490480"/>
              <a:ext cx="4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603520" y="2653920"/>
              <a:ext cx="24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3029040" y="2537280"/>
              <a:ext cx="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056040" y="2635920"/>
              <a:ext cx="3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3163680" y="2546280"/>
              <a:ext cx="1800" cy="7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165480" y="254664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192480" y="2553840"/>
              <a:ext cx="3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22720" y="254664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249720" y="254736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65480" y="262368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192480" y="2615400"/>
              <a:ext cx="3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222720" y="2623680"/>
              <a:ext cx="252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249720" y="2558160"/>
              <a:ext cx="31680" cy="4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132000" y="2559960"/>
              <a:ext cx="31680" cy="4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719440" y="248580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655720" y="248580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601720" y="2485800"/>
              <a:ext cx="24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784600" y="248580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851200" y="247968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192480" y="2546640"/>
              <a:ext cx="0" cy="7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222720" y="2546640"/>
              <a:ext cx="0" cy="7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308400" y="2546640"/>
              <a:ext cx="0" cy="7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336840" y="2547360"/>
              <a:ext cx="0" cy="7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922480" y="2537640"/>
              <a:ext cx="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914480" y="2463840"/>
              <a:ext cx="685800" cy="214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28800" y="2479680"/>
              <a:ext cx="85680" cy="1821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2030400" y="2106720"/>
            <a:ext cx="98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108840" y="2886120"/>
            <a:ext cx="0" cy="26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108840" y="22464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108840" y="28861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261120" y="2246400"/>
            <a:ext cx="0" cy="63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108840" y="2031840"/>
            <a:ext cx="0" cy="21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5803560" y="224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803560" y="2886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880240" y="2246400"/>
            <a:ext cx="0" cy="639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251400" y="200484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794200" y="20858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270480" y="2103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380200" y="2246400"/>
            <a:ext cx="42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φ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234120" y="2127240"/>
            <a:ext cx="98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586400" y="23385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2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432320" y="1890720"/>
            <a:ext cx="4495680" cy="2135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270400" y="1676520"/>
            <a:ext cx="184500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12 non-shielded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6032520" y="2387520"/>
            <a:ext cx="1913040" cy="357120"/>
            <a:chOff x="6032520" y="2387520"/>
            <a:chExt cx="1913040" cy="357120"/>
          </a:xfrm>
        </p:grpSpPr>
        <p:sp>
          <p:nvSpPr>
            <p:cNvPr id="593" name=""/>
            <p:cNvSpPr/>
            <p:nvPr/>
          </p:nvSpPr>
          <p:spPr>
            <a:xfrm>
              <a:off x="7054920" y="2692440"/>
              <a:ext cx="172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802560" y="2712960"/>
              <a:ext cx="252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259760" y="2507760"/>
              <a:ext cx="3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335720" y="2522880"/>
              <a:ext cx="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7482960" y="2526840"/>
              <a:ext cx="1800" cy="12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483320" y="2525760"/>
              <a:ext cx="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512120" y="253764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42360" y="2525760"/>
              <a:ext cx="2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569000" y="2527200"/>
              <a:ext cx="0" cy="12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483320" y="2653560"/>
              <a:ext cx="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512120" y="2640240"/>
              <a:ext cx="21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542360" y="2653560"/>
              <a:ext cx="25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232760" y="266256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294680" y="2661120"/>
              <a:ext cx="3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232760" y="252576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7259760" y="2507760"/>
              <a:ext cx="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291440" y="2507760"/>
              <a:ext cx="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291440" y="2521440"/>
              <a:ext cx="442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041880" y="2428920"/>
              <a:ext cx="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 flipV="1">
              <a:off x="7108920" y="2490120"/>
              <a:ext cx="17280" cy="2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7105680" y="2431440"/>
              <a:ext cx="0" cy="5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128000" y="2511000"/>
              <a:ext cx="10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569000" y="2544840"/>
              <a:ext cx="376560" cy="8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94640" y="2414160"/>
              <a:ext cx="26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058160" y="2431800"/>
              <a:ext cx="4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807240" y="2704320"/>
              <a:ext cx="24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7232760" y="2511000"/>
              <a:ext cx="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59760" y="2674440"/>
              <a:ext cx="3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7367400" y="2525400"/>
              <a:ext cx="1800" cy="1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369200" y="252576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396200" y="2537640"/>
              <a:ext cx="3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426440" y="252576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53440" y="2527200"/>
              <a:ext cx="0" cy="12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369200" y="265356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396200" y="2640240"/>
              <a:ext cx="3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426440" y="2653560"/>
              <a:ext cx="25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453440" y="2544840"/>
              <a:ext cx="31680" cy="8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335720" y="2548080"/>
              <a:ext cx="31680" cy="8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923160" y="2424600"/>
              <a:ext cx="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859440" y="2424600"/>
              <a:ext cx="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805440" y="2424600"/>
              <a:ext cx="24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988320" y="2424600"/>
              <a:ext cx="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054920" y="2414160"/>
              <a:ext cx="0" cy="2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396200" y="2525760"/>
              <a:ext cx="0" cy="12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426440" y="2525760"/>
              <a:ext cx="0" cy="1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512120" y="2525760"/>
              <a:ext cx="0" cy="1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540560" y="2527200"/>
              <a:ext cx="0" cy="1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126200" y="2511000"/>
              <a:ext cx="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118200" y="2387520"/>
              <a:ext cx="685800" cy="3571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32520" y="2414160"/>
              <a:ext cx="85680" cy="303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36320" y="3313080"/>
            <a:ext cx="1265760" cy="3373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imes New Roman"/>
              </a:rPr>
              <a:t>Sn = 4.0 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505040" y="3303720"/>
            <a:ext cx="1265760" cy="3373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imes New Roman"/>
              </a:rPr>
              <a:t>Sn = 8.0 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752480" y="5481720"/>
            <a:ext cx="0" cy="47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781280" y="549900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 flipV="1">
            <a:off x="1904760" y="4798800"/>
            <a:ext cx="19080" cy="71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790640" y="4799160"/>
            <a:ext cx="12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1752480" y="4524120"/>
            <a:ext cx="0" cy="27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1447920" y="4807080"/>
            <a:ext cx="29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1495080" y="550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542960" y="484992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100520" y="4799160"/>
            <a:ext cx="42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φ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914480" y="45766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924200" y="4645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1476360" y="4645080"/>
            <a:ext cx="285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940760" y="4667400"/>
            <a:ext cx="79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82680" y="49546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2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04920" y="4251240"/>
            <a:ext cx="4038480" cy="2514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4114800"/>
            <a:ext cx="184500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18 non-shielded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752480" y="4935600"/>
            <a:ext cx="2057040" cy="409320"/>
            <a:chOff x="1752480" y="4935600"/>
            <a:chExt cx="2057040" cy="409320"/>
          </a:xfrm>
        </p:grpSpPr>
        <p:sp>
          <p:nvSpPr>
            <p:cNvPr id="662" name=""/>
            <p:cNvSpPr/>
            <p:nvPr/>
          </p:nvSpPr>
          <p:spPr>
            <a:xfrm>
              <a:off x="2851920" y="5285520"/>
              <a:ext cx="185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580480" y="5308920"/>
              <a:ext cx="271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072240" y="5073480"/>
              <a:ext cx="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153960" y="5090760"/>
              <a:ext cx="0" cy="1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3312360" y="5095440"/>
              <a:ext cx="180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312720" y="5094000"/>
              <a:ext cx="3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343680" y="5107680"/>
              <a:ext cx="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376080" y="5094000"/>
              <a:ext cx="2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404880" y="5095800"/>
              <a:ext cx="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312720" y="5240880"/>
              <a:ext cx="3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343680" y="5225400"/>
              <a:ext cx="23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376080" y="5240880"/>
              <a:ext cx="27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043080" y="5250960"/>
              <a:ext cx="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109680" y="5249520"/>
              <a:ext cx="4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043080" y="5094000"/>
              <a:ext cx="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3072240" y="5073120"/>
              <a:ext cx="0" cy="1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106080" y="5073480"/>
              <a:ext cx="0" cy="19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106080" y="5088960"/>
              <a:ext cx="4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62200" y="498312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flipV="1">
              <a:off x="2909520" y="5052960"/>
              <a:ext cx="1836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2906280" y="4986360"/>
              <a:ext cx="0" cy="6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930400" y="5077080"/>
              <a:ext cx="10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404880" y="5116320"/>
              <a:ext cx="404640" cy="9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571840" y="4965840"/>
              <a:ext cx="2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855160" y="4986360"/>
              <a:ext cx="4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585520" y="5298840"/>
              <a:ext cx="26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3043080" y="507708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072240" y="5265000"/>
              <a:ext cx="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3187800" y="5093640"/>
              <a:ext cx="1800" cy="14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189960" y="5094000"/>
              <a:ext cx="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218760" y="5107680"/>
              <a:ext cx="3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251520" y="5094000"/>
              <a:ext cx="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280320" y="5095800"/>
              <a:ext cx="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189960" y="5240880"/>
              <a:ext cx="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218760" y="5225400"/>
              <a:ext cx="3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251520" y="5240880"/>
              <a:ext cx="27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280320" y="5116320"/>
              <a:ext cx="33840" cy="9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153960" y="5119560"/>
              <a:ext cx="33840" cy="93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10080" y="497808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641680" y="497808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583360" y="4978080"/>
              <a:ext cx="26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780280" y="497808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851920" y="496584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218760" y="509400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251520" y="5094000"/>
              <a:ext cx="0" cy="14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343680" y="5094000"/>
              <a:ext cx="0" cy="14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374280" y="5095800"/>
              <a:ext cx="0" cy="14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928600" y="507708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844280" y="4935600"/>
              <a:ext cx="737280" cy="409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752480" y="4965840"/>
              <a:ext cx="91800" cy="348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374040" y="5959440"/>
            <a:ext cx="1368000" cy="3373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imes New Roman"/>
              </a:rPr>
              <a:t>Sn = 16.0 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019920" y="5551560"/>
            <a:ext cx="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6029280" y="5529240"/>
            <a:ext cx="23832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6248520" y="4730400"/>
            <a:ext cx="0" cy="78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029280" y="4741920"/>
            <a:ext cx="247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6029280" y="454500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5705640" y="4749840"/>
            <a:ext cx="29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5733720" y="5545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791320" y="4776840"/>
            <a:ext cx="0" cy="777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291280" y="4799160"/>
            <a:ext cx="49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φ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267600" y="454500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276960" y="4662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5724360" y="4638600"/>
            <a:ext cx="285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265080" y="4662360"/>
            <a:ext cx="79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497480" y="48862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2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419720" y="4251240"/>
            <a:ext cx="4470120" cy="2543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181480" y="4114800"/>
            <a:ext cx="184500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30 non-shielded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6019920" y="4867200"/>
            <a:ext cx="2057040" cy="479160"/>
            <a:chOff x="6019920" y="4867200"/>
            <a:chExt cx="2057040" cy="479160"/>
          </a:xfrm>
        </p:grpSpPr>
        <p:sp>
          <p:nvSpPr>
            <p:cNvPr id="730" name=""/>
            <p:cNvSpPr/>
            <p:nvPr/>
          </p:nvSpPr>
          <p:spPr>
            <a:xfrm>
              <a:off x="7119360" y="5276520"/>
              <a:ext cx="185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847920" y="5304240"/>
              <a:ext cx="27108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339680" y="5028840"/>
              <a:ext cx="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421400" y="5048640"/>
              <a:ext cx="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7579800" y="5054760"/>
              <a:ext cx="18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80160" y="5052960"/>
              <a:ext cx="3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611120" y="5068800"/>
              <a:ext cx="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643520" y="5052960"/>
              <a:ext cx="2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672320" y="505476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580160" y="5224680"/>
              <a:ext cx="3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611120" y="5206320"/>
              <a:ext cx="2340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643520" y="5224680"/>
              <a:ext cx="27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10520" y="5236200"/>
              <a:ext cx="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377120" y="5234400"/>
              <a:ext cx="4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310520" y="5052960"/>
              <a:ext cx="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7339680" y="5028840"/>
              <a:ext cx="0" cy="21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373520" y="5028840"/>
              <a:ext cx="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73520" y="5046840"/>
              <a:ext cx="47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29640" y="492264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 flipV="1">
              <a:off x="7176960" y="5004720"/>
              <a:ext cx="18360" cy="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7173720" y="4926960"/>
              <a:ext cx="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197840" y="5032800"/>
              <a:ext cx="10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672320" y="5078520"/>
              <a:ext cx="404640" cy="11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839280" y="4902840"/>
              <a:ext cx="2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22600" y="4926960"/>
              <a:ext cx="4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852960" y="5292360"/>
              <a:ext cx="26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7310520" y="5032800"/>
              <a:ext cx="0" cy="24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339680" y="5252760"/>
              <a:ext cx="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455240" y="5052600"/>
              <a:ext cx="180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457400" y="5052960"/>
              <a:ext cx="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486200" y="5068800"/>
              <a:ext cx="3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518960" y="5052960"/>
              <a:ext cx="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547760" y="505476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457400" y="5224680"/>
              <a:ext cx="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486200" y="5206320"/>
              <a:ext cx="3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518960" y="5224680"/>
              <a:ext cx="27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547760" y="5078520"/>
              <a:ext cx="33840" cy="10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421400" y="5082840"/>
              <a:ext cx="33840" cy="10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977520" y="491688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909120" y="491688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850800" y="4916880"/>
              <a:ext cx="26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7720" y="491688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119360" y="4902840"/>
              <a:ext cx="0" cy="40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486200" y="5052960"/>
              <a:ext cx="0" cy="16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518960" y="5052960"/>
              <a:ext cx="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611120" y="5052960"/>
              <a:ext cx="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641720" y="5054760"/>
              <a:ext cx="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196040" y="5032800"/>
              <a:ext cx="0" cy="24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111720" y="4867200"/>
              <a:ext cx="737280" cy="479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019920" y="4902840"/>
              <a:ext cx="91800" cy="407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0" name=""/>
          <p:cNvSpPr/>
          <p:nvPr/>
        </p:nvSpPr>
        <p:spPr>
          <a:xfrm>
            <a:off x="4520520" y="5945040"/>
            <a:ext cx="1368000" cy="3373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imes New Roman"/>
              </a:rPr>
              <a:t>Sn = 30.0 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89600" y="6051600"/>
            <a:ext cx="417600" cy="174600"/>
          </a:xfrm>
          <a:prstGeom prst="leftArrow">
            <a:avLst>
              <a:gd name="adj1" fmla="val 50000"/>
              <a:gd name="adj2" fmla="val 59794"/>
            </a:avLst>
          </a:pr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431040" y="5797440"/>
            <a:ext cx="68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2 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303640" y="5810400"/>
            <a:ext cx="68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 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828800" y="6010200"/>
            <a:ext cx="417600" cy="174600"/>
          </a:xfrm>
          <a:prstGeom prst="leftArrow">
            <a:avLst>
              <a:gd name="adj1" fmla="val 50000"/>
              <a:gd name="adj2" fmla="val 59794"/>
            </a:avLst>
          </a:pr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796000" y="3402000"/>
            <a:ext cx="417600" cy="174600"/>
          </a:xfrm>
          <a:prstGeom prst="leftArrow">
            <a:avLst>
              <a:gd name="adj1" fmla="val 50000"/>
              <a:gd name="adj2" fmla="val 59794"/>
            </a:avLst>
          </a:pr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283440" y="3189240"/>
            <a:ext cx="72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.0 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762200" y="3416400"/>
            <a:ext cx="417600" cy="174600"/>
          </a:xfrm>
          <a:prstGeom prst="leftArrow">
            <a:avLst>
              <a:gd name="adj1" fmla="val 50000"/>
              <a:gd name="adj2" fmla="val 59794"/>
            </a:avLst>
          </a:pr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262600" y="3162240"/>
            <a:ext cx="72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5.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18:51:47Z</dcterms:created>
  <dc:creator>tankaz</dc:creator>
  <dc:description/>
  <dc:language>en-US</dc:language>
  <cp:lastModifiedBy>tankaz</cp:lastModifiedBy>
  <dcterms:modified xsi:type="dcterms:W3CDTF">2003-03-17T17:33:22Z</dcterms:modified>
  <cp:revision>4</cp:revision>
  <dc:subject/>
  <dc:title>PowerPoint プレゼンテーション</dc:title>
</cp:coreProperties>
</file>