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0885-1230-4C89-9062-3CC57903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BA9-A4F0-4351-85BC-9FC4EACF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663-001C-4E11-A8DB-D0FD0975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A0C-076B-46EE-947A-FEE5AB5A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126-6C2E-49D0-BF96-CB6ED968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928-F3B5-41A2-90C0-713AB55D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033-54CE-4703-A7F2-D850E068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820-82E5-4BE6-92D0-6F304186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7D4-1141-4A57-917A-87BBBF18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CAC-7377-4F62-A0C3-929AF2B1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E9B-D344-4475-8489-4D4E67D2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0C9-51A0-468C-8E34-1F469C61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D2C5-FF07-4F71-8CA7-00D7CFC0921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9907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mparison with TURCK (U-Prox)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FM (m-series)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98480" y="3100320"/>
            <a:ext cx="72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A has advantage i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iabil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harsh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09640" y="1467000"/>
            <a:ext cx="4983120" cy="403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0560" y="380880"/>
            <a:ext cx="3998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FM m-series (connector typ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80920" y="1457280"/>
            <a:ext cx="2000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n free sens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1240" y="2224080"/>
            <a:ext cx="3011400" cy="703440"/>
          </a:xfrm>
          <a:prstGeom prst="borderCallout2">
            <a:avLst>
              <a:gd name="adj1" fmla="val 18750"/>
              <a:gd name="adj2" fmla="val -8333"/>
              <a:gd name="adj3" fmla="val 16254"/>
              <a:gd name="adj4" fmla="val 119611"/>
              <a:gd name="adj5" fmla="val 132958"/>
              <a:gd name="adj6" fmla="val 1373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king process to fix the connector par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58880" y="4592520"/>
            <a:ext cx="3230640" cy="642600"/>
          </a:xfrm>
          <a:prstGeom prst="borderCallout2">
            <a:avLst>
              <a:gd name="adj1" fmla="val 18750"/>
              <a:gd name="adj2" fmla="val -8333"/>
              <a:gd name="adj3" fmla="val 12000"/>
              <a:gd name="adj4" fmla="val -12087"/>
              <a:gd name="adj5" fmla="val -29615"/>
              <a:gd name="adj6" fmla="val -2220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ase of coil is fixed to metal case only by pressing ins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3400" y="5686560"/>
            <a:ext cx="31179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il case may be loosened by “Vibration or Shock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5600" y="5297400"/>
            <a:ext cx="336600" cy="3366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70280" y="5646600"/>
            <a:ext cx="311796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reliability for vibration or sho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2360" y="5850000"/>
            <a:ext cx="552240" cy="322200"/>
          </a:xfrm>
          <a:prstGeom prst="rightArrow">
            <a:avLst>
              <a:gd name="adj1" fmla="val 50000"/>
              <a:gd name="adj2" fmla="val 428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65720" y="2424240"/>
            <a:ext cx="2733840" cy="1191240"/>
          </a:xfrm>
          <a:prstGeom prst="borderCallout2">
            <a:avLst>
              <a:gd name="adj1" fmla="val 18750"/>
              <a:gd name="adj2" fmla="val -8333"/>
              <a:gd name="adj3" fmla="val 12328"/>
              <a:gd name="adj4" fmla="val -22708"/>
              <a:gd name="adj5" fmla="val 146402"/>
              <a:gd name="adj6" fmla="val -43486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water-proof performance depends on only 2-o-r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sealing 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040" y="1209600"/>
            <a:ext cx="5132520" cy="3662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36960" y="1222200"/>
            <a:ext cx="4594320" cy="3589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427800" y="5105520"/>
            <a:ext cx="2541600" cy="733320"/>
          </a:xfrm>
          <a:prstGeom prst="borderCallout2">
            <a:avLst>
              <a:gd name="adj1" fmla="val 18750"/>
              <a:gd name="adj2" fmla="val -8333"/>
              <a:gd name="adj3" fmla="val 15583"/>
              <a:gd name="adj4" fmla="val -7680"/>
              <a:gd name="adj5" fmla="val -115583"/>
              <a:gd name="adj6" fmla="val -12490"/>
            </a:avLst>
          </a:prstGeom>
          <a:noFill/>
          <a:ln w="936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il wire is connected to PWB direct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43880" y="1193760"/>
            <a:ext cx="1739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ray pho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760" y="380880"/>
            <a:ext cx="2261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URCK U-Pro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54100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5257800"/>
            <a:ext cx="2438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sin stress will applied to the coil wi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257800"/>
            <a:ext cx="2630520" cy="105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reliability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t cycle applications “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4100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9193400">
            <a:off x="7238880" y="1752120"/>
            <a:ext cx="609840" cy="304920"/>
          </a:xfrm>
          <a:prstGeom prst="lef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sing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838080" y="6095880"/>
            <a:ext cx="304920" cy="457200"/>
          </a:xfrm>
          <a:custGeom>
            <a:avLst/>
            <a:gdLst>
              <a:gd name="textAreaLeft" fmla="*/ 0 w 304920"/>
              <a:gd name="textAreaRight" fmla="*/ 305280 w 30492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44520" y="6118200"/>
            <a:ext cx="51818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his construction don’t suit for 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andard Prox.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(reliability and cos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2899200">
            <a:off x="7112880" y="3065400"/>
            <a:ext cx="308160" cy="1663560"/>
          </a:xfrm>
          <a:custGeom>
            <a:avLst/>
            <a:gdLst>
              <a:gd name="textAreaLeft" fmla="*/ 0 w 308160"/>
              <a:gd name="textAreaRight" fmla="*/ 111240 w 308160"/>
              <a:gd name="textAreaTop" fmla="*/ 43200 h 1663560"/>
              <a:gd name="textAreaBottom" fmla="*/ 1620360 h 16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404820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3- coi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51200" y="2527200"/>
            <a:ext cx="2622600" cy="2448000"/>
          </a:xfrm>
          <a:custGeom>
            <a:avLst/>
            <a:gdLst/>
            <a:ahLst/>
            <a:rect l="l" t="t" r="r" b="b"/>
            <a:pathLst>
              <a:path w="1652" h="1542">
                <a:moveTo>
                  <a:pt x="0" y="492"/>
                </a:moveTo>
                <a:lnTo>
                  <a:pt x="653" y="0"/>
                </a:lnTo>
                <a:lnTo>
                  <a:pt x="1652" y="1195"/>
                </a:lnTo>
                <a:lnTo>
                  <a:pt x="1279" y="1542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9:06Z</dcterms:created>
  <dc:creator>tankaz</dc:creator>
  <dc:description/>
  <dc:language>en-US</dc:language>
  <cp:lastModifiedBy>NHA0019E</cp:lastModifiedBy>
  <dcterms:modified xsi:type="dcterms:W3CDTF">2005-02-23T13:13:29Z</dcterms:modified>
  <cp:revision>9</cp:revision>
  <dc:subject/>
  <dc:title>PowerPoint プレゼンテーション</dc:title>
</cp:coreProperties>
</file>