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EF4-5025-4F8A-A33C-738018CF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0C3-469E-439C-B9D7-9C22C649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C74-0520-4BE7-9E1F-C90C8BD8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681-CE7C-40A9-A70D-368792B4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1CB-6E4F-491D-95D1-42273182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8F9-3343-4605-91BA-708B6E48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7F1-860E-423E-8BDB-9CBDBDDF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B97-465C-4C8B-9E96-A15D8669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502-C0C2-44C0-9851-3C2D2472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A81-3610-4485-AEBD-A05916D2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091-9333-41FE-BA07-99E5A67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FC1-4303-44F5-B6B9-ED1AC1C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B39-AAD3-4A4A-9C87-010B7E3FC1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 cable on E2A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765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kind of PUR cable can be adopted on E2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7080" y="258300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) PUR thin layer on PVC outer sh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886200"/>
            <a:ext cx="61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) All PUR material sh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4120" y="304812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-*******-WA-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4419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lso Halogen Free ca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876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Not available yet, please ask to OEE SenB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p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1560" y="1963800"/>
            <a:ext cx="1922400" cy="1949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762120"/>
            <a:ext cx="61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) PUR thin layer on PVC outer sh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2272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-*******-WA-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35160" y="2060640"/>
            <a:ext cx="1752480" cy="1752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66800" y="2352600"/>
            <a:ext cx="533520" cy="5335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43120" y="2962440"/>
            <a:ext cx="533520" cy="53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0320" y="2657520"/>
            <a:ext cx="533520" cy="533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87400" y="2487600"/>
            <a:ext cx="297000" cy="268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2797200"/>
            <a:ext cx="297000" cy="268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68400" y="3106800"/>
            <a:ext cx="297000" cy="268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769840" y="3657240"/>
            <a:ext cx="76500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5600" y="4330800"/>
            <a:ext cx="26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 (0.2 to 0.3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595600" y="3308400"/>
            <a:ext cx="145080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86360" y="3281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2600" y="3012840"/>
            <a:ext cx="146520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59360" y="3659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35600" y="2016000"/>
            <a:ext cx="36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price PUR c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35600" y="2581200"/>
            <a:ext cx="42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UR cable of E2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514980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ttach this cable on standard E2A struc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6520" y="590400"/>
            <a:ext cx="61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) All PUR material sh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73200" y="1123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lso Halogen Free ca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73200" y="15811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Not available yet, please ask to OEE SenB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868400" y="2604960"/>
          <a:ext cx="449604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2604960"/>
                    <a:ext cx="4496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854360" y="4164120"/>
          <a:ext cx="449568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360" y="4164120"/>
                    <a:ext cx="4495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852720" y="4371840"/>
            <a:ext cx="747720" cy="567000"/>
          </a:xfrm>
          <a:custGeom>
            <a:avLst/>
            <a:gdLst/>
            <a:ahLst/>
            <a:rect l="l" t="t" r="r" b="b"/>
            <a:pathLst>
              <a:path w="471" h="366">
                <a:moveTo>
                  <a:pt x="0" y="0"/>
                </a:moveTo>
                <a:lnTo>
                  <a:pt x="264" y="0"/>
                </a:lnTo>
                <a:lnTo>
                  <a:pt x="471" y="69"/>
                </a:lnTo>
                <a:lnTo>
                  <a:pt x="471" y="297"/>
                </a:lnTo>
                <a:lnTo>
                  <a:pt x="273" y="366"/>
                </a:lnTo>
                <a:lnTo>
                  <a:pt x="0" y="36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0600" y="2743200"/>
            <a:ext cx="138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ndard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7600" y="4329000"/>
            <a:ext cx="138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al structure for “ALL PUR cable typ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405040" y="4812840"/>
            <a:ext cx="28260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2400" y="5338800"/>
            <a:ext cx="20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UR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77000" y="2111400"/>
            <a:ext cx="20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C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392800" y="2460600"/>
            <a:ext cx="5508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5877000"/>
            <a:ext cx="23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stic cable cover will be att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390840" y="4731840"/>
            <a:ext cx="711360" cy="12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r. 2005 OEE SenBU 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38:03Z</dcterms:created>
  <dc:creator>NHA0019E</dc:creator>
  <dc:description/>
  <dc:language>en-US</dc:language>
  <cp:lastModifiedBy>NHA0019E</cp:lastModifiedBy>
  <dcterms:modified xsi:type="dcterms:W3CDTF">2005-09-06T10:13:56Z</dcterms:modified>
  <cp:revision>5</cp:revision>
  <dc:subject/>
  <dc:title>PowerPoint プレゼンテーション</dc:title>
</cp:coreProperties>
</file>