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23.wmf" ContentType="image/x-wmf"/>
  <Override PartName="/ppt/media/image11.jpeg" ContentType="image/jpeg"/>
  <Override PartName="/ppt/media/image9.jpeg" ContentType="image/jpeg"/>
  <Override PartName="/ppt/media/image6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2.png" ContentType="image/png"/>
  <Override PartName="/ppt/media/image24.wmf" ContentType="image/x-wmf"/>
  <Override PartName="/ppt/media/image2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A3D-B560-4029-99AA-9F0AAD38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200C-EA97-4DCD-BFBB-707CDDE3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868-A316-4223-9327-E3F5F56C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3BFC-0297-4D1F-A8AA-47098D64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2972-F882-4CF2-BBBE-08A1E3F1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BF9E-E34B-4EE6-B75C-171C3899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1998-962A-4DD3-A351-F52CE821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079-6D25-47C6-9C22-93A021F0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717-3856-463B-8272-B1ADBC91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22D-112A-41FB-BBD2-C35FAFB9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7A5B-1B02-456C-86E7-1313BAD1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939-D0B0-4FB8-A82C-6EB0B4A3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3B43-4D43-4ACA-A402-B3CE2239210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63160" y="1600200"/>
            <a:ext cx="68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lysis report of TURCK U-Prox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3200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728640" y="503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ng distance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833400" y="1089000"/>
            <a:ext cx="2600280" cy="220968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3797280" y="1874880"/>
            <a:ext cx="1495440" cy="138096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860400" y="3603600"/>
            <a:ext cx="67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-Prox+ has been adjusted the sensing distance by laser trimm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47800" y="4398840"/>
            <a:ext cx="829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case of not succeeded to adjust, they add additional register on the trimming resis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847800" y="5273640"/>
            <a:ext cx="829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suite for mass produ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47800" y="5711760"/>
            <a:ext cx="829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cost to adjust the sensing distan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47800" y="6122880"/>
            <a:ext cx="829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 coil could not help to make sensing distance adjustment eas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154320" y="3962520"/>
            <a:ext cx="411120" cy="436320"/>
          </a:xfrm>
          <a:prstGeom prst="downArrow">
            <a:avLst>
              <a:gd name="adj1" fmla="val 50000"/>
              <a:gd name="adj2" fmla="val 2653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141720" y="4863960"/>
            <a:ext cx="411120" cy="436680"/>
          </a:xfrm>
          <a:prstGeom prst="downArrow">
            <a:avLst>
              <a:gd name="adj1" fmla="val 50000"/>
              <a:gd name="adj2" fmla="val 2655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2" name=""/>
          <p:cNvGraphicFramePr/>
          <p:nvPr/>
        </p:nvGraphicFramePr>
        <p:xfrm>
          <a:off x="0" y="2838600"/>
          <a:ext cx="5743440" cy="40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38600"/>
                    <a:ext cx="574344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3276720" y="228600"/>
          <a:ext cx="5734080" cy="405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28600"/>
                    <a:ext cx="573408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6" name=""/>
          <p:cNvSpPr/>
          <p:nvPr/>
        </p:nvSpPr>
        <p:spPr>
          <a:xfrm>
            <a:off x="228600" y="380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ing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971800" y="2438280"/>
            <a:ext cx="18288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2209680"/>
            <a:ext cx="18288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3520" y="9144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case of target approach from side of sens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33520" y="19051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g change of sensing position by flip-flop of tar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43000" y="15238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2971800" y="3276720"/>
            <a:ext cx="0" cy="137160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5943600" y="1143000"/>
            <a:ext cx="0" cy="99072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371600" y="34290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2819520" y="1447560"/>
            <a:ext cx="24382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943600" y="4572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case of target approach from side of sens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05720" y="51814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19920" y="57913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g change of sensing position between ferrous and non-ferrous me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0880" y="4648320"/>
            <a:ext cx="9907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981080" y="4648320"/>
            <a:ext cx="9907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371600" y="3352680"/>
            <a:ext cx="0" cy="137160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800600" y="1066680"/>
            <a:ext cx="0" cy="137160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00600" y="14479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 flipV="1">
            <a:off x="2438280" y="3428640"/>
            <a:ext cx="3657600" cy="2438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33520" y="5635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380520" y="3657600"/>
            <a:ext cx="228600" cy="990720"/>
            <a:chOff x="380520" y="3657600"/>
            <a:chExt cx="228600" cy="990720"/>
          </a:xfrm>
        </p:grpSpPr>
        <p:sp>
          <p:nvSpPr>
            <p:cNvPr id="747" name=""/>
            <p:cNvSpPr/>
            <p:nvPr/>
          </p:nvSpPr>
          <p:spPr>
            <a:xfrm flipV="1">
              <a:off x="577440" y="4030920"/>
              <a:ext cx="1440" cy="8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380520" y="3657600"/>
              <a:ext cx="228600" cy="990720"/>
              <a:chOff x="380520" y="3657600"/>
              <a:chExt cx="228600" cy="990720"/>
            </a:xfrm>
          </p:grpSpPr>
          <p:sp>
            <p:nvSpPr>
              <p:cNvPr id="749" name=""/>
              <p:cNvSpPr/>
              <p:nvPr/>
            </p:nvSpPr>
            <p:spPr>
              <a:xfrm flipV="1">
                <a:off x="590400" y="4121280"/>
                <a:ext cx="72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459720" y="399744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69080" y="3974400"/>
                <a:ext cx="8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471240" y="3896640"/>
                <a:ext cx="80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470160" y="38833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478440" y="3868920"/>
                <a:ext cx="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470160" y="38534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71600" y="385308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552600" y="38833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544320" y="3871440"/>
                <a:ext cx="72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552600" y="3854520"/>
                <a:ext cx="108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>
                <a:off x="558360" y="401436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557280" y="3976560"/>
                <a:ext cx="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70520" y="401436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459720" y="4014360"/>
                <a:ext cx="1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59720" y="3997440"/>
                <a:ext cx="10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468000" y="3975120"/>
                <a:ext cx="72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 flipV="1">
                <a:off x="380520" y="4631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V="1">
                <a:off x="380880" y="46155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flipV="1">
                <a:off x="380520" y="45990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V="1">
                <a:off x="380880" y="45824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 flipV="1">
                <a:off x="380520" y="45658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380880" y="45496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 flipV="1">
                <a:off x="380520" y="4532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V="1">
                <a:off x="380880" y="45165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 flipV="1">
                <a:off x="380520" y="45000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80880" y="44834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 flipV="1">
                <a:off x="380520" y="44668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V="1">
                <a:off x="380880" y="44503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 flipV="1">
                <a:off x="380520" y="4433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380880" y="44175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 flipV="1">
                <a:off x="380520" y="44006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>
                <a:off x="380880" y="43840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 flipV="1">
                <a:off x="380520" y="43675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V="1">
                <a:off x="380880" y="43509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 flipV="1">
                <a:off x="380520" y="43344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380880" y="43178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 flipV="1">
                <a:off x="380520" y="43012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380880" y="42847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 flipV="1">
                <a:off x="380520" y="42681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V="1">
                <a:off x="380880" y="4257000"/>
                <a:ext cx="176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583200" y="4631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 flipV="1">
                <a:off x="583200" y="46155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583200" y="45990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 flipV="1">
                <a:off x="583200" y="45824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583200" y="45658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 flipV="1">
                <a:off x="583200" y="45496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583200" y="4532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 flipV="1">
                <a:off x="583200" y="45165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583200" y="45000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H="1" flipV="1">
                <a:off x="583200" y="44834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583200" y="44668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 flipV="1">
                <a:off x="583200" y="44503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583200" y="4433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 flipV="1">
                <a:off x="583200" y="44175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583200" y="44006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 flipV="1">
                <a:off x="583200" y="43840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583200" y="43675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 flipV="1">
                <a:off x="583200" y="43509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583200" y="43344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 flipV="1">
                <a:off x="583200" y="43178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583200" y="43012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 flipV="1">
                <a:off x="583200" y="42847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V="1">
                <a:off x="583200" y="42681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 flipV="1">
                <a:off x="590040" y="4254480"/>
                <a:ext cx="1908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07520" y="464832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447120" y="4084560"/>
                <a:ext cx="1368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410040" y="4093920"/>
                <a:ext cx="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460800" y="4029840"/>
                <a:ext cx="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16200000">
                <a:off x="412200" y="3728880"/>
                <a:ext cx="19548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398520" y="4120920"/>
                <a:ext cx="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410400" y="4095000"/>
                <a:ext cx="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583920" y="412164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460800" y="402840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565560" y="399744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 flipV="1">
                <a:off x="469800" y="3957480"/>
                <a:ext cx="81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V="1">
                <a:off x="470160" y="39434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478440" y="392796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470160" y="391356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71600" y="39135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552600" y="39434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>
                <a:off x="544320" y="392796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52600" y="3914640"/>
                <a:ext cx="72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16200000">
                <a:off x="500760" y="387864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6200000">
                <a:off x="501840" y="393948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06440" y="46159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07160" y="45831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07160" y="45489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06440" y="45165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07160" y="44838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06440" y="445068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07160" y="44168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07160" y="438408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06440" y="43513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06440" y="43185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98880" y="425088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06440" y="418932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06440" y="422208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05000" y="42847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405000" y="412308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05000" y="415512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98880" y="412056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69800" y="3943080"/>
                <a:ext cx="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69800" y="392760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69800" y="3883320"/>
                <a:ext cx="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71240" y="3868200"/>
                <a:ext cx="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60800" y="4084200"/>
                <a:ext cx="11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762120" y="4114800"/>
            <a:ext cx="8380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 min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57200" y="5334120"/>
            <a:ext cx="1371600" cy="1218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5720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82880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057400" y="5635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1980720" y="3886200"/>
            <a:ext cx="228600" cy="990720"/>
            <a:chOff x="1980720" y="3886200"/>
            <a:chExt cx="228600" cy="990720"/>
          </a:xfrm>
        </p:grpSpPr>
        <p:sp>
          <p:nvSpPr>
            <p:cNvPr id="862" name=""/>
            <p:cNvSpPr/>
            <p:nvPr/>
          </p:nvSpPr>
          <p:spPr>
            <a:xfrm flipV="1">
              <a:off x="2177640" y="4259520"/>
              <a:ext cx="144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1980720" y="3886200"/>
              <a:ext cx="228600" cy="990720"/>
              <a:chOff x="1980720" y="3886200"/>
              <a:chExt cx="228600" cy="990720"/>
            </a:xfrm>
          </p:grpSpPr>
          <p:sp>
            <p:nvSpPr>
              <p:cNvPr id="864" name=""/>
              <p:cNvSpPr/>
              <p:nvPr/>
            </p:nvSpPr>
            <p:spPr>
              <a:xfrm flipV="1">
                <a:off x="2190600" y="4349880"/>
                <a:ext cx="72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2059920" y="422604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069280" y="4203000"/>
                <a:ext cx="8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2071440" y="4125240"/>
                <a:ext cx="80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2070360" y="41119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2078640" y="4097520"/>
                <a:ext cx="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>
                <a:off x="2070360" y="40820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071800" y="408168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2152800" y="41119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V="1">
                <a:off x="2144520" y="4100040"/>
                <a:ext cx="72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V="1">
                <a:off x="2152800" y="4083120"/>
                <a:ext cx="108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2158560" y="424296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>
                <a:off x="2157480" y="4205160"/>
                <a:ext cx="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2070720" y="424296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2059920" y="4242960"/>
                <a:ext cx="1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059920" y="4226040"/>
                <a:ext cx="10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V="1">
                <a:off x="2068200" y="4203720"/>
                <a:ext cx="72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 flipV="1">
                <a:off x="1980720" y="48603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V="1">
                <a:off x="1981080" y="48441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 flipV="1">
                <a:off x="1980720" y="48276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1981080" y="48110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 flipV="1">
                <a:off x="1980720" y="47944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1981080" y="47782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 flipV="1">
                <a:off x="1980720" y="47613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V="1">
                <a:off x="1981080" y="47451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 flipV="1">
                <a:off x="1980720" y="47286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1981080" y="47120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H="1" flipV="1">
                <a:off x="1980720" y="46954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1981080" y="46789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 flipV="1">
                <a:off x="1980720" y="46623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1981080" y="46461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 flipV="1">
                <a:off x="1980720" y="46292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1981080" y="46126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 flipV="1">
                <a:off x="1980720" y="45961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>
                <a:off x="1981080" y="45795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 flipV="1">
                <a:off x="1980720" y="45630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1981080" y="45464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 flipV="1">
                <a:off x="1980720" y="45298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1981080" y="45133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flipV="1">
                <a:off x="1980720" y="4496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1981080" y="4485600"/>
                <a:ext cx="176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2183400" y="48603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 flipV="1">
                <a:off x="2183400" y="48441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V="1">
                <a:off x="2183400" y="48276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 flipV="1">
                <a:off x="2183400" y="48110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V="1">
                <a:off x="2183400" y="47944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 flipV="1">
                <a:off x="2183400" y="47782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V="1">
                <a:off x="2183400" y="47613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 flipV="1">
                <a:off x="2183400" y="47451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2183400" y="47286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 flipV="1">
                <a:off x="2183400" y="47120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V="1">
                <a:off x="2183400" y="46954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 flipV="1">
                <a:off x="2183400" y="46789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2183400" y="46623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 flipV="1">
                <a:off x="2183400" y="46461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>
                <a:off x="2183400" y="46292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 flipV="1">
                <a:off x="2183400" y="46126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2183400" y="45961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 flipV="1">
                <a:off x="2183400" y="45795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2183400" y="45630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 flipV="1">
                <a:off x="2183400" y="45464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V="1">
                <a:off x="2183400" y="45298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 flipV="1">
                <a:off x="2183400" y="45133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2183400" y="4496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 flipV="1">
                <a:off x="2190240" y="4483080"/>
                <a:ext cx="1908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007720" y="487692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>
                <a:off x="2047320" y="4313160"/>
                <a:ext cx="1368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>
                <a:off x="2010240" y="4322520"/>
                <a:ext cx="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V="1">
                <a:off x="2061000" y="4258440"/>
                <a:ext cx="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16200000">
                <a:off x="2012400" y="3957480"/>
                <a:ext cx="19548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>
                <a:off x="1998720" y="4349520"/>
                <a:ext cx="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V="1">
                <a:off x="2010600" y="4323600"/>
                <a:ext cx="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2184120" y="435024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>
                <a:off x="2061000" y="425700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2165760" y="422604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 flipV="1">
                <a:off x="2070000" y="4186080"/>
                <a:ext cx="81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>
                <a:off x="2070360" y="41720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2078640" y="415656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V="1">
                <a:off x="2070360" y="414216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071800" y="41421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>
                <a:off x="2152800" y="41720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V="1">
                <a:off x="2144520" y="415656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2152800" y="4143240"/>
                <a:ext cx="72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6200000">
                <a:off x="2100960" y="410724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6200000">
                <a:off x="2102040" y="416808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006640" y="48445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007360" y="48117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007360" y="47775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006640" y="47451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007360" y="47124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006640" y="467928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007360" y="46454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007360" y="461268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006640" y="45799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006640" y="45471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999080" y="447948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006640" y="441792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006640" y="445068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005200" y="45133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2005200" y="435168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005200" y="438372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999080" y="434916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070000" y="4171680"/>
                <a:ext cx="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070000" y="415620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070000" y="4111920"/>
                <a:ext cx="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071440" y="4096800"/>
                <a:ext cx="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061000" y="4312800"/>
                <a:ext cx="11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1" name=""/>
          <p:cNvSpPr/>
          <p:nvPr/>
        </p:nvSpPr>
        <p:spPr>
          <a:xfrm>
            <a:off x="2362320" y="5334120"/>
            <a:ext cx="1371600" cy="1218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3623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7339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387160" y="6095880"/>
            <a:ext cx="124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t water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 de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57200" y="609588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d water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 to 5 de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1066320" y="5181480"/>
            <a:ext cx="228600" cy="990720"/>
            <a:chOff x="1066320" y="5181480"/>
            <a:chExt cx="228600" cy="990720"/>
          </a:xfrm>
        </p:grpSpPr>
        <p:sp>
          <p:nvSpPr>
            <p:cNvPr id="977" name=""/>
            <p:cNvSpPr/>
            <p:nvPr/>
          </p:nvSpPr>
          <p:spPr>
            <a:xfrm flipV="1">
              <a:off x="1263240" y="5554800"/>
              <a:ext cx="144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8" name=""/>
            <p:cNvGrpSpPr/>
            <p:nvPr/>
          </p:nvGrpSpPr>
          <p:grpSpPr>
            <a:xfrm>
              <a:off x="1066320" y="5181480"/>
              <a:ext cx="228600" cy="990720"/>
              <a:chOff x="1066320" y="5181480"/>
              <a:chExt cx="228600" cy="990720"/>
            </a:xfrm>
          </p:grpSpPr>
          <p:sp>
            <p:nvSpPr>
              <p:cNvPr id="979" name=""/>
              <p:cNvSpPr/>
              <p:nvPr/>
            </p:nvSpPr>
            <p:spPr>
              <a:xfrm flipV="1">
                <a:off x="1276200" y="5645160"/>
                <a:ext cx="72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V="1">
                <a:off x="1145520" y="552132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154880" y="5498280"/>
                <a:ext cx="8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1157040" y="5420520"/>
                <a:ext cx="80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V="1">
                <a:off x="1155960" y="54072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V="1">
                <a:off x="1164240" y="5392800"/>
                <a:ext cx="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V="1">
                <a:off x="1155960" y="53773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157400" y="53769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1238400" y="54072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1230120" y="5395320"/>
                <a:ext cx="72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V="1">
                <a:off x="1238400" y="5378400"/>
                <a:ext cx="108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V="1">
                <a:off x="1244160" y="55382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V="1">
                <a:off x="1243080" y="5500440"/>
                <a:ext cx="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V="1">
                <a:off x="1156320" y="55382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>
                <a:off x="1145520" y="5538240"/>
                <a:ext cx="1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45520" y="5521320"/>
                <a:ext cx="10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V="1">
                <a:off x="1153800" y="5499000"/>
                <a:ext cx="72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 flipV="1">
                <a:off x="1066320" y="61556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V="1">
                <a:off x="1066680" y="61394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 flipV="1">
                <a:off x="1066320" y="61228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1066680" y="61063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 flipV="1">
                <a:off x="1066320" y="6089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V="1">
                <a:off x="1066680" y="60735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 flipV="1">
                <a:off x="1066320" y="60566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V="1">
                <a:off x="1066680" y="60404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H="1" flipV="1">
                <a:off x="1066320" y="60238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1066680" y="60073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 flipV="1">
                <a:off x="1066320" y="5990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1066680" y="59742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 flipV="1">
                <a:off x="1066320" y="59576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1066680" y="59414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 flipV="1">
                <a:off x="1066320" y="592452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V="1">
                <a:off x="1066680" y="59079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 flipV="1">
                <a:off x="1066320" y="58914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V="1">
                <a:off x="1066680" y="58748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 flipV="1">
                <a:off x="1066320" y="58582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V="1">
                <a:off x="1066680" y="58417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 flipV="1">
                <a:off x="1066320" y="58251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1066680" y="58086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 flipV="1">
                <a:off x="1066320" y="57920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V="1">
                <a:off x="1066680" y="5780880"/>
                <a:ext cx="176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V="1">
                <a:off x="1269000" y="61556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 flipV="1">
                <a:off x="1269000" y="61394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1269000" y="61228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 flipV="1">
                <a:off x="1269000" y="61063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V="1">
                <a:off x="1269000" y="6089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 flipV="1">
                <a:off x="1269000" y="60735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1269000" y="60566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 flipV="1">
                <a:off x="1269000" y="60404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V="1">
                <a:off x="1269000" y="60238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 flipV="1">
                <a:off x="1269000" y="60073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V="1">
                <a:off x="1269000" y="5990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 flipV="1">
                <a:off x="1269000" y="59742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V="1">
                <a:off x="1269000" y="59576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 flipV="1">
                <a:off x="1269000" y="59414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1269000" y="592452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 flipV="1">
                <a:off x="1269000" y="59079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1269000" y="58914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 flipV="1">
                <a:off x="1269000" y="58748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V="1">
                <a:off x="1269000" y="58582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 flipV="1">
                <a:off x="1269000" y="58417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V="1">
                <a:off x="1269000" y="58251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 flipV="1">
                <a:off x="1269000" y="58086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V="1">
                <a:off x="1269000" y="57920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 flipV="1">
                <a:off x="1275840" y="5778360"/>
                <a:ext cx="1908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093320" y="617220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1132920" y="5608440"/>
                <a:ext cx="1368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>
                <a:off x="1095840" y="5617800"/>
                <a:ext cx="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1146600" y="5553720"/>
                <a:ext cx="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16200000">
                <a:off x="1098000" y="5252760"/>
                <a:ext cx="19548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1084320" y="5644800"/>
                <a:ext cx="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1096200" y="5618880"/>
                <a:ext cx="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V="1">
                <a:off x="1269720" y="564552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1146600" y="555228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V="1">
                <a:off x="1251360" y="552132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 flipV="1">
                <a:off x="1155600" y="5481360"/>
                <a:ext cx="81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V="1">
                <a:off x="1155960" y="54673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V="1">
                <a:off x="1164240" y="545184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V="1">
                <a:off x="1155960" y="54374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157400" y="54374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V="1">
                <a:off x="1238400" y="54673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1230120" y="545184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V="1">
                <a:off x="1238400" y="5438520"/>
                <a:ext cx="72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rot="16200000">
                <a:off x="1186560" y="540252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16200000">
                <a:off x="1187640" y="546336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092240" y="61398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092960" y="61070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092960" y="60728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1092240" y="60404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092960" y="600768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092240" y="59745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092960" y="59407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092960" y="59079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092240" y="58752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092240" y="58424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084680" y="577476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092240" y="571320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092240" y="574596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090800" y="58086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V="1">
                <a:off x="1090800" y="564696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090800" y="567900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084680" y="564444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55600" y="5466960"/>
                <a:ext cx="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155600" y="545148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155600" y="5407200"/>
                <a:ext cx="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157040" y="5392080"/>
                <a:ext cx="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146600" y="5608080"/>
                <a:ext cx="11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6" name=""/>
          <p:cNvSpPr/>
          <p:nvPr/>
        </p:nvSpPr>
        <p:spPr>
          <a:xfrm rot="19449000">
            <a:off x="715680" y="46620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2895120" y="5181480"/>
            <a:ext cx="228600" cy="990720"/>
            <a:chOff x="2895120" y="5181480"/>
            <a:chExt cx="228600" cy="990720"/>
          </a:xfrm>
        </p:grpSpPr>
        <p:sp>
          <p:nvSpPr>
            <p:cNvPr id="1088" name=""/>
            <p:cNvSpPr/>
            <p:nvPr/>
          </p:nvSpPr>
          <p:spPr>
            <a:xfrm flipV="1">
              <a:off x="3092040" y="5554800"/>
              <a:ext cx="144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" name=""/>
            <p:cNvGrpSpPr/>
            <p:nvPr/>
          </p:nvGrpSpPr>
          <p:grpSpPr>
            <a:xfrm>
              <a:off x="2895120" y="5181480"/>
              <a:ext cx="228600" cy="990720"/>
              <a:chOff x="2895120" y="5181480"/>
              <a:chExt cx="228600" cy="990720"/>
            </a:xfrm>
          </p:grpSpPr>
          <p:sp>
            <p:nvSpPr>
              <p:cNvPr id="1090" name=""/>
              <p:cNvSpPr/>
              <p:nvPr/>
            </p:nvSpPr>
            <p:spPr>
              <a:xfrm flipV="1">
                <a:off x="3105000" y="5645160"/>
                <a:ext cx="72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2974320" y="552132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983680" y="5498280"/>
                <a:ext cx="8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>
                <a:off x="2985840" y="5420520"/>
                <a:ext cx="80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2984760" y="54072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2993040" y="5392800"/>
                <a:ext cx="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2984760" y="53773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986200" y="53769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3067200" y="54072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V="1">
                <a:off x="3058920" y="5395320"/>
                <a:ext cx="72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V="1">
                <a:off x="3067200" y="5378400"/>
                <a:ext cx="108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3072960" y="55382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V="1">
                <a:off x="3071880" y="5500440"/>
                <a:ext cx="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V="1">
                <a:off x="2985120" y="55382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>
                <a:off x="2974320" y="5538240"/>
                <a:ext cx="1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974320" y="5521320"/>
                <a:ext cx="10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V="1">
                <a:off x="2982600" y="5499000"/>
                <a:ext cx="72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 flipV="1">
                <a:off x="2895120" y="61556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2895480" y="61394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H="1" flipV="1">
                <a:off x="2895120" y="61228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2895480" y="61063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H="1" flipV="1">
                <a:off x="2895120" y="6089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2895480" y="60735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H="1" flipV="1">
                <a:off x="2895120" y="60566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2895480" y="60404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 flipV="1">
                <a:off x="2895120" y="60238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V="1">
                <a:off x="2895480" y="60073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H="1" flipV="1">
                <a:off x="2895120" y="5990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V="1">
                <a:off x="2895480" y="59742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H="1" flipV="1">
                <a:off x="2895120" y="59576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V="1">
                <a:off x="2895480" y="59414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 flipV="1">
                <a:off x="2895120" y="592452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2895480" y="59079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H="1" flipV="1">
                <a:off x="2895120" y="58914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2895480" y="58748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 flipV="1">
                <a:off x="2895120" y="58582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V="1">
                <a:off x="2895480" y="58417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H="1" flipV="1">
                <a:off x="2895120" y="58251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V="1">
                <a:off x="2895480" y="58086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 flipV="1">
                <a:off x="2895120" y="57920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V="1">
                <a:off x="2895480" y="5780880"/>
                <a:ext cx="176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V="1">
                <a:off x="3097800" y="61556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H="1" flipV="1">
                <a:off x="3097800" y="61394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V="1">
                <a:off x="3097800" y="61228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 flipV="1">
                <a:off x="3097800" y="61063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3097800" y="6089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 flipV="1">
                <a:off x="3097800" y="60735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V="1">
                <a:off x="3097800" y="60566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 flipV="1">
                <a:off x="3097800" y="60404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V="1">
                <a:off x="3097800" y="60238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 flipV="1">
                <a:off x="3097800" y="60073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3097800" y="5990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 flipV="1">
                <a:off x="3097800" y="59742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V="1">
                <a:off x="3097800" y="59576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 flipV="1">
                <a:off x="3097800" y="59414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V="1">
                <a:off x="3097800" y="592452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 flipV="1">
                <a:off x="3097800" y="59079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V="1">
                <a:off x="3097800" y="58914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 flipV="1">
                <a:off x="3097800" y="58748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3097800" y="58582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H="1" flipV="1">
                <a:off x="3097800" y="58417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V="1">
                <a:off x="3097800" y="58251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 flipV="1">
                <a:off x="3097800" y="58086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V="1">
                <a:off x="3097800" y="57920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 flipV="1">
                <a:off x="3104640" y="5778360"/>
                <a:ext cx="1908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922120" y="617220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>
                <a:off x="2961720" y="5608440"/>
                <a:ext cx="1368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>
                <a:off x="2924640" y="5617800"/>
                <a:ext cx="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V="1">
                <a:off x="2975400" y="5553720"/>
                <a:ext cx="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rot="16200000">
                <a:off x="2926800" y="5252760"/>
                <a:ext cx="19548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V="1">
                <a:off x="2913120" y="5644800"/>
                <a:ext cx="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V="1">
                <a:off x="2925000" y="5618880"/>
                <a:ext cx="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3098520" y="564552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>
                <a:off x="2975400" y="555228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3080160" y="552132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 flipV="1">
                <a:off x="2984400" y="5481360"/>
                <a:ext cx="81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V="1">
                <a:off x="2984760" y="54673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V="1">
                <a:off x="2993040" y="545184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V="1">
                <a:off x="2984760" y="54374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986200" y="54374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3067200" y="54673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V="1">
                <a:off x="3058920" y="545184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V="1">
                <a:off x="3067200" y="5438520"/>
                <a:ext cx="72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rot="16200000">
                <a:off x="3015360" y="540252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rot="16200000">
                <a:off x="3016440" y="546336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921040" y="61398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921760" y="61070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921760" y="60728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921040" y="60404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921760" y="600768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921040" y="59745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921760" y="59407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921760" y="59079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2921040" y="58752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921040" y="58424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2913480" y="577476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921040" y="571320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921040" y="574596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2919600" y="58086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V="1">
                <a:off x="2919600" y="564696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919600" y="567900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913480" y="564444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984400" y="5466960"/>
                <a:ext cx="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984400" y="545148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2984400" y="5407200"/>
                <a:ext cx="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985840" y="5392080"/>
                <a:ext cx="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975400" y="5608080"/>
                <a:ext cx="11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7" name=""/>
          <p:cNvSpPr/>
          <p:nvPr/>
        </p:nvSpPr>
        <p:spPr>
          <a:xfrm rot="19164600">
            <a:off x="2514600" y="480024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8" name=""/>
          <p:cNvGrpSpPr/>
          <p:nvPr/>
        </p:nvGrpSpPr>
        <p:grpSpPr>
          <a:xfrm>
            <a:off x="3657240" y="3581280"/>
            <a:ext cx="228600" cy="990720"/>
            <a:chOff x="3657240" y="3581280"/>
            <a:chExt cx="228600" cy="990720"/>
          </a:xfrm>
        </p:grpSpPr>
        <p:sp>
          <p:nvSpPr>
            <p:cNvPr id="1199" name=""/>
            <p:cNvSpPr/>
            <p:nvPr/>
          </p:nvSpPr>
          <p:spPr>
            <a:xfrm flipV="1">
              <a:off x="3854160" y="3954600"/>
              <a:ext cx="1440" cy="8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0" name=""/>
            <p:cNvGrpSpPr/>
            <p:nvPr/>
          </p:nvGrpSpPr>
          <p:grpSpPr>
            <a:xfrm>
              <a:off x="3657240" y="3581280"/>
              <a:ext cx="228600" cy="990720"/>
              <a:chOff x="3657240" y="3581280"/>
              <a:chExt cx="228600" cy="990720"/>
            </a:xfrm>
          </p:grpSpPr>
          <p:sp>
            <p:nvSpPr>
              <p:cNvPr id="1201" name=""/>
              <p:cNvSpPr/>
              <p:nvPr/>
            </p:nvSpPr>
            <p:spPr>
              <a:xfrm flipV="1">
                <a:off x="3867120" y="4044960"/>
                <a:ext cx="72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V="1">
                <a:off x="3736440" y="392112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745800" y="3898080"/>
                <a:ext cx="8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3747960" y="3820320"/>
                <a:ext cx="80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V="1">
                <a:off x="3746880" y="38070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V="1">
                <a:off x="3755160" y="3792600"/>
                <a:ext cx="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3746880" y="37771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748320" y="37767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V="1">
                <a:off x="3829320" y="38070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V="1">
                <a:off x="3821040" y="3795120"/>
                <a:ext cx="72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V="1">
                <a:off x="3829320" y="3778200"/>
                <a:ext cx="108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V="1">
                <a:off x="3835080" y="39380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V="1">
                <a:off x="3834000" y="3900240"/>
                <a:ext cx="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V="1">
                <a:off x="3747240" y="39380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>
                <a:off x="3736440" y="3938040"/>
                <a:ext cx="1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736440" y="3921120"/>
                <a:ext cx="10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V="1">
                <a:off x="3744720" y="3898800"/>
                <a:ext cx="72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 flipV="1">
                <a:off x="3657240" y="45554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V="1">
                <a:off x="3657600" y="45392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H="1" flipV="1">
                <a:off x="3657240" y="45226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V="1">
                <a:off x="3657600" y="45061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H="1" flipV="1">
                <a:off x="3657240" y="44895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V="1">
                <a:off x="3657600" y="44733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H="1" flipV="1">
                <a:off x="3657240" y="44564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V="1">
                <a:off x="3657600" y="44402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H="1" flipV="1">
                <a:off x="3657240" y="44236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V="1">
                <a:off x="3657600" y="44071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H="1" flipV="1">
                <a:off x="3657240" y="43905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V="1">
                <a:off x="3657600" y="43740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 flipV="1">
                <a:off x="3657240" y="43574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V="1">
                <a:off x="3657600" y="43412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H="1" flipV="1">
                <a:off x="3657240" y="432432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3657600" y="4307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H="1" flipV="1">
                <a:off x="3657240" y="42912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V="1">
                <a:off x="3657600" y="42746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 flipV="1">
                <a:off x="3657240" y="42580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V="1">
                <a:off x="3657600" y="42415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H="1" flipV="1">
                <a:off x="3657240" y="42249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V="1">
                <a:off x="3657600" y="42084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 flipV="1">
                <a:off x="3657240" y="41918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V="1">
                <a:off x="3657600" y="4180680"/>
                <a:ext cx="176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V="1">
                <a:off x="3859920" y="45554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 flipV="1">
                <a:off x="3859920" y="45392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V="1">
                <a:off x="3859920" y="45226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 flipV="1">
                <a:off x="3859920" y="45061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V="1">
                <a:off x="3859920" y="44895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 flipV="1">
                <a:off x="3859920" y="44733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V="1">
                <a:off x="3859920" y="44564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 flipV="1">
                <a:off x="3859920" y="44402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V="1">
                <a:off x="3859920" y="44236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 flipV="1">
                <a:off x="3859920" y="44071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V="1">
                <a:off x="3859920" y="43905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 flipV="1">
                <a:off x="3859920" y="43740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V="1">
                <a:off x="3859920" y="43574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H="1" flipV="1">
                <a:off x="3859920" y="43412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V="1">
                <a:off x="3859920" y="432432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 flipV="1">
                <a:off x="3859920" y="4307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V="1">
                <a:off x="3859920" y="42912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H="1" flipV="1">
                <a:off x="3859920" y="42746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3859920" y="42580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 flipV="1">
                <a:off x="3859920" y="42415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V="1">
                <a:off x="3859920" y="42249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H="1" flipV="1">
                <a:off x="3859920" y="42084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3859920" y="41918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H="1" flipV="1">
                <a:off x="3866760" y="4178160"/>
                <a:ext cx="1908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684240" y="457200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>
                <a:off x="3723840" y="4008240"/>
                <a:ext cx="1368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H="1">
                <a:off x="3686760" y="4017600"/>
                <a:ext cx="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V="1">
                <a:off x="3737520" y="3953520"/>
                <a:ext cx="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rot="16200000">
                <a:off x="3688920" y="3652560"/>
                <a:ext cx="19548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V="1">
                <a:off x="3675240" y="4044600"/>
                <a:ext cx="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V="1">
                <a:off x="3687120" y="4018680"/>
                <a:ext cx="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3860640" y="404532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H="1">
                <a:off x="3737520" y="395208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V="1">
                <a:off x="3842280" y="392112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H="1" flipV="1">
                <a:off x="3746520" y="3881160"/>
                <a:ext cx="81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V="1">
                <a:off x="3746880" y="38671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V="1">
                <a:off x="3755160" y="385164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V="1">
                <a:off x="3746880" y="38372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748320" y="38372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V="1">
                <a:off x="3829320" y="38671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3821040" y="385164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3829320" y="3838320"/>
                <a:ext cx="72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16200000">
                <a:off x="3777480" y="380232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16200000">
                <a:off x="3778560" y="386316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683160" y="45396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683880" y="45068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683880" y="44726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683160" y="44402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683880" y="440748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683160" y="43743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683880" y="43405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683880" y="43077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683160" y="42750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683160" y="42422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675600" y="417456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683160" y="411300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683160" y="414576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681720" y="42084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V="1">
                <a:off x="3681720" y="404676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681720" y="407880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675600" y="404424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746520" y="3866760"/>
                <a:ext cx="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746520" y="385128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746520" y="3807000"/>
                <a:ext cx="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747960" y="3791880"/>
                <a:ext cx="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737520" y="4007880"/>
                <a:ext cx="11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8" name=""/>
          <p:cNvSpPr/>
          <p:nvPr/>
        </p:nvSpPr>
        <p:spPr>
          <a:xfrm flipV="1" rot="2151000">
            <a:off x="1371240" y="480024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 rot="2151000">
            <a:off x="3257280" y="4645080"/>
            <a:ext cx="218880" cy="477720"/>
          </a:xfrm>
          <a:prstGeom prst="downArrow">
            <a:avLst>
              <a:gd name="adj1" fmla="val 50000"/>
              <a:gd name="adj2" fmla="val 54564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 flipV="1">
            <a:off x="456480" y="3200400"/>
            <a:ext cx="685800" cy="457200"/>
          </a:xfrm>
          <a:custGeom>
            <a:avLst/>
            <a:gdLst>
              <a:gd name="textAreaLeft" fmla="*/ 228600 w 685800"/>
              <a:gd name="textAreaRight" fmla="*/ 587520 w 685800"/>
              <a:gd name="textAreaTop" fmla="*/ 26352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143000" y="3200400"/>
            <a:ext cx="243828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590920" y="4114800"/>
            <a:ext cx="8380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 min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505320" y="3200400"/>
            <a:ext cx="152280" cy="3808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8800" y="2828880"/>
            <a:ext cx="332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original test (to simulate the real appli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181480" y="3605040"/>
            <a:ext cx="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181480" y="6192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181480" y="510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181480" y="3962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rot="10800000">
            <a:off x="4265280" y="3603600"/>
            <a:ext cx="60660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eat cycle (tim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572000" y="3809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648320" y="4952880"/>
            <a:ext cx="5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638680" y="3803760"/>
            <a:ext cx="228600" cy="23889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334120" y="62784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486400" y="3276720"/>
            <a:ext cx="53352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324480" y="5943600"/>
            <a:ext cx="228600" cy="255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019920" y="6324480"/>
            <a:ext cx="792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URC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-Prox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172200" y="5715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28600" y="457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proof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9" name="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832200" cy="2874960"/>
          </a:xfrm>
          <a:prstGeom prst="rect">
            <a:avLst/>
          </a:prstGeom>
          <a:ln w="0">
            <a:noFill/>
          </a:ln>
        </p:spPr>
      </p:pic>
      <p:sp>
        <p:nvSpPr>
          <p:cNvPr id="1330" name=""/>
          <p:cNvSpPr/>
          <p:nvPr/>
        </p:nvSpPr>
        <p:spPr>
          <a:xfrm>
            <a:off x="1905120" y="1066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points had insulation br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191120" y="1447920"/>
            <a:ext cx="25905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191120" y="1600200"/>
            <a:ext cx="3657600" cy="30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114800" y="1752480"/>
            <a:ext cx="2133720" cy="30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095880" y="37339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Prox+ does not fit for water proof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5" name=""/>
          <p:cNvGraphicFramePr/>
          <p:nvPr/>
        </p:nvGraphicFramePr>
        <p:xfrm>
          <a:off x="762120" y="1033560"/>
          <a:ext cx="8001000" cy="45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33560"/>
                    <a:ext cx="8001000" cy="45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7" name="" descr=""/>
          <p:cNvPicPr/>
          <p:nvPr/>
        </p:nvPicPr>
        <p:blipFill>
          <a:blip r:embed="rId3"/>
          <a:stretch/>
        </p:blipFill>
        <p:spPr>
          <a:xfrm>
            <a:off x="1981080" y="1752480"/>
            <a:ext cx="928800" cy="1204920"/>
          </a:xfrm>
          <a:prstGeom prst="rect">
            <a:avLst/>
          </a:prstGeom>
          <a:ln w="0">
            <a:noFill/>
          </a:ln>
        </p:spPr>
      </p:pic>
      <p:sp>
        <p:nvSpPr>
          <p:cNvPr id="1338" name=""/>
          <p:cNvSpPr/>
          <p:nvPr/>
        </p:nvSpPr>
        <p:spPr>
          <a:xfrm>
            <a:off x="380880" y="228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target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rot="1642200">
            <a:off x="2126880" y="3600360"/>
            <a:ext cx="314280" cy="1752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600200" y="5715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Prox+ cannot detect small ferrous metal targ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124080" y="1600200"/>
            <a:ext cx="3048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sing object = ferrous met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2" name=""/>
          <p:cNvGraphicFramePr/>
          <p:nvPr/>
        </p:nvGraphicFramePr>
        <p:xfrm>
          <a:off x="0" y="3205080"/>
          <a:ext cx="4952880" cy="32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05080"/>
                    <a:ext cx="4952880" cy="32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4" name=""/>
          <p:cNvGraphicFramePr/>
          <p:nvPr/>
        </p:nvGraphicFramePr>
        <p:xfrm>
          <a:off x="4419720" y="0"/>
          <a:ext cx="4857480" cy="317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0"/>
                    <a:ext cx="485748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6" name=""/>
          <p:cNvGraphicFramePr/>
          <p:nvPr/>
        </p:nvGraphicFramePr>
        <p:xfrm>
          <a:off x="4419720" y="3276720"/>
          <a:ext cx="487656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276720"/>
                    <a:ext cx="487656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8" name=""/>
          <p:cNvSpPr/>
          <p:nvPr/>
        </p:nvSpPr>
        <p:spPr>
          <a:xfrm>
            <a:off x="5029200" y="1295280"/>
            <a:ext cx="3886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029200" y="1828800"/>
            <a:ext cx="3886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55480" y="5079960"/>
            <a:ext cx="3886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95440" y="4510080"/>
            <a:ext cx="3886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008680" y="4562640"/>
            <a:ext cx="3886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08680" y="5132520"/>
            <a:ext cx="3886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006560" y="4983120"/>
            <a:ext cx="37152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836640" y="5446800"/>
            <a:ext cx="321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Not possible “recessed mounting in non ferrous metal. </a:t>
            </a:r>
            <a:r>
              <a:rPr b="1" lang="en-US" sz="900" spc="-1" strike="noStrike">
                <a:solidFill>
                  <a:srgbClr val="ff0000"/>
                </a:solidFill>
                <a:latin typeface="Times New Roman"/>
              </a:rPr>
              <a:t>–0.5mm </a:t>
            </a:r>
            <a:r>
              <a:rPr b="1" lang="en-US" sz="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900" spc="-1" strike="noStrike">
                <a:solidFill>
                  <a:srgbClr val="ff0000"/>
                </a:solidFill>
                <a:latin typeface="Times New Roman"/>
              </a:rPr>
              <a:t> 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5299200" y="1816200"/>
            <a:ext cx="98100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408640" y="2120760"/>
            <a:ext cx="321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Bigger sensing distance decreas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529240" y="5538960"/>
            <a:ext cx="321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Bigger sensing distance decreas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962680" y="5116680"/>
            <a:ext cx="98100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25360" y="264960"/>
            <a:ext cx="39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uence of surrounding 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55640" y="809640"/>
            <a:ext cx="401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er sensing area by non-ferrous met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43040" y="1552680"/>
            <a:ext cx="401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gger influence from non-ferrous met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265480" y="1139760"/>
            <a:ext cx="318960" cy="397080"/>
          </a:xfrm>
          <a:prstGeom prst="downArrow">
            <a:avLst>
              <a:gd name="adj1" fmla="val 50000"/>
              <a:gd name="adj2" fmla="val 3112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25520" y="2082960"/>
            <a:ext cx="401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-Prox+ : Recessed mounting 0.5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01600" y="2495520"/>
            <a:ext cx="42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Not possible recessed mounting in Alminum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3832200" cy="2874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762120"/>
            <a:ext cx="3832200" cy="2874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" y="762120"/>
            <a:ext cx="3832200" cy="2874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560" y="228600"/>
            <a:ext cx="171396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5181480"/>
            <a:ext cx="685800" cy="6858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029200" y="5791320"/>
            <a:ext cx="457200" cy="3808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038480" y="4800600"/>
            <a:ext cx="1981440" cy="3808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34320" y="5105520"/>
            <a:ext cx="685800" cy="6858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029200" y="5715000"/>
            <a:ext cx="2057400" cy="45720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3320" y="5715000"/>
            <a:ext cx="3416040" cy="63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aining of Resin filling Hopper (2 poi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me as E2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0600" y="5029200"/>
            <a:ext cx="176112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D (1color, Yello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3832200" cy="2874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419720" y="762120"/>
            <a:ext cx="3832200" cy="2874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7200" y="762120"/>
            <a:ext cx="3832200" cy="2874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2880" y="228600"/>
            <a:ext cx="34297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removing metal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5562720"/>
            <a:ext cx="60948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4080" y="5181480"/>
            <a:ext cx="3242160" cy="83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case (Br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surface of inside metal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adhesiveness between resin and metal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11880" y="2743200"/>
            <a:ext cx="1148400" cy="83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il C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/ 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 on c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81480" y="2133360"/>
            <a:ext cx="152640" cy="6094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3080" y="3733920"/>
            <a:ext cx="2257920" cy="83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amed res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 but possible to cut by 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523880" y="2437920"/>
            <a:ext cx="381240" cy="129564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02480" y="228600"/>
            <a:ext cx="212544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X-ray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3343320"/>
            <a:ext cx="7782120" cy="3514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72280" y="152280"/>
            <a:ext cx="2871720" cy="2895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38520" y="3048120"/>
            <a:ext cx="779760" cy="27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3124080"/>
            <a:ext cx="380880" cy="45720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36920" y="2590920"/>
            <a:ext cx="455040" cy="27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ＬＥ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752480" y="2895480"/>
            <a:ext cx="152640" cy="160020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4495680"/>
            <a:ext cx="1447920" cy="7621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91520" y="3429000"/>
            <a:ext cx="1066680" cy="32767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59240" y="2286000"/>
            <a:ext cx="904680" cy="27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2590920"/>
            <a:ext cx="762120" cy="114300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5400" y="228600"/>
            <a:ext cx="248796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remove re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途中経過１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3832200" cy="2874960"/>
          </a:xfrm>
          <a:prstGeom prst="rect">
            <a:avLst/>
          </a:prstGeom>
          <a:ln w="0">
            <a:noFill/>
          </a:ln>
        </p:spPr>
      </p:pic>
      <p:pic>
        <p:nvPicPr>
          <p:cNvPr id="77" name="途中経過２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832200" cy="2874960"/>
          </a:xfrm>
          <a:prstGeom prst="rect">
            <a:avLst/>
          </a:prstGeom>
          <a:ln w="0">
            <a:noFill/>
          </a:ln>
        </p:spPr>
      </p:pic>
      <p:pic>
        <p:nvPicPr>
          <p:cNvPr id="78" name="途中経過７" descr=""/>
          <p:cNvPicPr/>
          <p:nvPr/>
        </p:nvPicPr>
        <p:blipFill>
          <a:blip r:embed="rId3"/>
          <a:stretch/>
        </p:blipFill>
        <p:spPr>
          <a:xfrm>
            <a:off x="457200" y="365760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523120" y="3124080"/>
            <a:ext cx="455040" cy="27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ＬＥ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715000" y="2514240"/>
            <a:ext cx="228600" cy="6094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シールド？" descr=""/>
          <p:cNvPicPr/>
          <p:nvPr/>
        </p:nvPicPr>
        <p:blipFill>
          <a:blip r:embed="rId4"/>
          <a:srcRect l="18454" t="12303" r="18454" b="12303"/>
          <a:stretch/>
        </p:blipFill>
        <p:spPr>
          <a:xfrm>
            <a:off x="4343400" y="4114800"/>
            <a:ext cx="2417760" cy="2166840"/>
          </a:xfrm>
          <a:prstGeom prst="rect">
            <a:avLst/>
          </a:prstGeom>
          <a:ln w="0">
            <a:noFill/>
          </a:ln>
        </p:spPr>
      </p:pic>
      <p:pic>
        <p:nvPicPr>
          <p:cNvPr id="82" name="コイルケース" descr=""/>
          <p:cNvPicPr/>
          <p:nvPr/>
        </p:nvPicPr>
        <p:blipFill>
          <a:blip r:embed="rId5"/>
          <a:srcRect l="18454" t="7382" r="18454" b="12303"/>
          <a:stretch/>
        </p:blipFill>
        <p:spPr>
          <a:xfrm>
            <a:off x="6781680" y="2971800"/>
            <a:ext cx="2417760" cy="2308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895480" y="5791320"/>
            <a:ext cx="1828800" cy="546120"/>
          </a:xfrm>
          <a:custGeom>
            <a:avLst/>
            <a:gdLst/>
            <a:ahLst/>
            <a:rect l="l" t="t" r="r" b="b"/>
            <a:pathLst>
              <a:path w="1152" h="344">
                <a:moveTo>
                  <a:pt x="0" y="0"/>
                </a:moveTo>
                <a:cubicBezTo>
                  <a:pt x="120" y="164"/>
                  <a:pt x="240" y="328"/>
                  <a:pt x="432" y="336"/>
                </a:cubicBezTo>
                <a:cubicBezTo>
                  <a:pt x="624" y="344"/>
                  <a:pt x="888" y="196"/>
                  <a:pt x="1152" y="48"/>
                </a:cubicBezTo>
              </a:path>
            </a:pathLst>
          </a:custGeom>
          <a:noFill/>
          <a:ln w="2232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943600"/>
            <a:ext cx="1752480" cy="73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 Ring (br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 to GND (soldered at 2 poi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01000" y="2590920"/>
            <a:ext cx="0" cy="5331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5029200"/>
            <a:ext cx="1904760" cy="156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il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kind of evaporated layer inside of coil case. No connection to G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function with E2A ring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4191120"/>
            <a:ext cx="457200" cy="4572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5410080"/>
            <a:ext cx="457200" cy="4572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5400" y="228600"/>
            <a:ext cx="248796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remove re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樹脂除去１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57200" y="762120"/>
            <a:ext cx="3832200" cy="2874960"/>
          </a:xfrm>
          <a:prstGeom prst="rect">
            <a:avLst/>
          </a:prstGeom>
          <a:ln w="0">
            <a:noFill/>
          </a:ln>
        </p:spPr>
      </p:pic>
      <p:pic>
        <p:nvPicPr>
          <p:cNvPr id="91" name="樹脂除去２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4495680" y="762120"/>
            <a:ext cx="3832200" cy="2874960"/>
          </a:xfrm>
          <a:prstGeom prst="rect">
            <a:avLst/>
          </a:prstGeom>
          <a:ln w="0">
            <a:noFill/>
          </a:ln>
        </p:spPr>
      </p:pic>
      <p:pic>
        <p:nvPicPr>
          <p:cNvPr id="92" name="樹脂除去３" descr="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457200" y="3657600"/>
            <a:ext cx="3832200" cy="2874960"/>
          </a:xfrm>
          <a:prstGeom prst="rect">
            <a:avLst/>
          </a:prstGeom>
          <a:ln w="0">
            <a:noFill/>
          </a:ln>
        </p:spPr>
      </p:pic>
      <p:pic>
        <p:nvPicPr>
          <p:cNvPr id="93" name="樹脂除去４" descr=""/>
          <p:cNvPicPr/>
          <p:nvPr/>
        </p:nvPicPr>
        <p:blipFill>
          <a:blip r:embed="rId4"/>
          <a:stretch/>
        </p:blipFill>
        <p:spPr>
          <a:xfrm>
            <a:off x="4495680" y="3657600"/>
            <a:ext cx="38322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9720" y="228600"/>
            <a:ext cx="75528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基板１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3598920" cy="2877840"/>
          </a:xfrm>
          <a:prstGeom prst="rect">
            <a:avLst/>
          </a:prstGeom>
          <a:ln w="0">
            <a:noFill/>
          </a:ln>
        </p:spPr>
      </p:pic>
      <p:pic>
        <p:nvPicPr>
          <p:cNvPr id="96" name="基板２" descr=""/>
          <p:cNvPicPr/>
          <p:nvPr/>
        </p:nvPicPr>
        <p:blipFill>
          <a:blip r:embed="rId2"/>
          <a:stretch/>
        </p:blipFill>
        <p:spPr>
          <a:xfrm>
            <a:off x="4419720" y="762120"/>
            <a:ext cx="3598920" cy="2877840"/>
          </a:xfrm>
          <a:prstGeom prst="rect">
            <a:avLst/>
          </a:prstGeom>
          <a:ln w="0">
            <a:noFill/>
          </a:ln>
        </p:spPr>
      </p:pic>
      <p:pic>
        <p:nvPicPr>
          <p:cNvPr id="97" name="プリントコイル１" descr=""/>
          <p:cNvPicPr/>
          <p:nvPr/>
        </p:nvPicPr>
        <p:blipFill>
          <a:blip r:embed="rId3"/>
          <a:stretch/>
        </p:blipFill>
        <p:spPr>
          <a:xfrm>
            <a:off x="457200" y="3733920"/>
            <a:ext cx="3598920" cy="2877840"/>
          </a:xfrm>
          <a:prstGeom prst="rect">
            <a:avLst/>
          </a:prstGeom>
          <a:ln w="0">
            <a:noFill/>
          </a:ln>
        </p:spPr>
      </p:pic>
      <p:pic>
        <p:nvPicPr>
          <p:cNvPr id="98" name="プリントコイル２" descr=""/>
          <p:cNvPicPr/>
          <p:nvPr/>
        </p:nvPicPr>
        <p:blipFill>
          <a:blip r:embed="rId4"/>
          <a:stretch/>
        </p:blipFill>
        <p:spPr>
          <a:xfrm>
            <a:off x="4419720" y="3733920"/>
            <a:ext cx="3598920" cy="2877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29000" y="5638680"/>
            <a:ext cx="1828800" cy="73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PCB, coil on 1st and 4th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69160" y="304920"/>
            <a:ext cx="2612880" cy="83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P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ular coil on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ay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duce surrounding metal influ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85480" y="3048120"/>
            <a:ext cx="1243080" cy="55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CK 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629400" y="2514600"/>
            <a:ext cx="380880" cy="53352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1523880"/>
            <a:ext cx="457200" cy="14479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05000" y="3352680"/>
            <a:ext cx="215280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ape will help better adhesiveness resin and PC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962520" y="2743200"/>
            <a:ext cx="304560" cy="53352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560" y="228600"/>
            <a:ext cx="152028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81280" y="2362320"/>
            <a:ext cx="123840" cy="2276280"/>
          </a:xfrm>
          <a:custGeom>
            <a:avLst/>
            <a:gdLst/>
            <a:ahLst/>
            <a:rect l="l" t="t" r="r" b="b"/>
            <a:pathLst>
              <a:path w="78" h="1434">
                <a:moveTo>
                  <a:pt x="78" y="1434"/>
                </a:moveTo>
                <a:lnTo>
                  <a:pt x="0" y="780"/>
                </a:lnTo>
                <a:lnTo>
                  <a:pt x="0" y="654"/>
                </a:lnTo>
                <a:lnTo>
                  <a:pt x="78" y="0"/>
                </a:lnTo>
                <a:lnTo>
                  <a:pt x="78" y="1434"/>
                </a:lnTo>
                <a:close/>
              </a:path>
            </a:pathLst>
          </a:custGeom>
          <a:solidFill>
            <a:srgbClr val="00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85840" y="2400480"/>
            <a:ext cx="5153040" cy="2162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85840" y="2324160"/>
            <a:ext cx="505080" cy="16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66760" y="4476600"/>
            <a:ext cx="505080" cy="16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05080" y="2324160"/>
            <a:ext cx="4962600" cy="76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895480" y="2133720"/>
            <a:ext cx="4372200" cy="190440"/>
            <a:chOff x="2895480" y="2133720"/>
            <a:chExt cx="4372200" cy="190440"/>
          </a:xfrm>
        </p:grpSpPr>
        <p:grpSp>
          <p:nvGrpSpPr>
            <p:cNvPr id="113" name=""/>
            <p:cNvGrpSpPr/>
            <p:nvPr/>
          </p:nvGrpSpPr>
          <p:grpSpPr>
            <a:xfrm>
              <a:off x="2895480" y="2133720"/>
              <a:ext cx="2190960" cy="190440"/>
              <a:chOff x="2895480" y="2133720"/>
              <a:chExt cx="2190960" cy="19044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3990960" y="2133720"/>
                <a:ext cx="552600" cy="190440"/>
                <a:chOff x="3990960" y="2133720"/>
                <a:chExt cx="552600" cy="1904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990960" y="213372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124160" y="2133720"/>
                  <a:ext cx="142920" cy="190440"/>
                </a:xfrm>
                <a:custGeom>
                  <a:avLst/>
                  <a:gdLst/>
                  <a:ahLst/>
                  <a:rect l="l" t="t" r="r" b="b"/>
                  <a:pathLst>
                    <a:path w="90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90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267080" y="213372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410000" y="213372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448080" y="2133720"/>
                <a:ext cx="542880" cy="190440"/>
                <a:chOff x="3448080" y="2133720"/>
                <a:chExt cx="542880" cy="1904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448080" y="213372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581280" y="213372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714840" y="213372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857760" y="213372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4543560" y="2133720"/>
                <a:ext cx="542880" cy="190440"/>
                <a:chOff x="4543560" y="2133720"/>
                <a:chExt cx="542880" cy="1904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543560" y="213372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676760" y="213372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809960" y="213372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952880" y="213372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895480" y="2133720"/>
                <a:ext cx="552600" cy="190440"/>
                <a:chOff x="2895480" y="2133720"/>
                <a:chExt cx="552600" cy="1904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895480" y="213372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029040" y="2133720"/>
                  <a:ext cx="142920" cy="190440"/>
                </a:xfrm>
                <a:custGeom>
                  <a:avLst/>
                  <a:gdLst/>
                  <a:ahLst/>
                  <a:rect l="l" t="t" r="r" b="b"/>
                  <a:pathLst>
                    <a:path w="90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90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171960" y="213372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314880" y="213372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" name=""/>
            <p:cNvGrpSpPr/>
            <p:nvPr/>
          </p:nvGrpSpPr>
          <p:grpSpPr>
            <a:xfrm>
              <a:off x="5086440" y="2133720"/>
              <a:ext cx="2181240" cy="190440"/>
              <a:chOff x="5086440" y="2133720"/>
              <a:chExt cx="2181240" cy="19044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6181560" y="2133720"/>
                <a:ext cx="543240" cy="190440"/>
                <a:chOff x="6181560" y="2133720"/>
                <a:chExt cx="543240" cy="19044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6181560" y="213372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315120" y="213372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448320" y="213372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591240" y="213372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629320" y="2133720"/>
                <a:ext cx="552240" cy="190440"/>
                <a:chOff x="5629320" y="2133720"/>
                <a:chExt cx="552240" cy="1904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629320" y="213372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762520" y="2133720"/>
                  <a:ext cx="142920" cy="190440"/>
                </a:xfrm>
                <a:custGeom>
                  <a:avLst/>
                  <a:gdLst/>
                  <a:ahLst/>
                  <a:rect l="l" t="t" r="r" b="b"/>
                  <a:pathLst>
                    <a:path w="90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90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905440" y="213372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048360" y="213372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724800" y="2133720"/>
                <a:ext cx="542880" cy="190440"/>
                <a:chOff x="6724800" y="2133720"/>
                <a:chExt cx="542880" cy="1904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724800" y="213372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858000" y="213372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991200" y="213372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134120" y="213372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5086440" y="2133720"/>
                <a:ext cx="542880" cy="190440"/>
                <a:chOff x="5086440" y="2133720"/>
                <a:chExt cx="542880" cy="1904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086440" y="213372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219640" y="213372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353200" y="213372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495760" y="213372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0"/>
                      </a:moveTo>
                      <a:lnTo>
                        <a:pt x="0" y="120"/>
                      </a:lnTo>
                      <a:lnTo>
                        <a:pt x="84" y="1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5" name=""/>
          <p:cNvSpPr/>
          <p:nvPr/>
        </p:nvSpPr>
        <p:spPr>
          <a:xfrm>
            <a:off x="2305080" y="4562640"/>
            <a:ext cx="4962600" cy="75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14480" y="2324160"/>
            <a:ext cx="162000" cy="2314440"/>
          </a:xfrm>
          <a:prstGeom prst="rect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29040" y="2400480"/>
            <a:ext cx="2438640" cy="95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72280" y="2400480"/>
            <a:ext cx="95400" cy="2162160"/>
          </a:xfrm>
          <a:prstGeom prst="rect">
            <a:avLst/>
          </a:prstGeom>
          <a:solidFill>
            <a:srgbClr val="ff9900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29040" y="4467240"/>
            <a:ext cx="2438640" cy="95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2495520"/>
            <a:ext cx="162000" cy="1971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47800" y="3448080"/>
            <a:ext cx="4362480" cy="142920"/>
          </a:xfrm>
          <a:prstGeom prst="rect">
            <a:avLst/>
          </a:prstGeom>
          <a:solidFill>
            <a:srgbClr val="008000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00760" y="2495520"/>
            <a:ext cx="1771560" cy="133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0760" y="4343400"/>
            <a:ext cx="1771560" cy="12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00760" y="3352680"/>
            <a:ext cx="257040" cy="95400"/>
          </a:xfrm>
          <a:custGeom>
            <a:avLst/>
            <a:gdLst/>
            <a:ahLst/>
            <a:rect l="l" t="t" r="r" b="b"/>
            <a:pathLst>
              <a:path w="162" h="60">
                <a:moveTo>
                  <a:pt x="0" y="0"/>
                </a:moveTo>
                <a:lnTo>
                  <a:pt x="0" y="60"/>
                </a:lnTo>
                <a:lnTo>
                  <a:pt x="162" y="6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00760" y="3591000"/>
            <a:ext cx="257040" cy="95040"/>
          </a:xfrm>
          <a:custGeom>
            <a:avLst/>
            <a:gdLst/>
            <a:ahLst/>
            <a:rect l="l" t="t" r="r" b="b"/>
            <a:pathLst>
              <a:path w="162" h="60">
                <a:moveTo>
                  <a:pt x="0" y="60"/>
                </a:moveTo>
                <a:lnTo>
                  <a:pt x="0" y="0"/>
                </a:lnTo>
                <a:lnTo>
                  <a:pt x="162" y="0"/>
                </a:lnTo>
                <a:lnTo>
                  <a:pt x="0" y="60"/>
                </a:lnTo>
                <a:close/>
              </a:path>
            </a:pathLst>
          </a:custGeom>
          <a:solidFill>
            <a:srgbClr val="96969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3352680"/>
            <a:ext cx="133200" cy="95400"/>
          </a:xfrm>
          <a:custGeom>
            <a:avLst/>
            <a:gdLst/>
            <a:ahLst/>
            <a:rect l="l" t="t" r="r" b="b"/>
            <a:pathLst>
              <a:path w="84" h="60">
                <a:moveTo>
                  <a:pt x="84" y="0"/>
                </a:moveTo>
                <a:lnTo>
                  <a:pt x="84" y="60"/>
                </a:lnTo>
                <a:lnTo>
                  <a:pt x="0" y="60"/>
                </a:lnTo>
                <a:lnTo>
                  <a:pt x="84" y="0"/>
                </a:lnTo>
                <a:close/>
              </a:path>
            </a:pathLst>
          </a:custGeom>
          <a:solidFill>
            <a:srgbClr val="96969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77080" y="3591000"/>
            <a:ext cx="133200" cy="95040"/>
          </a:xfrm>
          <a:custGeom>
            <a:avLst/>
            <a:gdLst/>
            <a:ahLst/>
            <a:rect l="l" t="t" r="r" b="b"/>
            <a:pathLst>
              <a:path w="84" h="60">
                <a:moveTo>
                  <a:pt x="84" y="60"/>
                </a:moveTo>
                <a:lnTo>
                  <a:pt x="84" y="0"/>
                </a:lnTo>
                <a:lnTo>
                  <a:pt x="0" y="0"/>
                </a:lnTo>
                <a:lnTo>
                  <a:pt x="84" y="60"/>
                </a:lnTo>
                <a:close/>
              </a:path>
            </a:pathLst>
          </a:custGeom>
          <a:solidFill>
            <a:srgbClr val="96969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000760" y="2629080"/>
            <a:ext cx="1771560" cy="1714320"/>
            <a:chOff x="5000760" y="2629080"/>
            <a:chExt cx="1771560" cy="1714320"/>
          </a:xfrm>
        </p:grpSpPr>
        <p:grpSp>
          <p:nvGrpSpPr>
            <p:cNvPr id="169" name=""/>
            <p:cNvGrpSpPr/>
            <p:nvPr/>
          </p:nvGrpSpPr>
          <p:grpSpPr>
            <a:xfrm>
              <a:off x="5000760" y="2629080"/>
              <a:ext cx="1771560" cy="1714320"/>
              <a:chOff x="5000760" y="2629080"/>
              <a:chExt cx="1771560" cy="1714320"/>
            </a:xfrm>
          </p:grpSpPr>
          <p:sp>
            <p:nvSpPr>
              <p:cNvPr id="170" name=""/>
              <p:cNvSpPr/>
              <p:nvPr/>
            </p:nvSpPr>
            <p:spPr>
              <a:xfrm>
                <a:off x="5000760" y="2629080"/>
                <a:ext cx="1771560" cy="171432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000760" y="2629080"/>
                <a:ext cx="1771560" cy="171432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000760" y="2629080"/>
                <a:ext cx="1771560" cy="171432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5000760" y="2629080"/>
              <a:ext cx="1771560" cy="17143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47640" y="3429000"/>
            <a:ext cx="1657440" cy="190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05080" y="3371760"/>
            <a:ext cx="485640" cy="123840"/>
          </a:xfrm>
          <a:custGeom>
            <a:avLst/>
            <a:gdLst/>
            <a:ahLst/>
            <a:rect l="l" t="t" r="r" b="b"/>
            <a:pathLst>
              <a:path w="51" h="13">
                <a:moveTo>
                  <a:pt x="0" y="13"/>
                </a:moveTo>
                <a:cubicBezTo>
                  <a:pt x="8" y="2"/>
                  <a:pt x="20" y="1"/>
                  <a:pt x="31" y="0"/>
                </a:cubicBezTo>
                <a:cubicBezTo>
                  <a:pt x="35" y="0"/>
                  <a:pt x="51" y="1"/>
                  <a:pt x="51" y="8"/>
                </a:cubicBezTo>
              </a:path>
            </a:pathLst>
          </a:custGeom>
          <a:noFill/>
          <a:ln w="47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5080" y="3324240"/>
            <a:ext cx="504720" cy="152280"/>
          </a:xfrm>
          <a:custGeom>
            <a:avLst/>
            <a:gdLst/>
            <a:ahLst/>
            <a:rect l="l" t="t" r="r" b="b"/>
            <a:pathLst>
              <a:path w="53" h="16">
                <a:moveTo>
                  <a:pt x="0" y="16"/>
                </a:moveTo>
                <a:cubicBezTo>
                  <a:pt x="2" y="10"/>
                  <a:pt x="7" y="5"/>
                  <a:pt x="12" y="3"/>
                </a:cubicBezTo>
                <a:cubicBezTo>
                  <a:pt x="15" y="2"/>
                  <a:pt x="20" y="0"/>
                  <a:pt x="20" y="0"/>
                </a:cubicBezTo>
                <a:cubicBezTo>
                  <a:pt x="26" y="0"/>
                  <a:pt x="32" y="0"/>
                  <a:pt x="39" y="1"/>
                </a:cubicBezTo>
                <a:cubicBezTo>
                  <a:pt x="44" y="1"/>
                  <a:pt x="50" y="7"/>
                  <a:pt x="50" y="7"/>
                </a:cubicBezTo>
                <a:cubicBezTo>
                  <a:pt x="51" y="10"/>
                  <a:pt x="52" y="12"/>
                  <a:pt x="53" y="14"/>
                </a:cubicBez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05080" y="3219480"/>
            <a:ext cx="523800" cy="247680"/>
          </a:xfrm>
          <a:custGeom>
            <a:avLst/>
            <a:gdLst/>
            <a:ahLst/>
            <a:rect l="l" t="t" r="r" b="b"/>
            <a:pathLst>
              <a:path w="55" h="26">
                <a:moveTo>
                  <a:pt x="0" y="24"/>
                </a:moveTo>
                <a:cubicBezTo>
                  <a:pt x="3" y="15"/>
                  <a:pt x="7" y="9"/>
                  <a:pt x="15" y="6"/>
                </a:cubicBezTo>
                <a:cubicBezTo>
                  <a:pt x="19" y="0"/>
                  <a:pt x="31" y="4"/>
                  <a:pt x="37" y="4"/>
                </a:cubicBezTo>
                <a:cubicBezTo>
                  <a:pt x="41" y="4"/>
                  <a:pt x="41" y="6"/>
                  <a:pt x="44" y="9"/>
                </a:cubicBezTo>
                <a:cubicBezTo>
                  <a:pt x="47" y="11"/>
                  <a:pt x="52" y="14"/>
                  <a:pt x="52" y="14"/>
                </a:cubicBezTo>
                <a:cubicBezTo>
                  <a:pt x="54" y="18"/>
                  <a:pt x="55" y="22"/>
                  <a:pt x="55" y="26"/>
                </a:cubicBezTo>
              </a:path>
            </a:pathLst>
          </a:custGeom>
          <a:noFill/>
          <a:ln w="47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809720" y="4124160"/>
            <a:ext cx="485640" cy="200160"/>
            <a:chOff x="1809720" y="4124160"/>
            <a:chExt cx="485640" cy="200160"/>
          </a:xfrm>
        </p:grpSpPr>
        <p:sp>
          <p:nvSpPr>
            <p:cNvPr id="179" name=""/>
            <p:cNvSpPr/>
            <p:nvPr/>
          </p:nvSpPr>
          <p:spPr>
            <a:xfrm>
              <a:off x="1809720" y="4124160"/>
              <a:ext cx="209520" cy="200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14480" y="4124160"/>
              <a:ext cx="380880" cy="200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295360" y="3600360"/>
            <a:ext cx="552600" cy="590760"/>
          </a:xfrm>
          <a:custGeom>
            <a:avLst/>
            <a:gdLst/>
            <a:ahLst/>
            <a:rect l="l" t="t" r="r" b="b"/>
            <a:pathLst>
              <a:path w="58" h="62">
                <a:moveTo>
                  <a:pt x="0" y="62"/>
                </a:moveTo>
                <a:cubicBezTo>
                  <a:pt x="10" y="60"/>
                  <a:pt x="16" y="52"/>
                  <a:pt x="24" y="48"/>
                </a:cubicBezTo>
                <a:cubicBezTo>
                  <a:pt x="25" y="44"/>
                  <a:pt x="26" y="44"/>
                  <a:pt x="28" y="42"/>
                </a:cubicBezTo>
                <a:cubicBezTo>
                  <a:pt x="30" y="40"/>
                  <a:pt x="33" y="38"/>
                  <a:pt x="33" y="38"/>
                </a:cubicBezTo>
                <a:cubicBezTo>
                  <a:pt x="34" y="34"/>
                  <a:pt x="35" y="34"/>
                  <a:pt x="37" y="32"/>
                </a:cubicBezTo>
                <a:cubicBezTo>
                  <a:pt x="38" y="31"/>
                  <a:pt x="40" y="29"/>
                  <a:pt x="40" y="29"/>
                </a:cubicBezTo>
                <a:cubicBezTo>
                  <a:pt x="41" y="26"/>
                  <a:pt x="43" y="22"/>
                  <a:pt x="46" y="21"/>
                </a:cubicBezTo>
                <a:cubicBezTo>
                  <a:pt x="47" y="17"/>
                  <a:pt x="49" y="13"/>
                  <a:pt x="51" y="13"/>
                </a:cubicBezTo>
                <a:cubicBezTo>
                  <a:pt x="54" y="6"/>
                  <a:pt x="52" y="8"/>
                  <a:pt x="55" y="6"/>
                </a:cubicBezTo>
                <a:cubicBezTo>
                  <a:pt x="56" y="4"/>
                  <a:pt x="57" y="3"/>
                  <a:pt x="58" y="0"/>
                </a:cubicBezTo>
              </a:path>
            </a:pathLst>
          </a:custGeom>
          <a:noFill/>
          <a:ln w="47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95360" y="3591000"/>
            <a:ext cx="619200" cy="685800"/>
          </a:xfrm>
          <a:custGeom>
            <a:avLst/>
            <a:gdLst/>
            <a:ahLst/>
            <a:rect l="l" t="t" r="r" b="b"/>
            <a:pathLst>
              <a:path w="65" h="72">
                <a:moveTo>
                  <a:pt x="0" y="72"/>
                </a:moveTo>
                <a:cubicBezTo>
                  <a:pt x="4" y="72"/>
                  <a:pt x="9" y="72"/>
                  <a:pt x="14" y="71"/>
                </a:cubicBezTo>
                <a:cubicBezTo>
                  <a:pt x="19" y="70"/>
                  <a:pt x="23" y="63"/>
                  <a:pt x="27" y="61"/>
                </a:cubicBezTo>
                <a:cubicBezTo>
                  <a:pt x="30" y="59"/>
                  <a:pt x="33" y="58"/>
                  <a:pt x="36" y="57"/>
                </a:cubicBezTo>
                <a:cubicBezTo>
                  <a:pt x="38" y="56"/>
                  <a:pt x="41" y="51"/>
                  <a:pt x="41" y="51"/>
                </a:cubicBezTo>
                <a:cubicBezTo>
                  <a:pt x="44" y="45"/>
                  <a:pt x="42" y="47"/>
                  <a:pt x="45" y="44"/>
                </a:cubicBezTo>
                <a:cubicBezTo>
                  <a:pt x="46" y="40"/>
                  <a:pt x="47" y="39"/>
                  <a:pt x="48" y="37"/>
                </a:cubicBezTo>
                <a:cubicBezTo>
                  <a:pt x="51" y="31"/>
                  <a:pt x="49" y="32"/>
                  <a:pt x="52" y="30"/>
                </a:cubicBezTo>
                <a:cubicBezTo>
                  <a:pt x="55" y="23"/>
                  <a:pt x="53" y="25"/>
                  <a:pt x="56" y="22"/>
                </a:cubicBezTo>
                <a:cubicBezTo>
                  <a:pt x="59" y="16"/>
                  <a:pt x="57" y="18"/>
                  <a:pt x="60" y="15"/>
                </a:cubicBezTo>
                <a:cubicBezTo>
                  <a:pt x="62" y="12"/>
                  <a:pt x="65" y="4"/>
                  <a:pt x="65" y="0"/>
                </a:cubicBezTo>
              </a:path>
            </a:pathLst>
          </a:custGeom>
          <a:noFill/>
          <a:ln w="47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400" y="3286080"/>
            <a:ext cx="571320" cy="209520"/>
          </a:xfrm>
          <a:custGeom>
            <a:avLst/>
            <a:gdLst/>
            <a:ahLst/>
            <a:rect l="l" t="t" r="r" b="b"/>
            <a:pathLst>
              <a:path w="360" h="132">
                <a:moveTo>
                  <a:pt x="12" y="0"/>
                </a:moveTo>
                <a:lnTo>
                  <a:pt x="0" y="36"/>
                </a:lnTo>
                <a:lnTo>
                  <a:pt x="348" y="132"/>
                </a:lnTo>
                <a:lnTo>
                  <a:pt x="360" y="96"/>
                </a:lnTo>
                <a:lnTo>
                  <a:pt x="12" y="0"/>
                </a:lnTo>
                <a:close/>
              </a:path>
            </a:pathLst>
          </a:custGeom>
          <a:solidFill>
            <a:srgbClr val="ff66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400" y="3505320"/>
            <a:ext cx="571320" cy="47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5400" y="3552840"/>
            <a:ext cx="571320" cy="209520"/>
          </a:xfrm>
          <a:custGeom>
            <a:avLst/>
            <a:gdLst/>
            <a:ahLst/>
            <a:rect l="l" t="t" r="r" b="b"/>
            <a:pathLst>
              <a:path w="360" h="132">
                <a:moveTo>
                  <a:pt x="0" y="96"/>
                </a:moveTo>
                <a:lnTo>
                  <a:pt x="12" y="132"/>
                </a:lnTo>
                <a:lnTo>
                  <a:pt x="360" y="36"/>
                </a:lnTo>
                <a:lnTo>
                  <a:pt x="348" y="0"/>
                </a:lnTo>
                <a:lnTo>
                  <a:pt x="0" y="96"/>
                </a:lnTo>
                <a:close/>
              </a:path>
            </a:pathLst>
          </a:custGeom>
          <a:solidFill>
            <a:srgbClr val="0000ff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505320"/>
            <a:ext cx="85680" cy="47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80" y="3267000"/>
            <a:ext cx="104760" cy="76320"/>
          </a:xfrm>
          <a:custGeom>
            <a:avLst/>
            <a:gdLst/>
            <a:ahLst/>
            <a:rect l="l" t="t" r="r" b="b"/>
            <a:pathLst>
              <a:path w="66" h="48">
                <a:moveTo>
                  <a:pt x="12" y="0"/>
                </a:moveTo>
                <a:lnTo>
                  <a:pt x="0" y="36"/>
                </a:lnTo>
                <a:lnTo>
                  <a:pt x="54" y="48"/>
                </a:lnTo>
                <a:lnTo>
                  <a:pt x="66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80" y="3705120"/>
            <a:ext cx="104760" cy="76320"/>
          </a:xfrm>
          <a:custGeom>
            <a:avLst/>
            <a:gdLst/>
            <a:ahLst/>
            <a:rect l="l" t="t" r="r" b="b"/>
            <a:pathLst>
              <a:path w="66" h="48">
                <a:moveTo>
                  <a:pt x="12" y="48"/>
                </a:moveTo>
                <a:lnTo>
                  <a:pt x="0" y="12"/>
                </a:lnTo>
                <a:lnTo>
                  <a:pt x="54" y="0"/>
                </a:lnTo>
                <a:lnTo>
                  <a:pt x="66" y="36"/>
                </a:lnTo>
                <a:lnTo>
                  <a:pt x="12" y="48"/>
                </a:lnTo>
                <a:close/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895480" y="4638600"/>
            <a:ext cx="4372200" cy="190440"/>
            <a:chOff x="2895480" y="4638600"/>
            <a:chExt cx="4372200" cy="190440"/>
          </a:xfrm>
        </p:grpSpPr>
        <p:grpSp>
          <p:nvGrpSpPr>
            <p:cNvPr id="190" name=""/>
            <p:cNvGrpSpPr/>
            <p:nvPr/>
          </p:nvGrpSpPr>
          <p:grpSpPr>
            <a:xfrm>
              <a:off x="2895480" y="4638600"/>
              <a:ext cx="2190960" cy="190440"/>
              <a:chOff x="2895480" y="4638600"/>
              <a:chExt cx="2190960" cy="19044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3990960" y="4638600"/>
                <a:ext cx="552600" cy="190440"/>
                <a:chOff x="3990960" y="4638600"/>
                <a:chExt cx="552600" cy="1904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3990960" y="463860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124160" y="4638600"/>
                  <a:ext cx="142920" cy="190440"/>
                </a:xfrm>
                <a:custGeom>
                  <a:avLst/>
                  <a:gdLst/>
                  <a:ahLst/>
                  <a:rect l="l" t="t" r="r" b="b"/>
                  <a:pathLst>
                    <a:path w="90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90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267080" y="463860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410000" y="463860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448080" y="4638600"/>
                <a:ext cx="542880" cy="190440"/>
                <a:chOff x="3448080" y="4638600"/>
                <a:chExt cx="542880" cy="1904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448080" y="463860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581280" y="463860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714840" y="463860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857760" y="463860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543560" y="4638600"/>
                <a:ext cx="542880" cy="190440"/>
                <a:chOff x="4543560" y="4638600"/>
                <a:chExt cx="542880" cy="1904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543560" y="463860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676760" y="463860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809960" y="463860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952880" y="463860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2895480" y="4638600"/>
                <a:ext cx="552600" cy="190440"/>
                <a:chOff x="2895480" y="4638600"/>
                <a:chExt cx="552600" cy="19044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2895480" y="463860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029040" y="4638600"/>
                  <a:ext cx="142920" cy="190440"/>
                </a:xfrm>
                <a:custGeom>
                  <a:avLst/>
                  <a:gdLst/>
                  <a:ahLst/>
                  <a:rect l="l" t="t" r="r" b="b"/>
                  <a:pathLst>
                    <a:path w="90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90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171960" y="463860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314880" y="463860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" name=""/>
            <p:cNvGrpSpPr/>
            <p:nvPr/>
          </p:nvGrpSpPr>
          <p:grpSpPr>
            <a:xfrm>
              <a:off x="5086440" y="4638600"/>
              <a:ext cx="2181240" cy="190440"/>
              <a:chOff x="5086440" y="4638600"/>
              <a:chExt cx="2181240" cy="19044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6181560" y="4638600"/>
                <a:ext cx="543240" cy="190440"/>
                <a:chOff x="6181560" y="4638600"/>
                <a:chExt cx="543240" cy="1904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6181560" y="463860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315120" y="463860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448320" y="463860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591240" y="463860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629320" y="4638600"/>
                <a:ext cx="552240" cy="190440"/>
                <a:chOff x="5629320" y="4638600"/>
                <a:chExt cx="552240" cy="1904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629320" y="463860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762520" y="4638600"/>
                  <a:ext cx="142920" cy="190440"/>
                </a:xfrm>
                <a:custGeom>
                  <a:avLst/>
                  <a:gdLst/>
                  <a:ahLst/>
                  <a:rect l="l" t="t" r="r" b="b"/>
                  <a:pathLst>
                    <a:path w="90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90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905440" y="463860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048360" y="463860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724800" y="4638600"/>
                <a:ext cx="542880" cy="190440"/>
                <a:chOff x="6724800" y="4638600"/>
                <a:chExt cx="542880" cy="1904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724800" y="463860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858000" y="463860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991200" y="463860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134120" y="463860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086440" y="4638600"/>
                <a:ext cx="542880" cy="190440"/>
                <a:chOff x="5086440" y="4638600"/>
                <a:chExt cx="542880" cy="1904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086440" y="463860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219640" y="463860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353200" y="4638600"/>
                  <a:ext cx="13320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495760" y="4638600"/>
                  <a:ext cx="133560" cy="190440"/>
                </a:xfrm>
                <a:custGeom>
                  <a:avLst/>
                  <a:gdLst/>
                  <a:ahLst/>
                  <a:rect l="l" t="t" r="r" b="b"/>
                  <a:pathLst>
                    <a:path w="84" h="120">
                      <a:moveTo>
                        <a:pt x="42" y="12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42" y="1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1781280" y="819000"/>
            <a:ext cx="9360" cy="2619360"/>
            <a:chOff x="1781280" y="819000"/>
            <a:chExt cx="9360" cy="2619360"/>
          </a:xfrm>
        </p:grpSpPr>
        <p:sp>
          <p:nvSpPr>
            <p:cNvPr id="233" name=""/>
            <p:cNvSpPr/>
            <p:nvPr/>
          </p:nvSpPr>
          <p:spPr>
            <a:xfrm>
              <a:off x="1781280" y="819000"/>
              <a:ext cx="9360" cy="3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81280" y="8762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81280" y="94284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81280" y="10098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81280" y="10764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81280" y="11430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81280" y="120960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81280" y="127620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81280" y="134316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81280" y="140976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81280" y="147636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81280" y="154296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81280" y="160956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81280" y="167652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81280" y="174312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81280" y="180972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81280" y="187632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81280" y="19432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81280" y="20098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81280" y="20764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81280" y="21430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81280" y="220968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81280" y="22766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81280" y="23432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81280" y="24098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81280" y="24764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81280" y="254304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1280" y="26100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81280" y="26766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81280" y="27432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81280" y="280980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81280" y="287640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81280" y="294336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81280" y="300996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81280" y="307656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81280" y="314316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81280" y="320976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81280" y="327672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81280" y="334332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81280" y="340992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267680" y="771480"/>
            <a:ext cx="9360" cy="1629000"/>
            <a:chOff x="7267680" y="771480"/>
            <a:chExt cx="9360" cy="1629000"/>
          </a:xfrm>
        </p:grpSpPr>
        <p:sp>
          <p:nvSpPr>
            <p:cNvPr id="274" name=""/>
            <p:cNvSpPr/>
            <p:nvPr/>
          </p:nvSpPr>
          <p:spPr>
            <a:xfrm>
              <a:off x="7267680" y="771480"/>
              <a:ext cx="9360" cy="3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67680" y="82872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67680" y="89532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67680" y="96192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67680" y="10288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67680" y="10954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67680" y="11620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67680" y="12286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67680" y="129528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67680" y="13622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67680" y="14288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67680" y="14954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67680" y="15620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67680" y="162864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67680" y="16956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67680" y="17622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67680" y="18288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67680" y="189540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67680" y="196200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67680" y="202896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67680" y="209556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67680" y="216216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67680" y="222876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67680" y="229536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67680" y="2362320"/>
              <a:ext cx="9360" cy="3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781280" y="971640"/>
            <a:ext cx="1904760" cy="104760"/>
            <a:chOff x="1781280" y="971640"/>
            <a:chExt cx="1904760" cy="104760"/>
          </a:xfrm>
        </p:grpSpPr>
        <p:sp>
          <p:nvSpPr>
            <p:cNvPr id="300" name=""/>
            <p:cNvSpPr/>
            <p:nvPr/>
          </p:nvSpPr>
          <p:spPr>
            <a:xfrm flipH="1">
              <a:off x="1847880" y="1019160"/>
              <a:ext cx="183816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81280" y="97164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0"/>
                  </a:moveTo>
                  <a:lnTo>
                    <a:pt x="0" y="36"/>
                  </a:lnTo>
                  <a:lnTo>
                    <a:pt x="60" y="6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343480" y="971640"/>
            <a:ext cx="1924200" cy="104760"/>
            <a:chOff x="5343480" y="971640"/>
            <a:chExt cx="1924200" cy="104760"/>
          </a:xfrm>
        </p:grpSpPr>
        <p:sp>
          <p:nvSpPr>
            <p:cNvPr id="303" name=""/>
            <p:cNvSpPr/>
            <p:nvPr/>
          </p:nvSpPr>
          <p:spPr>
            <a:xfrm>
              <a:off x="5343480" y="1019160"/>
              <a:ext cx="18385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62920" y="97164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66"/>
                  </a:moveTo>
                  <a:lnTo>
                    <a:pt x="66" y="36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4200480" y="923760"/>
            <a:ext cx="98100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57440" y="952560"/>
            <a:ext cx="54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63.9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m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305080" y="1133640"/>
            <a:ext cx="9360" cy="1238040"/>
            <a:chOff x="2305080" y="1133640"/>
            <a:chExt cx="9360" cy="1238040"/>
          </a:xfrm>
        </p:grpSpPr>
        <p:sp>
          <p:nvSpPr>
            <p:cNvPr id="308" name=""/>
            <p:cNvSpPr/>
            <p:nvPr/>
          </p:nvSpPr>
          <p:spPr>
            <a:xfrm>
              <a:off x="2305080" y="1133640"/>
              <a:ext cx="9360" cy="378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05080" y="119052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05080" y="12574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05080" y="13240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05080" y="13906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05080" y="14572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05080" y="152388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05080" y="15908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05080" y="16574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05080" y="17240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05080" y="17906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05080" y="185724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305080" y="19242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05080" y="19908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05080" y="20574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05080" y="212400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05080" y="219060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05080" y="225756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305080" y="232416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314440" y="1390680"/>
            <a:ext cx="1761840" cy="104760"/>
            <a:chOff x="2314440" y="1390680"/>
            <a:chExt cx="1761840" cy="104760"/>
          </a:xfrm>
        </p:grpSpPr>
        <p:sp>
          <p:nvSpPr>
            <p:cNvPr id="328" name=""/>
            <p:cNvSpPr/>
            <p:nvPr/>
          </p:nvSpPr>
          <p:spPr>
            <a:xfrm flipH="1">
              <a:off x="2381040" y="1438200"/>
              <a:ext cx="16952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14440" y="1390680"/>
              <a:ext cx="9540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0"/>
                  </a:moveTo>
                  <a:lnTo>
                    <a:pt x="0" y="36"/>
                  </a:lnTo>
                  <a:lnTo>
                    <a:pt x="60" y="6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543640" y="1380960"/>
            <a:ext cx="1704960" cy="105120"/>
            <a:chOff x="5543640" y="1380960"/>
            <a:chExt cx="1704960" cy="105120"/>
          </a:xfrm>
        </p:grpSpPr>
        <p:sp>
          <p:nvSpPr>
            <p:cNvPr id="331" name=""/>
            <p:cNvSpPr/>
            <p:nvPr/>
          </p:nvSpPr>
          <p:spPr>
            <a:xfrm>
              <a:off x="5543640" y="1428840"/>
              <a:ext cx="162864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53200" y="1380960"/>
              <a:ext cx="95400" cy="10512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295880" y="1352520"/>
            <a:ext cx="10764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80240" y="1380960"/>
            <a:ext cx="1334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60.0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mm(metal cas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962760" y="2495520"/>
            <a:ext cx="819000" cy="9720"/>
            <a:chOff x="6962760" y="2495520"/>
            <a:chExt cx="819000" cy="9720"/>
          </a:xfrm>
        </p:grpSpPr>
        <p:sp>
          <p:nvSpPr>
            <p:cNvPr id="336" name=""/>
            <p:cNvSpPr/>
            <p:nvPr/>
          </p:nvSpPr>
          <p:spPr>
            <a:xfrm>
              <a:off x="7743960" y="2495520"/>
              <a:ext cx="3780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77000" y="249552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10400" y="249552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43800" y="249552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77200" y="249552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10600" y="2495520"/>
              <a:ext cx="3780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43640" y="249552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77040" y="249552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10440" y="249552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143840" y="249552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077240" y="2495520"/>
              <a:ext cx="3780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10280" y="249552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62760" y="249552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962760" y="4467240"/>
            <a:ext cx="819000" cy="9360"/>
            <a:chOff x="6962760" y="4467240"/>
            <a:chExt cx="819000" cy="9360"/>
          </a:xfrm>
        </p:grpSpPr>
        <p:sp>
          <p:nvSpPr>
            <p:cNvPr id="350" name=""/>
            <p:cNvSpPr/>
            <p:nvPr/>
          </p:nvSpPr>
          <p:spPr>
            <a:xfrm>
              <a:off x="7743960" y="4467240"/>
              <a:ext cx="3780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77000" y="446724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10400" y="446724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43800" y="446724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77200" y="446724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10600" y="4467240"/>
              <a:ext cx="3780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43640" y="446724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277040" y="446724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10440" y="446724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143840" y="446724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77240" y="4467240"/>
              <a:ext cx="3780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10280" y="446724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62760" y="446724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7153200" y="2400480"/>
            <a:ext cx="1171800" cy="9360"/>
            <a:chOff x="7153200" y="2400480"/>
            <a:chExt cx="1171800" cy="9360"/>
          </a:xfrm>
        </p:grpSpPr>
        <p:sp>
          <p:nvSpPr>
            <p:cNvPr id="364" name=""/>
            <p:cNvSpPr/>
            <p:nvPr/>
          </p:nvSpPr>
          <p:spPr>
            <a:xfrm>
              <a:off x="8286840" y="240048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220240" y="2400480"/>
              <a:ext cx="3780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153280" y="240048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086680" y="240048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020080" y="240048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53480" y="240048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886880" y="2400480"/>
              <a:ext cx="3780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819920" y="240048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53320" y="240048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86720" y="240048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20120" y="240048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3160" y="240048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86560" y="240048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419960" y="240048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353360" y="240048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86760" y="2400480"/>
              <a:ext cx="3780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19800" y="240048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53200" y="240048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7143840" y="4562640"/>
            <a:ext cx="1162080" cy="9360"/>
            <a:chOff x="7143840" y="4562640"/>
            <a:chExt cx="1162080" cy="9360"/>
          </a:xfrm>
        </p:grpSpPr>
        <p:sp>
          <p:nvSpPr>
            <p:cNvPr id="383" name=""/>
            <p:cNvSpPr/>
            <p:nvPr/>
          </p:nvSpPr>
          <p:spPr>
            <a:xfrm>
              <a:off x="8267760" y="456264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201160" y="4562640"/>
              <a:ext cx="3780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134200" y="456264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067600" y="456264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001000" y="456264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34400" y="456264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67800" y="4562640"/>
              <a:ext cx="3780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00840" y="456264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34240" y="456264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67640" y="456264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01040" y="456264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34440" y="4562640"/>
              <a:ext cx="3780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67480" y="456264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400880" y="456264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34280" y="456264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67680" y="456264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01080" y="4562640"/>
              <a:ext cx="3780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43840" y="4562640"/>
              <a:ext cx="28440" cy="936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18" y="6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077240" y="2133720"/>
            <a:ext cx="1838160" cy="9360"/>
            <a:chOff x="7077240" y="2133720"/>
            <a:chExt cx="1838160" cy="9360"/>
          </a:xfrm>
        </p:grpSpPr>
        <p:sp>
          <p:nvSpPr>
            <p:cNvPr id="402" name=""/>
            <p:cNvSpPr/>
            <p:nvPr/>
          </p:nvSpPr>
          <p:spPr>
            <a:xfrm>
              <a:off x="8877240" y="213372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810640" y="213372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744040" y="213372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677440" y="2133720"/>
              <a:ext cx="3780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610480" y="213372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543880" y="213372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477280" y="213372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410680" y="213372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344080" y="2133720"/>
              <a:ext cx="3780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277120" y="213372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10520" y="213372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43920" y="213372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77320" y="213372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10360" y="213372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43760" y="213372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77160" y="213372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10560" y="213372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43960" y="2133720"/>
              <a:ext cx="3780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77000" y="213372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10400" y="213372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43800" y="213372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477200" y="213372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10600" y="2133720"/>
              <a:ext cx="3780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43640" y="213372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277040" y="213372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10440" y="213372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43840" y="213372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77240" y="2133720"/>
              <a:ext cx="3780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934320" y="4829040"/>
            <a:ext cx="1838160" cy="9720"/>
            <a:chOff x="6934320" y="4829040"/>
            <a:chExt cx="1838160" cy="9720"/>
          </a:xfrm>
        </p:grpSpPr>
        <p:sp>
          <p:nvSpPr>
            <p:cNvPr id="431" name=""/>
            <p:cNvSpPr/>
            <p:nvPr/>
          </p:nvSpPr>
          <p:spPr>
            <a:xfrm>
              <a:off x="8734320" y="482904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667720" y="482904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01120" y="482904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534520" y="482904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67560" y="482904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00960" y="482904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334360" y="482904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267760" y="482904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201160" y="4829040"/>
              <a:ext cx="3780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134200" y="482904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67600" y="482904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01000" y="482904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934400" y="482904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867800" y="4829040"/>
              <a:ext cx="3780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800840" y="482904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34240" y="482904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67640" y="482904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01040" y="482904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34440" y="4829040"/>
              <a:ext cx="3780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7480" y="482904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00880" y="482904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34280" y="482904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67680" y="482904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01080" y="4829040"/>
              <a:ext cx="3780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34120" y="482904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67520" y="482904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000920" y="482904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34320" y="4829040"/>
              <a:ext cx="3816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7439040" y="3876840"/>
            <a:ext cx="104760" cy="599760"/>
            <a:chOff x="7439040" y="3876840"/>
            <a:chExt cx="104760" cy="599760"/>
          </a:xfrm>
        </p:grpSpPr>
        <p:sp>
          <p:nvSpPr>
            <p:cNvPr id="460" name=""/>
            <p:cNvSpPr/>
            <p:nvPr/>
          </p:nvSpPr>
          <p:spPr>
            <a:xfrm>
              <a:off x="7486560" y="3876840"/>
              <a:ext cx="1800" cy="514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39040" y="437184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0"/>
                  </a:moveTo>
                  <a:lnTo>
                    <a:pt x="36" y="66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7953480" y="4010040"/>
            <a:ext cx="104760" cy="561960"/>
            <a:chOff x="7953480" y="4010040"/>
            <a:chExt cx="104760" cy="561960"/>
          </a:xfrm>
        </p:grpSpPr>
        <p:sp>
          <p:nvSpPr>
            <p:cNvPr id="463" name=""/>
            <p:cNvSpPr/>
            <p:nvPr/>
          </p:nvSpPr>
          <p:spPr>
            <a:xfrm>
              <a:off x="8001000" y="4010040"/>
              <a:ext cx="1440" cy="485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53480" y="447660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0" y="0"/>
                  </a:moveTo>
                  <a:lnTo>
                    <a:pt x="36" y="60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8591400" y="3876840"/>
            <a:ext cx="104760" cy="961920"/>
            <a:chOff x="8591400" y="3876840"/>
            <a:chExt cx="104760" cy="961920"/>
          </a:xfrm>
        </p:grpSpPr>
        <p:sp>
          <p:nvSpPr>
            <p:cNvPr id="466" name=""/>
            <p:cNvSpPr/>
            <p:nvPr/>
          </p:nvSpPr>
          <p:spPr>
            <a:xfrm>
              <a:off x="8639280" y="3876840"/>
              <a:ext cx="1440" cy="8762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591400" y="473400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0"/>
                  </a:moveTo>
                  <a:lnTo>
                    <a:pt x="30" y="66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7439040" y="2514600"/>
            <a:ext cx="104760" cy="600120"/>
            <a:chOff x="7439040" y="2514600"/>
            <a:chExt cx="104760" cy="600120"/>
          </a:xfrm>
        </p:grpSpPr>
        <p:sp>
          <p:nvSpPr>
            <p:cNvPr id="469" name=""/>
            <p:cNvSpPr/>
            <p:nvPr/>
          </p:nvSpPr>
          <p:spPr>
            <a:xfrm flipV="1">
              <a:off x="7486560" y="2581200"/>
              <a:ext cx="1800" cy="5335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439040" y="251460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60"/>
                  </a:moveTo>
                  <a:lnTo>
                    <a:pt x="36" y="0"/>
                  </a:lnTo>
                  <a:lnTo>
                    <a:pt x="0" y="60"/>
                  </a:lnTo>
                  <a:lnTo>
                    <a:pt x="6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7943760" y="2419200"/>
            <a:ext cx="104760" cy="581040"/>
            <a:chOff x="7943760" y="2419200"/>
            <a:chExt cx="104760" cy="581040"/>
          </a:xfrm>
        </p:grpSpPr>
        <p:sp>
          <p:nvSpPr>
            <p:cNvPr id="472" name=""/>
            <p:cNvSpPr/>
            <p:nvPr/>
          </p:nvSpPr>
          <p:spPr>
            <a:xfrm flipV="1">
              <a:off x="7991640" y="2486160"/>
              <a:ext cx="1440" cy="514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43760" y="241920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60"/>
                  </a:moveTo>
                  <a:lnTo>
                    <a:pt x="30" y="0"/>
                  </a:lnTo>
                  <a:lnTo>
                    <a:pt x="0" y="60"/>
                  </a:lnTo>
                  <a:lnTo>
                    <a:pt x="6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8582040" y="2133720"/>
            <a:ext cx="104760" cy="981000"/>
            <a:chOff x="8582040" y="2133720"/>
            <a:chExt cx="104760" cy="981000"/>
          </a:xfrm>
        </p:grpSpPr>
        <p:sp>
          <p:nvSpPr>
            <p:cNvPr id="475" name=""/>
            <p:cNvSpPr/>
            <p:nvPr/>
          </p:nvSpPr>
          <p:spPr>
            <a:xfrm flipV="1">
              <a:off x="8629560" y="2200320"/>
              <a:ext cx="1800" cy="9144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582040" y="213372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60"/>
                  </a:moveTo>
                  <a:lnTo>
                    <a:pt x="36" y="0"/>
                  </a:lnTo>
                  <a:lnTo>
                    <a:pt x="0" y="60"/>
                  </a:lnTo>
                  <a:lnTo>
                    <a:pt x="6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7400880" y="3219480"/>
            <a:ext cx="399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7239960" y="3353040"/>
            <a:ext cx="54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25.0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m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858080" y="3057480"/>
            <a:ext cx="3999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7697160" y="3419280"/>
            <a:ext cx="54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26.0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m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86640" y="3257640"/>
            <a:ext cx="4003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16200000">
            <a:off x="8325720" y="3419280"/>
            <a:ext cx="54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29.8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m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267680" y="3809880"/>
            <a:ext cx="9360" cy="1771920"/>
            <a:chOff x="7267680" y="3809880"/>
            <a:chExt cx="9360" cy="1771920"/>
          </a:xfrm>
        </p:grpSpPr>
        <p:sp>
          <p:nvSpPr>
            <p:cNvPr id="484" name=""/>
            <p:cNvSpPr/>
            <p:nvPr/>
          </p:nvSpPr>
          <p:spPr>
            <a:xfrm>
              <a:off x="7267680" y="3809880"/>
              <a:ext cx="9360" cy="3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267680" y="386712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67680" y="393372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267680" y="40006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267680" y="40672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67680" y="41338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267680" y="42004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267680" y="426708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267680" y="43340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67680" y="44006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67680" y="44672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67680" y="45338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67680" y="460044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267680" y="46674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67680" y="47340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267680" y="48006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67680" y="486720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67680" y="493380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67680" y="500076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7680" y="506736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67680" y="513396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67680" y="520056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67680" y="526716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267680" y="533412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267680" y="540072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267680" y="546732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267680" y="553392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7172280" y="3828960"/>
            <a:ext cx="9720" cy="1771920"/>
            <a:chOff x="7172280" y="3828960"/>
            <a:chExt cx="9720" cy="1771920"/>
          </a:xfrm>
        </p:grpSpPr>
        <p:sp>
          <p:nvSpPr>
            <p:cNvPr id="512" name=""/>
            <p:cNvSpPr/>
            <p:nvPr/>
          </p:nvSpPr>
          <p:spPr>
            <a:xfrm>
              <a:off x="7172280" y="3828960"/>
              <a:ext cx="9720" cy="3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72280" y="388620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172280" y="3952800"/>
              <a:ext cx="972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172280" y="4019400"/>
              <a:ext cx="972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172280" y="408636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72280" y="415296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72280" y="421956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172280" y="4286160"/>
              <a:ext cx="972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172280" y="4352760"/>
              <a:ext cx="972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72280" y="441972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172280" y="448632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72280" y="455292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72280" y="4619520"/>
              <a:ext cx="972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72280" y="468648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172280" y="475308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172280" y="481968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172280" y="488628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72280" y="4952880"/>
              <a:ext cx="972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172280" y="501984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72280" y="508644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72280" y="515304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72280" y="521964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172280" y="5286240"/>
              <a:ext cx="972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72280" y="535320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72280" y="541980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72280" y="548640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72280" y="5553000"/>
              <a:ext cx="972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7162920" y="5486400"/>
            <a:ext cx="114120" cy="144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6962760" y="5438880"/>
            <a:ext cx="209520" cy="104760"/>
            <a:chOff x="6962760" y="5438880"/>
            <a:chExt cx="209520" cy="104760"/>
          </a:xfrm>
        </p:grpSpPr>
        <p:sp>
          <p:nvSpPr>
            <p:cNvPr id="541" name=""/>
            <p:cNvSpPr/>
            <p:nvPr/>
          </p:nvSpPr>
          <p:spPr>
            <a:xfrm>
              <a:off x="6962760" y="5486400"/>
              <a:ext cx="12384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67520" y="543888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66"/>
                  </a:moveTo>
                  <a:lnTo>
                    <a:pt x="66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7267680" y="5438880"/>
            <a:ext cx="209160" cy="104760"/>
            <a:chOff x="7267680" y="5438880"/>
            <a:chExt cx="209160" cy="104760"/>
          </a:xfrm>
        </p:grpSpPr>
        <p:sp>
          <p:nvSpPr>
            <p:cNvPr id="544" name=""/>
            <p:cNvSpPr/>
            <p:nvPr/>
          </p:nvSpPr>
          <p:spPr>
            <a:xfrm flipH="1">
              <a:off x="7343280" y="5486400"/>
              <a:ext cx="13356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67680" y="543888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0"/>
                  </a:moveTo>
                  <a:lnTo>
                    <a:pt x="0" y="30"/>
                  </a:lnTo>
                  <a:lnTo>
                    <a:pt x="66" y="6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6505560" y="5638680"/>
            <a:ext cx="1571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102800" y="5667480"/>
            <a:ext cx="46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1.0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m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6772320" y="4200480"/>
            <a:ext cx="9360" cy="1095480"/>
            <a:chOff x="6772320" y="4200480"/>
            <a:chExt cx="9360" cy="1095480"/>
          </a:xfrm>
        </p:grpSpPr>
        <p:sp>
          <p:nvSpPr>
            <p:cNvPr id="549" name=""/>
            <p:cNvSpPr/>
            <p:nvPr/>
          </p:nvSpPr>
          <p:spPr>
            <a:xfrm>
              <a:off x="6772320" y="4200480"/>
              <a:ext cx="9360" cy="3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772320" y="425772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72320" y="432432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772320" y="439092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72320" y="44578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72320" y="45244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72320" y="45910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2320" y="46576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772320" y="472428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772320" y="47912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772320" y="48578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772320" y="49244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72320" y="49910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772320" y="505764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72320" y="51246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72320" y="51912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72320" y="5257800"/>
              <a:ext cx="9360" cy="3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5000760" y="4200480"/>
            <a:ext cx="9360" cy="1095480"/>
            <a:chOff x="5000760" y="4200480"/>
            <a:chExt cx="9360" cy="1095480"/>
          </a:xfrm>
        </p:grpSpPr>
        <p:sp>
          <p:nvSpPr>
            <p:cNvPr id="567" name=""/>
            <p:cNvSpPr/>
            <p:nvPr/>
          </p:nvSpPr>
          <p:spPr>
            <a:xfrm>
              <a:off x="5000760" y="4200480"/>
              <a:ext cx="9360" cy="3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000760" y="425772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000760" y="432432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000760" y="439092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00760" y="44578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000760" y="45244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00760" y="45910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00760" y="46576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00760" y="472428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00760" y="47912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00760" y="48578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00760" y="49244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00760" y="49910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00760" y="505764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00760" y="51246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00760" y="51912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00760" y="5257800"/>
              <a:ext cx="9360" cy="3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000760" y="5019840"/>
            <a:ext cx="1790640" cy="104760"/>
            <a:chOff x="5000760" y="5019840"/>
            <a:chExt cx="1790640" cy="104760"/>
          </a:xfrm>
        </p:grpSpPr>
        <p:sp>
          <p:nvSpPr>
            <p:cNvPr id="585" name=""/>
            <p:cNvSpPr/>
            <p:nvPr/>
          </p:nvSpPr>
          <p:spPr>
            <a:xfrm>
              <a:off x="5076720" y="5067360"/>
              <a:ext cx="162900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00760" y="501984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0"/>
                  </a:moveTo>
                  <a:lnTo>
                    <a:pt x="0" y="30"/>
                  </a:lnTo>
                  <a:lnTo>
                    <a:pt x="66" y="6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686640" y="501984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66"/>
                  </a:moveTo>
                  <a:lnTo>
                    <a:pt x="66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5457960" y="5143680"/>
            <a:ext cx="109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776560" y="5172120"/>
            <a:ext cx="54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19.2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m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4438800" y="4286160"/>
            <a:ext cx="409320" cy="247680"/>
            <a:chOff x="4438800" y="4286160"/>
            <a:chExt cx="409320" cy="247680"/>
          </a:xfrm>
        </p:grpSpPr>
        <p:sp>
          <p:nvSpPr>
            <p:cNvPr id="591" name=""/>
            <p:cNvSpPr/>
            <p:nvPr/>
          </p:nvSpPr>
          <p:spPr>
            <a:xfrm>
              <a:off x="4438800" y="4286160"/>
              <a:ext cx="333360" cy="2095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34000" y="4438800"/>
              <a:ext cx="114120" cy="9504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0" y="54"/>
                  </a:moveTo>
                  <a:lnTo>
                    <a:pt x="72" y="60"/>
                  </a:lnTo>
                  <a:lnTo>
                    <a:pt x="3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3276720" y="4067280"/>
            <a:ext cx="128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731040" y="4095720"/>
            <a:ext cx="46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0.6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m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43720" y="4267080"/>
            <a:ext cx="1448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Thickness of Coil Ca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57640" y="2552760"/>
            <a:ext cx="1380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759840" y="2581200"/>
            <a:ext cx="46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0.5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m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03760" y="2752560"/>
            <a:ext cx="1559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Thickness of Shield r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476600" y="2552760"/>
            <a:ext cx="543240" cy="162000"/>
            <a:chOff x="4476600" y="2552760"/>
            <a:chExt cx="543240" cy="162000"/>
          </a:xfrm>
        </p:grpSpPr>
        <p:sp>
          <p:nvSpPr>
            <p:cNvPr id="600" name=""/>
            <p:cNvSpPr/>
            <p:nvPr/>
          </p:nvSpPr>
          <p:spPr>
            <a:xfrm flipV="1">
              <a:off x="4476600" y="2600280"/>
              <a:ext cx="457200" cy="1144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905360" y="2552760"/>
              <a:ext cx="114480" cy="104760"/>
            </a:xfrm>
            <a:custGeom>
              <a:avLst/>
              <a:gdLst/>
              <a:ahLst/>
              <a:rect l="l" t="t" r="r" b="b"/>
              <a:pathLst>
                <a:path w="72" h="66">
                  <a:moveTo>
                    <a:pt x="12" y="66"/>
                  </a:moveTo>
                  <a:lnTo>
                    <a:pt x="72" y="24"/>
                  </a:lnTo>
                  <a:lnTo>
                    <a:pt x="0" y="0"/>
                  </a:lnTo>
                  <a:lnTo>
                    <a:pt x="12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7010280" y="1647720"/>
            <a:ext cx="9720" cy="971640"/>
            <a:chOff x="7010280" y="1647720"/>
            <a:chExt cx="9720" cy="971640"/>
          </a:xfrm>
        </p:grpSpPr>
        <p:sp>
          <p:nvSpPr>
            <p:cNvPr id="603" name=""/>
            <p:cNvSpPr/>
            <p:nvPr/>
          </p:nvSpPr>
          <p:spPr>
            <a:xfrm>
              <a:off x="7010280" y="1647720"/>
              <a:ext cx="9720" cy="3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10280" y="170496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10280" y="1771560"/>
              <a:ext cx="972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010280" y="1838160"/>
              <a:ext cx="972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010280" y="190512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010280" y="197172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010280" y="203832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010280" y="2104920"/>
              <a:ext cx="972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10280" y="217188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010280" y="223848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010280" y="230508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010280" y="237168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10280" y="2438280"/>
              <a:ext cx="972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10280" y="250524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10280" y="2571840"/>
              <a:ext cx="972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6772320" y="1657440"/>
            <a:ext cx="9360" cy="971640"/>
            <a:chOff x="6772320" y="1657440"/>
            <a:chExt cx="9360" cy="971640"/>
          </a:xfrm>
        </p:grpSpPr>
        <p:sp>
          <p:nvSpPr>
            <p:cNvPr id="619" name=""/>
            <p:cNvSpPr/>
            <p:nvPr/>
          </p:nvSpPr>
          <p:spPr>
            <a:xfrm>
              <a:off x="6772320" y="1657440"/>
              <a:ext cx="9360" cy="3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772320" y="17146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772320" y="17812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72320" y="18478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772320" y="19144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772320" y="198108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772320" y="20480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772320" y="21146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72320" y="21812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772320" y="22478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72320" y="231444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72320" y="23814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772320" y="24480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72320" y="25146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772320" y="258120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772320" y="1714680"/>
            <a:ext cx="266760" cy="104760"/>
            <a:chOff x="6772320" y="1714680"/>
            <a:chExt cx="266760" cy="104760"/>
          </a:xfrm>
        </p:grpSpPr>
        <p:sp>
          <p:nvSpPr>
            <p:cNvPr id="635" name=""/>
            <p:cNvSpPr/>
            <p:nvPr/>
          </p:nvSpPr>
          <p:spPr>
            <a:xfrm>
              <a:off x="6838920" y="1762200"/>
              <a:ext cx="114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772320" y="171468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0"/>
                  </a:moveTo>
                  <a:lnTo>
                    <a:pt x="0" y="36"/>
                  </a:lnTo>
                  <a:lnTo>
                    <a:pt x="60" y="6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934320" y="171468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66"/>
                  </a:moveTo>
                  <a:lnTo>
                    <a:pt x="66" y="36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5467320" y="1628640"/>
            <a:ext cx="14097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747400" y="1523880"/>
            <a:ext cx="46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3.3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m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847400" y="1676520"/>
            <a:ext cx="1965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Gap from PCB and Shield r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962520" y="3600360"/>
            <a:ext cx="79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138560" y="3629160"/>
            <a:ext cx="54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1.05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m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752640" y="3800520"/>
            <a:ext cx="954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PCB thick n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276720" y="308628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433680" y="3114720"/>
            <a:ext cx="54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42.0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m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075840" y="3286080"/>
            <a:ext cx="936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Length of PC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4724280" y="3657600"/>
            <a:ext cx="228240" cy="104400"/>
            <a:chOff x="4724280" y="3657600"/>
            <a:chExt cx="228240" cy="104400"/>
          </a:xfrm>
        </p:grpSpPr>
        <p:sp>
          <p:nvSpPr>
            <p:cNvPr id="648" name=""/>
            <p:cNvSpPr/>
            <p:nvPr/>
          </p:nvSpPr>
          <p:spPr>
            <a:xfrm flipV="1">
              <a:off x="4724280" y="3695400"/>
              <a:ext cx="169200" cy="666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59640" y="3657600"/>
              <a:ext cx="9288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8" y="60"/>
                  </a:moveTo>
                  <a:lnTo>
                    <a:pt x="66" y="12"/>
                  </a:lnTo>
                  <a:lnTo>
                    <a:pt x="0" y="0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24280" y="3809880"/>
            <a:ext cx="2276280" cy="209160"/>
            <a:chOff x="4724280" y="3809880"/>
            <a:chExt cx="2276280" cy="209160"/>
          </a:xfrm>
        </p:grpSpPr>
        <p:sp>
          <p:nvSpPr>
            <p:cNvPr id="651" name=""/>
            <p:cNvSpPr/>
            <p:nvPr/>
          </p:nvSpPr>
          <p:spPr>
            <a:xfrm>
              <a:off x="4724280" y="3809880"/>
              <a:ext cx="2195280" cy="1692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01560" y="3944880"/>
              <a:ext cx="99000" cy="741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66"/>
                  </a:moveTo>
                  <a:lnTo>
                    <a:pt x="66" y="42"/>
                  </a:lnTo>
                  <a:lnTo>
                    <a:pt x="6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895320" y="3686040"/>
            <a:ext cx="581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53640" y="3714840"/>
            <a:ext cx="445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φ6m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97400" y="3886200"/>
            <a:ext cx="610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Cable d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019840" y="4191120"/>
            <a:ext cx="9360" cy="1094760"/>
            <a:chOff x="5019840" y="4191120"/>
            <a:chExt cx="9360" cy="1094760"/>
          </a:xfrm>
        </p:grpSpPr>
        <p:sp>
          <p:nvSpPr>
            <p:cNvPr id="657" name=""/>
            <p:cNvSpPr/>
            <p:nvPr/>
          </p:nvSpPr>
          <p:spPr>
            <a:xfrm>
              <a:off x="5019840" y="4191120"/>
              <a:ext cx="9360" cy="378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19840" y="4248000"/>
              <a:ext cx="9360" cy="471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19840" y="4314600"/>
              <a:ext cx="9360" cy="471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19840" y="43812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019840" y="4448160"/>
              <a:ext cx="9360" cy="471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9840" y="4514760"/>
              <a:ext cx="9360" cy="471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9840" y="4581360"/>
              <a:ext cx="9360" cy="471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019840" y="4647960"/>
              <a:ext cx="9360" cy="471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19840" y="471456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19840" y="4781520"/>
              <a:ext cx="9360" cy="471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19840" y="4848120"/>
              <a:ext cx="9360" cy="471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19840" y="4914720"/>
              <a:ext cx="9360" cy="471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19840" y="4981320"/>
              <a:ext cx="9360" cy="471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19840" y="504792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9840" y="5114880"/>
              <a:ext cx="9360" cy="471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019840" y="5181480"/>
              <a:ext cx="9360" cy="471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019840" y="5248080"/>
              <a:ext cx="9360" cy="378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7162920" y="3809880"/>
            <a:ext cx="9360" cy="1771920"/>
            <a:chOff x="7162920" y="3809880"/>
            <a:chExt cx="9360" cy="1771920"/>
          </a:xfrm>
        </p:grpSpPr>
        <p:sp>
          <p:nvSpPr>
            <p:cNvPr id="675" name=""/>
            <p:cNvSpPr/>
            <p:nvPr/>
          </p:nvSpPr>
          <p:spPr>
            <a:xfrm>
              <a:off x="7162920" y="3809880"/>
              <a:ext cx="9360" cy="3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62920" y="386712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62920" y="393372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62920" y="40006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162920" y="40672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62920" y="41338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62920" y="420048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62920" y="426708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62920" y="43340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62920" y="44006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62920" y="44672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62920" y="453384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62920" y="460044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162920" y="46674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62920" y="47340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62920" y="480060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62920" y="486720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62920" y="493380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62920" y="500076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62920" y="506736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162920" y="513396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62920" y="520056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62920" y="526716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62920" y="533412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162920" y="540072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162920" y="546732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62920" y="5533920"/>
              <a:ext cx="936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1171440" y="1249200"/>
            <a:ext cx="1791000" cy="170496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503280" y="291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oating at inside of head c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511440" y="1100160"/>
            <a:ext cx="43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der plating = Cu + 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11440" y="1457280"/>
            <a:ext cx="43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face plating = 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903920" y="1828800"/>
            <a:ext cx="569880" cy="582480"/>
          </a:xfrm>
          <a:prstGeom prst="downArrow">
            <a:avLst>
              <a:gd name="adj1" fmla="val 50000"/>
              <a:gd name="adj2" fmla="val 2555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551400" y="2463840"/>
            <a:ext cx="4930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ifying the magnetic flu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edded mounting in ferrous me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565440" y="329868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technology as special ring in E2A and E2A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890960" y="3738600"/>
            <a:ext cx="569880" cy="582480"/>
          </a:xfrm>
          <a:prstGeom prst="downArrow">
            <a:avLst>
              <a:gd name="adj1" fmla="val 50000"/>
              <a:gd name="adj2" fmla="val 2555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52840" y="441324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remely expensive solution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552840" y="510228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cost competitive with existing technolog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HA0019E</cp:lastModifiedBy>
  <dcterms:modified xsi:type="dcterms:W3CDTF">2005-07-01T12:27:28Z</dcterms:modified>
  <cp:revision>66</cp:revision>
  <dc:subject/>
  <dc:title>PowerPoint Presentation</dc:title>
</cp:coreProperties>
</file>