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CE0B-7D2E-4E0C-B26D-58B5D179D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9ED5-218D-4266-9695-CAF94682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61CA-482C-47C2-B2D9-F6EB49BA7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35B7-CE3C-4E7D-A6E6-8DB0BAA74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99C7-E2EF-407F-8A05-95FE62A3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22DA-2CD7-4F26-8F39-80245B34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F570-8DED-4335-989C-2ADA11AC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E5E6-7DC9-4884-A8A7-B7A7EABF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FD75-D649-4D8A-BE9C-82D7BD46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EF98-412D-4781-B9DF-4B0AE1DE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94A8-4290-4D29-A804-86AA478F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F247-8B51-4ECD-8D42-85FB7EB8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E446-4B45-48C1-BF7A-77F21B217B6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bility indication LED on E2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2417760"/>
            <a:ext cx="68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2A can have stability indication LED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66960" y="3979800"/>
            <a:ext cx="41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color LED (red, yel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04800" y="4529160"/>
            <a:ext cx="763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: shows Target is in not recommended 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04800" y="5162400"/>
            <a:ext cx="763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llow: shows Target is in stable operation 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17600" y="2835360"/>
            <a:ext cx="681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DC3W: Optional (by R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05000" y="3159000"/>
            <a:ext cx="681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DC2W:  initial adop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95600" y="5943600"/>
            <a:ext cx="681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mmended position of target = 80% of sensing d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r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65200" y="941400"/>
            <a:ext cx="1492200" cy="84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6000" y="1246320"/>
            <a:ext cx="685800" cy="144360"/>
          </a:xfrm>
          <a:custGeom>
            <a:avLst/>
            <a:gdLst/>
            <a:ahLst/>
            <a:rect l="l" t="t" r="r" b="b"/>
            <a:pathLst>
              <a:path w="432" h="91">
                <a:moveTo>
                  <a:pt x="432" y="71"/>
                </a:moveTo>
                <a:cubicBezTo>
                  <a:pt x="395" y="35"/>
                  <a:pt x="358" y="0"/>
                  <a:pt x="314" y="3"/>
                </a:cubicBezTo>
                <a:cubicBezTo>
                  <a:pt x="270" y="6"/>
                  <a:pt x="222" y="85"/>
                  <a:pt x="170" y="88"/>
                </a:cubicBezTo>
                <a:cubicBezTo>
                  <a:pt x="118" y="91"/>
                  <a:pt x="59" y="55"/>
                  <a:pt x="0" y="2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92800" y="860400"/>
            <a:ext cx="135000" cy="108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59400" y="1170000"/>
            <a:ext cx="658800" cy="390600"/>
          </a:xfrm>
          <a:prstGeom prst="leftArrow">
            <a:avLst>
              <a:gd name="adj1" fmla="val 50000"/>
              <a:gd name="adj2" fmla="val 4216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59200" y="793800"/>
            <a:ext cx="0" cy="497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59200" y="2730600"/>
            <a:ext cx="38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59200" y="2124000"/>
            <a:ext cx="2057400" cy="592200"/>
          </a:xfrm>
          <a:custGeom>
            <a:avLst/>
            <a:gdLst/>
            <a:ahLst/>
            <a:rect l="l" t="t" r="r" b="b"/>
            <a:pathLst>
              <a:path w="1296" h="373">
                <a:moveTo>
                  <a:pt x="0" y="0"/>
                </a:moveTo>
                <a:lnTo>
                  <a:pt x="1296" y="0"/>
                </a:lnTo>
                <a:lnTo>
                  <a:pt x="1296" y="37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3240" y="3913200"/>
            <a:ext cx="387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70400" y="3294000"/>
            <a:ext cx="660240" cy="619200"/>
          </a:xfrm>
          <a:custGeom>
            <a:avLst/>
            <a:gdLst/>
            <a:ahLst/>
            <a:rect l="l" t="t" r="r" b="b"/>
            <a:pathLst>
              <a:path w="416" h="390">
                <a:moveTo>
                  <a:pt x="0" y="390"/>
                </a:moveTo>
                <a:lnTo>
                  <a:pt x="0" y="0"/>
                </a:lnTo>
                <a:lnTo>
                  <a:pt x="416" y="8"/>
                </a:lnTo>
                <a:lnTo>
                  <a:pt x="416" y="381"/>
                </a:lnTo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60640" y="4908600"/>
            <a:ext cx="38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1800" y="4287960"/>
            <a:ext cx="1387440" cy="633240"/>
          </a:xfrm>
          <a:custGeom>
            <a:avLst/>
            <a:gdLst/>
            <a:ahLst/>
            <a:rect l="l" t="t" r="r" b="b"/>
            <a:pathLst>
              <a:path w="874" h="399">
                <a:moveTo>
                  <a:pt x="0" y="399"/>
                </a:moveTo>
                <a:lnTo>
                  <a:pt x="0" y="1"/>
                </a:lnTo>
                <a:lnTo>
                  <a:pt x="874" y="0"/>
                </a:lnTo>
                <a:lnTo>
                  <a:pt x="874" y="373"/>
                </a:lnTo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30800" y="471600"/>
            <a:ext cx="11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74800" y="471600"/>
            <a:ext cx="11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6000" y="24876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for NO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425600" y="1693800"/>
            <a:ext cx="523800" cy="86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38400" y="2192400"/>
            <a:ext cx="11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22400" y="3403440"/>
            <a:ext cx="11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d 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66800" y="445140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ellow 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330800" y="497520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13200" y="5621400"/>
            <a:ext cx="96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c.a. 80% of S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056200" y="4948200"/>
            <a:ext cx="0" cy="37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59200" y="5326200"/>
            <a:ext cx="21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Sr: ON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2581200"/>
            <a:ext cx="57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mm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43600" y="3736800"/>
            <a:ext cx="57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mm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29560" y="4745160"/>
            <a:ext cx="57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mm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49600" y="5607000"/>
            <a:ext cx="1614600" cy="73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84800" y="6078600"/>
            <a:ext cx="32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bility operating 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1500600">
            <a:off x="4922640" y="6009840"/>
            <a:ext cx="442800" cy="309600"/>
          </a:xfrm>
          <a:prstGeom prst="rightArrow">
            <a:avLst>
              <a:gd name="adj1" fmla="val 50000"/>
              <a:gd name="adj2" fmla="val 3575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45200" y="299880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er can find not correct position of targe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5400000">
            <a:off x="821520" y="1086480"/>
            <a:ext cx="712800" cy="565200"/>
          </a:xfrm>
          <a:custGeom>
            <a:avLst/>
            <a:gdLst>
              <a:gd name="textAreaLeft" fmla="*/ 156600 w 712800"/>
              <a:gd name="textAreaRight" fmla="*/ 556200 w 712800"/>
              <a:gd name="textAreaTop" fmla="*/ 124200 h 565200"/>
              <a:gd name="textAreaBottom" fmla="*/ 441000 h 56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r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92400" y="1359000"/>
            <a:ext cx="912960" cy="336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1449360"/>
            <a:ext cx="685800" cy="144360"/>
          </a:xfrm>
          <a:custGeom>
            <a:avLst/>
            <a:gdLst/>
            <a:ahLst/>
            <a:rect l="l" t="t" r="r" b="b"/>
            <a:pathLst>
              <a:path w="432" h="91">
                <a:moveTo>
                  <a:pt x="432" y="71"/>
                </a:moveTo>
                <a:cubicBezTo>
                  <a:pt x="395" y="35"/>
                  <a:pt x="358" y="0"/>
                  <a:pt x="314" y="3"/>
                </a:cubicBezTo>
                <a:cubicBezTo>
                  <a:pt x="270" y="6"/>
                  <a:pt x="222" y="85"/>
                  <a:pt x="170" y="88"/>
                </a:cubicBezTo>
                <a:cubicBezTo>
                  <a:pt x="118" y="91"/>
                  <a:pt x="59" y="55"/>
                  <a:pt x="0" y="2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2742840" y="1347840"/>
            <a:ext cx="322200" cy="376200"/>
          </a:xfrm>
          <a:custGeom>
            <a:avLst/>
            <a:gdLst>
              <a:gd name="textAreaLeft" fmla="*/ 70920 w 322200"/>
              <a:gd name="textAreaRight" fmla="*/ 251280 w 322200"/>
              <a:gd name="textAreaTop" fmla="*/ 82800 h 376200"/>
              <a:gd name="textAreaBottom" fmla="*/ 293400 h 37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152960" y="1467000"/>
            <a:ext cx="2976120" cy="1562400"/>
            <a:chOff x="4152960" y="1467000"/>
            <a:chExt cx="2976120" cy="1562400"/>
          </a:xfrm>
        </p:grpSpPr>
        <p:grpSp>
          <p:nvGrpSpPr>
            <p:cNvPr id="85" name=""/>
            <p:cNvGrpSpPr/>
            <p:nvPr/>
          </p:nvGrpSpPr>
          <p:grpSpPr>
            <a:xfrm>
              <a:off x="4152960" y="1467000"/>
              <a:ext cx="1568880" cy="1562400"/>
              <a:chOff x="4152960" y="1467000"/>
              <a:chExt cx="1568880" cy="1562400"/>
            </a:xfrm>
          </p:grpSpPr>
          <p:sp>
            <p:nvSpPr>
              <p:cNvPr id="86" name=""/>
              <p:cNvSpPr/>
              <p:nvPr/>
            </p:nvSpPr>
            <p:spPr>
              <a:xfrm>
                <a:off x="4152960" y="1467000"/>
                <a:ext cx="174600" cy="268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20550000">
                <a:off x="4285800" y="1936440"/>
                <a:ext cx="174600" cy="268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9375800">
                <a:off x="4541760" y="2366640"/>
                <a:ext cx="174600" cy="268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7903400">
                <a:off x="4956840" y="2651760"/>
                <a:ext cx="174600" cy="268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6420800">
                <a:off x="5494680" y="2799360"/>
                <a:ext cx="174600" cy="268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 flipH="1">
              <a:off x="6954120" y="1479600"/>
              <a:ext cx="174600" cy="268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rot="1050000">
              <a:off x="6820560" y="1949040"/>
              <a:ext cx="174600" cy="268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rot="2224200">
              <a:off x="6566040" y="2379240"/>
              <a:ext cx="174600" cy="268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3696600">
              <a:off x="6149880" y="2664360"/>
              <a:ext cx="174600" cy="268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 flipV="1" rot="1050000">
            <a:off x="4312800" y="991800"/>
            <a:ext cx="174600" cy="268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 rot="2224200">
            <a:off x="4568760" y="560880"/>
            <a:ext cx="174600" cy="268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 rot="3696600">
            <a:off x="4983840" y="276120"/>
            <a:ext cx="174600" cy="268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 rot="5179200">
            <a:off x="5521680" y="128520"/>
            <a:ext cx="174960" cy="268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 rot="20550000">
            <a:off x="6848280" y="979200"/>
            <a:ext cx="174600" cy="267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 rot="19375800">
            <a:off x="6593040" y="548280"/>
            <a:ext cx="174600" cy="268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 rot="17903400">
            <a:off x="6176880" y="263880"/>
            <a:ext cx="174600" cy="268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03800" y="284040"/>
            <a:ext cx="2716200" cy="2621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29240" y="1467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48600" y="793800"/>
            <a:ext cx="252360" cy="1627200"/>
          </a:xfrm>
          <a:custGeom>
            <a:avLst/>
            <a:gdLst/>
            <a:ahLst/>
            <a:rect l="l" t="t" r="r" b="b"/>
            <a:pathLst>
              <a:path w="243" h="1025">
                <a:moveTo>
                  <a:pt x="34" y="1025"/>
                </a:moveTo>
                <a:cubicBezTo>
                  <a:pt x="138" y="843"/>
                  <a:pt x="243" y="662"/>
                  <a:pt x="237" y="491"/>
                </a:cubicBezTo>
                <a:cubicBezTo>
                  <a:pt x="231" y="320"/>
                  <a:pt x="115" y="16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2000" y="1895400"/>
            <a:ext cx="307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 operation = Yel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49400" y="2903400"/>
            <a:ext cx="15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 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51200" y="1440000"/>
            <a:ext cx="189000" cy="18864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73400" y="2298600"/>
            <a:ext cx="334800" cy="565200"/>
          </a:xfrm>
          <a:prstGeom prst="downArrow">
            <a:avLst>
              <a:gd name="adj1" fmla="val 50000"/>
              <a:gd name="adj2" fmla="val 422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93600" y="3859200"/>
            <a:ext cx="60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sor was damaged and get shorter sensing distanc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33440" y="3267000"/>
            <a:ext cx="335160" cy="565200"/>
          </a:xfrm>
          <a:prstGeom prst="downArrow">
            <a:avLst>
              <a:gd name="adj1" fmla="val 50000"/>
              <a:gd name="adj2" fmla="val 421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81000" y="4235400"/>
            <a:ext cx="60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unting position was chang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5400" y="5351400"/>
            <a:ext cx="60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 Kind of Manual Diagnosi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r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5:45:40Z</dcterms:created>
  <dc:creator>NHA0019E</dc:creator>
  <dc:description/>
  <dc:language>en-US</dc:language>
  <cp:lastModifiedBy>NHA0019E</cp:lastModifiedBy>
  <dcterms:modified xsi:type="dcterms:W3CDTF">2005-02-23T12:49:43Z</dcterms:modified>
  <cp:revision>13</cp:revision>
  <dc:subject/>
  <dc:title>PowerPoint プレゼンテーション</dc:title>
</cp:coreProperties>
</file>