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5B3-5EC6-49AF-8AE3-C325275F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234-713A-4460-9147-5752446E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F4F-7738-4C0F-8D8E-6C5080ED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8D1B-C812-4147-96D3-002BB8C2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7E4-6C28-4C59-9796-F5D820BC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19C-DD05-4A50-9F49-6791E81A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E5C-192F-4A58-8248-081F1F12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374-5924-4E96-A599-DB97BC24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256-F5B1-4346-AF56-425D7C91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6B6-DFC5-46E1-A254-0EDBFB1D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D36-7837-47AF-A98E-F9366DAC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FD1-E539-4FB5-BBC1-CAD764C6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AF13-6404-44D0-A2C0-6D07A8C4BC1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85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or rotation torque of E2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3809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8 size CN (E2A-**-M3/5-*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057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2 size CN (E2A-**-M1-*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2590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fasten the connector by &g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5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ep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4495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fasten the connector by &g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3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6094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esult of connector rotation t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62120" y="2286000"/>
          <a:ext cx="7543800" cy="1855800"/>
        </p:xfrm>
        <a:graphic>
          <a:graphicData uri="http://schemas.openxmlformats.org/drawingml/2006/table">
            <a:tbl>
              <a:tblPr/>
              <a:tblGrid>
                <a:gridCol w="2031840"/>
                <a:gridCol w="2768760"/>
                <a:gridCol w="274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conn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tation tor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 break tor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2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 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 to 0.9 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8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8 bod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 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le inner rotate (M8bod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ep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62120" y="4876920"/>
          <a:ext cx="7543800" cy="1400040"/>
        </p:xfrm>
        <a:graphic>
          <a:graphicData uri="http://schemas.openxmlformats.org/drawingml/2006/table">
            <a:tbl>
              <a:tblPr/>
              <a:tblGrid>
                <a:gridCol w="2031840"/>
                <a:gridCol w="2768760"/>
                <a:gridCol w="274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conn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tation tor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 break tor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2size special ver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 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 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562720" y="830160"/>
            <a:ext cx="1447560" cy="136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13955400">
            <a:off x="5790960" y="1218960"/>
            <a:ext cx="914400" cy="304920"/>
          </a:xfrm>
          <a:custGeom>
            <a:avLst/>
            <a:gdLst>
              <a:gd name="textAreaLeft" fmla="*/ 159840 w 914400"/>
              <a:gd name="textAreaRight" fmla="*/ 663120 w 9144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9144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tate the connector with measuring tor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4197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type to increased connector rotation tor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ep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1371600"/>
          <a:ext cx="8534160" cy="3886200"/>
        </p:xfrm>
        <a:graphic>
          <a:graphicData uri="http://schemas.openxmlformats.org/drawingml/2006/table">
            <a:tbl>
              <a:tblPr/>
              <a:tblGrid>
                <a:gridCol w="1066680"/>
                <a:gridCol w="838080"/>
                <a:gridCol w="914400"/>
                <a:gridCol w="1067040"/>
                <a:gridCol w="990360"/>
                <a:gridCol w="838440"/>
                <a:gridCol w="914400"/>
                <a:gridCol w="914400"/>
                <a:gridCol w="990360"/>
              </a:tblGrid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OM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E2A (Bras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OM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E2A (SU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entury"/>
                        </a:rPr>
                        <a:t>OM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entury"/>
                        </a:rPr>
                        <a:t>E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entury"/>
                        </a:rPr>
                        <a:t>Special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E2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RON E2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BALLUFFBES  M18MD1-P8C12B-S04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IF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S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(M1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IF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IFS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(M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sa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entury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Ro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0000"/>
                          </a:solidFill>
                          <a:latin typeface="Century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1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 Fun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1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0000"/>
                          </a:solidFill>
                          <a:latin typeface="Century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2,7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2,8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3,4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572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4100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) * mark means pin break, not function brea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57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data of rotation t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9:56:55Z</dcterms:created>
  <dc:creator>NHA0019E</dc:creator>
  <dc:description/>
  <dc:language>en-US</dc:language>
  <cp:lastModifiedBy>NHA0019E</cp:lastModifiedBy>
  <dcterms:modified xsi:type="dcterms:W3CDTF">2005-09-06T14:39:57Z</dcterms:modified>
  <cp:revision>4</cp:revision>
  <dc:subject/>
  <dc:title>PowerPoint プレゼンテーション</dc:title>
</cp:coreProperties>
</file>