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BD80-377B-4A8E-BC67-2E7CFF46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1C9-4988-4EB2-832E-89503EF9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F4B-E01B-4CC1-9C6F-1C3A9A03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74D-B6D8-405F-BF91-FE346609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2E21-1833-43ED-9122-D0105A71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52C-4D99-4109-AAA0-0CEAB1EB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4CC-9C92-434B-9661-A741ADA0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0DF-FCE2-41F5-8FA9-3B5DD0B2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CAE-D46C-45B3-8A22-E57E5096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2F1-6590-42FA-8D96-C62AC4B9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2CB-3FDD-492F-B61A-8958F2EA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0F3-D4CA-406C-B6F4-D689FB87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EA82-8E13-4203-8C2E-C79E5FCFDC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838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BF of E2A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438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it is approx. 20 yea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3124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d by MIL-217F     /   parts count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4876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2A,  MTBF = MTT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57200"/>
            <a:ext cx="12189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95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BF = Mean time between fail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TF = Mean time to fail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TR = Mean time to repai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304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BF = MTTF + MTT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04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eneral system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3505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114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2A (cylindrical prox) cannot be repaired!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5334120"/>
            <a:ext cx="23619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BF = MT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579132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calculated by MIL-STD 217F  parts coun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46483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1676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1676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838080"/>
            <a:ext cx="990360" cy="381240"/>
          </a:xfrm>
          <a:prstGeom prst="wedgeRectCallout">
            <a:avLst>
              <a:gd name="adj1" fmla="val 9935"/>
              <a:gd name="adj2" fmla="val 171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609480"/>
            <a:ext cx="990360" cy="609840"/>
          </a:xfrm>
          <a:prstGeom prst="wedgeRectCallout">
            <a:avLst>
              <a:gd name="adj1" fmla="val -42629"/>
              <a:gd name="adj2" fmla="val 1213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ish the re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457200"/>
            <a:ext cx="990720" cy="685800"/>
          </a:xfrm>
          <a:prstGeom prst="wedgeRectCallout">
            <a:avLst>
              <a:gd name="adj1" fmla="val 9935"/>
              <a:gd name="adj2" fmla="val 117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 to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1981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19494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T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1981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T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24382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TB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6667200" y="118080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33520" y="395280"/>
          <a:ext cx="8076960" cy="60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5280"/>
                    <a:ext cx="8076960" cy="60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33520" y="485640"/>
          <a:ext cx="8076960" cy="588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5640"/>
                    <a:ext cx="807696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33520" y="485640"/>
          <a:ext cx="8076960" cy="588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5640"/>
                    <a:ext cx="807696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33520" y="485640"/>
          <a:ext cx="8076960" cy="588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5640"/>
                    <a:ext cx="807696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1:53:57Z</dcterms:created>
  <dc:creator>tankaz</dc:creator>
  <dc:description/>
  <dc:language>en-US</dc:language>
  <cp:lastModifiedBy>tankaz</cp:lastModifiedBy>
  <dcterms:modified xsi:type="dcterms:W3CDTF">2004-02-05T08:07:18Z</dcterms:modified>
  <cp:revision>3</cp:revision>
  <dc:subject/>
  <dc:title>PowerPoint プレゼンテーション</dc:title>
</cp:coreProperties>
</file>