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345-484C-479D-ACC7-39FC3F80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E29-A3C2-489C-8571-4444F6AC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569-C838-4058-87D2-C57567A3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9C8-6966-43C9-8C48-820EF33C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089-95AC-45B6-B508-622AE70F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8AF-F698-432E-9486-9D20FEC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A12-360F-4FDE-B8E8-D41435D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649-E3F2-4F16-BE54-FEF93CC7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70F-5E38-4DEE-850D-26507B2F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385-3936-41E9-B7DC-592D3E8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102-494A-4151-A9A7-025A3295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2DD-CA5A-4580-AC3B-17F21F9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8704-A092-4B6E-9DAF-074D7513B0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response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ase of you need higher response frequenc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666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offer following method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365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r sensing distance typ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 respo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4343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diameter body typ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 respo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2120" y="1295280"/>
          <a:ext cx="80769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8076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85800" y="1447920"/>
            <a:ext cx="99072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218960" y="228600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743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fferent sensing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3809880"/>
          <a:ext cx="807732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09880"/>
                    <a:ext cx="80773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09480" y="609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requency table (by sensing dis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352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124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362320"/>
            <a:ext cx="2819520" cy="228600"/>
          </a:xfrm>
          <a:prstGeom prst="leftArrow">
            <a:avLst>
              <a:gd name="adj1" fmla="val 50000"/>
              <a:gd name="adj2" fmla="val 30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ow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09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igh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066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w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5:39:11Z</dcterms:created>
  <dc:creator>NHA0019E</dc:creator>
  <dc:description/>
  <dc:language>en-US</dc:language>
  <cp:lastModifiedBy>NHA0019E</cp:lastModifiedBy>
  <dcterms:modified xsi:type="dcterms:W3CDTF">2005-02-23T12:45:42Z</dcterms:modified>
  <cp:revision>3</cp:revision>
  <dc:subject/>
  <dc:title>PowerPoint プレゼンテーション</dc:title>
</cp:coreProperties>
</file>