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EB6-3213-4D41-9DB0-8ECD852D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A10-2A36-4783-99E8-2FA59312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137-B6E9-4C87-9102-CACC36C2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8A9-4997-4073-9611-755C0511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B84-D843-445F-8507-4A8B51F2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AC71-D55B-4472-8A88-10CCD85E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72E-C4A5-4AA2-A45D-9BAC024E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9D3-E209-4F97-A111-351E84E0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639D-C04A-4257-A12B-1607B0E7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D9FB-1F5C-4D58-A40A-1383661A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C36-F660-4EB3-957C-5DE8D9E2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815-E968-4F38-81D7-D1FC2D86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1D89-BD7D-4695-88D4-F18841A2334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914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name 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371600" y="1143000"/>
          <a:ext cx="7010280" cy="25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143000"/>
                    <a:ext cx="701028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752480" y="3886200"/>
          <a:ext cx="6324840" cy="27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886200"/>
                    <a:ext cx="632484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029200" y="1143000"/>
            <a:ext cx="149544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49574"/>
              <a:gd name="adj5" fmla="val 134935"/>
              <a:gd name="adj6" fmla="val -95736"/>
            </a:avLst>
          </a:prstGeom>
          <a:noFill/>
          <a:ln w="9360">
            <a:solidFill>
              <a:srgbClr val="ff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ss with Nickel pl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429000"/>
            <a:ext cx="927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35787"/>
              <a:gd name="adj5" fmla="val -145833"/>
              <a:gd name="adj6" fmla="val 164384"/>
            </a:avLst>
          </a:prstGeom>
          <a:noFill/>
          <a:ln w="9360">
            <a:solidFill>
              <a:srgbClr val="ff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BT pla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3505320"/>
            <a:ext cx="990720" cy="19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30520" y="504720"/>
            <a:ext cx="1716120" cy="916920"/>
          </a:xfrm>
          <a:prstGeom prst="borderCallout2">
            <a:avLst>
              <a:gd name="adj1" fmla="val 18750"/>
              <a:gd name="adj2" fmla="val -8333"/>
              <a:gd name="adj3" fmla="val 12351"/>
              <a:gd name="adj4" fmla="val -22018"/>
              <a:gd name="adj5" fmla="val 148898"/>
              <a:gd name="adj6" fmla="val -39574"/>
            </a:avLst>
          </a:prstGeom>
          <a:noFill/>
          <a:ln w="9360">
            <a:solidFill>
              <a:srgbClr val="ff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NG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pper with nickel pl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43560"/>
            <a:ext cx="1716120" cy="916920"/>
          </a:xfrm>
          <a:prstGeom prst="borderCallout2">
            <a:avLst>
              <a:gd name="adj1" fmla="val 18750"/>
              <a:gd name="adj2" fmla="val -8333"/>
              <a:gd name="adj3" fmla="val 12351"/>
              <a:gd name="adj4" fmla="val 120537"/>
              <a:gd name="adj5" fmla="val 141245"/>
              <a:gd name="adj6" fmla="val 136722"/>
            </a:avLst>
          </a:prstGeom>
          <a:noFill/>
          <a:ln w="9360">
            <a:solidFill>
              <a:srgbClr val="ff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NG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pper with nickel pl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040" y="3733920"/>
            <a:ext cx="149544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123037"/>
              <a:gd name="adj5" fmla="val -161476"/>
              <a:gd name="adj6" fmla="val 141800"/>
            </a:avLst>
          </a:prstGeom>
          <a:noFill/>
          <a:ln w="9360">
            <a:solidFill>
              <a:srgbClr val="ff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olyary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la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809880"/>
            <a:ext cx="7596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3124080"/>
            <a:ext cx="149544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16666"/>
              <a:gd name="adj5" fmla="val -109851"/>
              <a:gd name="adj6" fmla="val -32370"/>
            </a:avLst>
          </a:prstGeom>
          <a:noFill/>
          <a:ln w="9360">
            <a:solidFill>
              <a:srgbClr val="ff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olyester ela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105520" y="3276720"/>
            <a:ext cx="30456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1170000"/>
            <a:ext cx="838440" cy="368280"/>
          </a:xfrm>
          <a:prstGeom prst="borderCallout2">
            <a:avLst>
              <a:gd name="adj1" fmla="val 18750"/>
              <a:gd name="adj2" fmla="val -8333"/>
              <a:gd name="adj3" fmla="val 30379"/>
              <a:gd name="adj4" fmla="val -35986"/>
              <a:gd name="adj5" fmla="val 329685"/>
              <a:gd name="adj6" fmla="val -133129"/>
            </a:avLst>
          </a:prstGeom>
          <a:noFill/>
          <a:ln w="9360">
            <a:solidFill>
              <a:srgbClr val="ff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name for standard E2A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3:10:26Z</dcterms:created>
  <dc:creator>tankaz</dc:creator>
  <dc:description/>
  <dc:language>en-US</dc:language>
  <cp:lastModifiedBy>tankaz</cp:lastModifiedBy>
  <dcterms:modified xsi:type="dcterms:W3CDTF">2003-02-24T07:48:53Z</dcterms:modified>
  <cp:revision>7</cp:revision>
  <dc:subject/>
  <dc:title>PowerPoint プレゼンテーション</dc:title>
</cp:coreProperties>
</file>