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B8E-79D3-4F25-A115-BF82479A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65C1-D3ED-4776-AB6A-F62377B2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9F8-A272-4784-8839-00D003FE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28D-DAE4-4753-A687-5FB5827B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0B5-6B2C-4E32-8136-957347BD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0F0-9F0B-4B72-A947-B711B9D4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BE0-FCF7-4051-94D8-194210DC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10E-C596-4068-A6A9-893F6AFE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6597-C37F-4989-ABA6-417C3F6B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B1D-A97C-4445-83B7-B3C210D6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FB2-FFA4-40AC-A504-47A93115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150-809F-4590-A27D-B05997FE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8E48-7B64-474F-B142-7B85DD7430A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2Wire output of E2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1400" y="2862360"/>
            <a:ext cx="68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2A has DC2W output type in s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66960" y="3535200"/>
            <a:ext cx="817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ensor can be attached to both of NPN, PNP circu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22200" y="4892760"/>
            <a:ext cx="743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Reduction of prox stock item numbers in custom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03600" y="4168800"/>
            <a:ext cx="457200" cy="752400"/>
          </a:xfrm>
          <a:prstGeom prst="downArrow">
            <a:avLst>
              <a:gd name="adj1" fmla="val 50000"/>
              <a:gd name="adj2" fmla="val 411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9880" y="965160"/>
            <a:ext cx="19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3046320"/>
            <a:ext cx="21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82680" y="1576440"/>
            <a:ext cx="498600" cy="78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31800" y="9651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39720" y="23763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9240" y="1209600"/>
            <a:ext cx="22212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90640" y="1684440"/>
            <a:ext cx="609840" cy="287280"/>
          </a:xfrm>
          <a:custGeom>
            <a:avLst/>
            <a:gdLst/>
            <a:ahLst/>
            <a:rect l="l" t="t" r="r" b="b"/>
            <a:pathLst>
              <a:path w="559" h="246">
                <a:moveTo>
                  <a:pt x="0" y="246"/>
                </a:moveTo>
                <a:lnTo>
                  <a:pt x="559" y="246"/>
                </a:lnTo>
                <a:lnTo>
                  <a:pt x="55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00480" y="96480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86080" y="3006720"/>
            <a:ext cx="82440" cy="889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86080" y="923760"/>
            <a:ext cx="82440" cy="889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923760"/>
            <a:ext cx="82440" cy="889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78120" y="914400"/>
            <a:ext cx="111240" cy="108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33560" y="2997360"/>
            <a:ext cx="111240" cy="107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81680" y="2262240"/>
            <a:ext cx="498600" cy="78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38720" y="30621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88240" y="1895400"/>
            <a:ext cx="22212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89640" y="2370240"/>
            <a:ext cx="609480" cy="287280"/>
          </a:xfrm>
          <a:custGeom>
            <a:avLst/>
            <a:gdLst/>
            <a:ahLst/>
            <a:rect l="l" t="t" r="r" b="b"/>
            <a:pathLst>
              <a:path w="559" h="246">
                <a:moveTo>
                  <a:pt x="0" y="246"/>
                </a:moveTo>
                <a:lnTo>
                  <a:pt x="559" y="246"/>
                </a:lnTo>
                <a:lnTo>
                  <a:pt x="55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999120" y="165060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84720" y="3692520"/>
            <a:ext cx="82800" cy="889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61320" y="1609560"/>
            <a:ext cx="82440" cy="889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4000" y="1638360"/>
            <a:ext cx="22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49840" y="3736800"/>
            <a:ext cx="22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07000" y="4138560"/>
            <a:ext cx="22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22840" y="6237360"/>
            <a:ext cx="22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02200" y="4762440"/>
            <a:ext cx="498600" cy="78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51680" y="4151160"/>
            <a:ext cx="0" cy="62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429240" y="5226480"/>
            <a:ext cx="718920" cy="1006200"/>
            <a:chOff x="6429240" y="5226480"/>
            <a:chExt cx="718920" cy="1006200"/>
          </a:xfrm>
        </p:grpSpPr>
        <p:sp>
          <p:nvSpPr>
            <p:cNvPr id="74" name=""/>
            <p:cNvSpPr/>
            <p:nvPr/>
          </p:nvSpPr>
          <p:spPr>
            <a:xfrm flipV="1">
              <a:off x="6927480" y="5512680"/>
              <a:ext cx="220680" cy="47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29240" y="5226480"/>
              <a:ext cx="608040" cy="286560"/>
            </a:xfrm>
            <a:custGeom>
              <a:avLst/>
              <a:gdLst/>
              <a:ahLst/>
              <a:rect l="l" t="t" r="r" b="b"/>
              <a:pathLst>
                <a:path w="559" h="246">
                  <a:moveTo>
                    <a:pt x="0" y="246"/>
                  </a:moveTo>
                  <a:lnTo>
                    <a:pt x="559" y="246"/>
                  </a:lnTo>
                  <a:lnTo>
                    <a:pt x="55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37280" y="5987160"/>
              <a:ext cx="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114960" y="4119480"/>
            <a:ext cx="82800" cy="907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91200" y="6183360"/>
            <a:ext cx="82800" cy="889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78200" y="7682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28796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16200" y="19782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34320" y="1598760"/>
            <a:ext cx="111240" cy="107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34400" y="14526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50160" y="3681360"/>
            <a:ext cx="111240" cy="108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88400" y="35640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34320" y="4087800"/>
            <a:ext cx="111240" cy="108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34400" y="39416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50160" y="6168960"/>
            <a:ext cx="111240" cy="108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88400" y="60516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3840" y="4667400"/>
            <a:ext cx="498600" cy="78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2960" y="405612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50880" y="546732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820880" y="5131080"/>
            <a:ext cx="718920" cy="1006200"/>
            <a:chOff x="1820880" y="5131080"/>
            <a:chExt cx="718920" cy="1006200"/>
          </a:xfrm>
        </p:grpSpPr>
        <p:sp>
          <p:nvSpPr>
            <p:cNvPr id="94" name=""/>
            <p:cNvSpPr/>
            <p:nvPr/>
          </p:nvSpPr>
          <p:spPr>
            <a:xfrm flipV="1">
              <a:off x="2319120" y="5417280"/>
              <a:ext cx="220680" cy="47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820880" y="5131080"/>
              <a:ext cx="608040" cy="286560"/>
            </a:xfrm>
            <a:custGeom>
              <a:avLst/>
              <a:gdLst/>
              <a:ahLst/>
              <a:rect l="l" t="t" r="r" b="b"/>
              <a:pathLst>
                <a:path w="559" h="246">
                  <a:moveTo>
                    <a:pt x="0" y="246"/>
                  </a:moveTo>
                  <a:lnTo>
                    <a:pt x="559" y="246"/>
                  </a:lnTo>
                  <a:lnTo>
                    <a:pt x="55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28920" y="5891760"/>
              <a:ext cx="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514520" y="6087960"/>
            <a:ext cx="84240" cy="889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06600" y="4024440"/>
            <a:ext cx="82440" cy="903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82840" y="6087960"/>
            <a:ext cx="82440" cy="889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19440" y="4840200"/>
            <a:ext cx="7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84160" y="4056120"/>
            <a:ext cx="19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22400" y="4005360"/>
            <a:ext cx="111240" cy="108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39006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6138720"/>
            <a:ext cx="21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52640" y="6089760"/>
            <a:ext cx="111240" cy="108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90880" y="59720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6200" y="538200"/>
            <a:ext cx="3227400" cy="279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1600" y="309600"/>
            <a:ext cx="1882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3W N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8800" y="3630600"/>
            <a:ext cx="3214800" cy="283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08000" y="3416400"/>
            <a:ext cx="180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3W P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32400" y="592200"/>
            <a:ext cx="3402000" cy="59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75200" y="403200"/>
            <a:ext cx="113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2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9639200">
            <a:off x="3879360" y="3271680"/>
            <a:ext cx="1662120" cy="552600"/>
          </a:xfrm>
          <a:prstGeom prst="rightArrow">
            <a:avLst>
              <a:gd name="adj1" fmla="val 50000"/>
              <a:gd name="adj2" fmla="val 751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245800">
            <a:off x="3919320" y="1983960"/>
            <a:ext cx="1652400" cy="552600"/>
          </a:xfrm>
          <a:prstGeom prst="rightArrow">
            <a:avLst>
              <a:gd name="adj1" fmla="val 50000"/>
              <a:gd name="adj2" fmla="val 747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11960" y="927000"/>
            <a:ext cx="32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ne sensor for both circuit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75000" y="12654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6040" y="54878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74000" y="19382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28000" y="55832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50800" y="1154160"/>
            <a:ext cx="22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6640" y="3252960"/>
            <a:ext cx="22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6000" y="1778040"/>
            <a:ext cx="498600" cy="78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5480" y="11667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373040" y="2241360"/>
            <a:ext cx="718920" cy="1006200"/>
            <a:chOff x="1373040" y="2241360"/>
            <a:chExt cx="718920" cy="1006200"/>
          </a:xfrm>
        </p:grpSpPr>
        <p:sp>
          <p:nvSpPr>
            <p:cNvPr id="126" name=""/>
            <p:cNvSpPr/>
            <p:nvPr/>
          </p:nvSpPr>
          <p:spPr>
            <a:xfrm flipV="1">
              <a:off x="1871280" y="2528280"/>
              <a:ext cx="22068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373040" y="2241360"/>
              <a:ext cx="608040" cy="286560"/>
            </a:xfrm>
            <a:custGeom>
              <a:avLst/>
              <a:gdLst/>
              <a:ahLst/>
              <a:rect l="l" t="t" r="r" b="b"/>
              <a:pathLst>
                <a:path w="559" h="246">
                  <a:moveTo>
                    <a:pt x="0" y="246"/>
                  </a:moveTo>
                  <a:lnTo>
                    <a:pt x="559" y="246"/>
                  </a:lnTo>
                  <a:lnTo>
                    <a:pt x="55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1080" y="3002040"/>
              <a:ext cx="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58760" y="1135080"/>
            <a:ext cx="82800" cy="903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35000" y="3198960"/>
            <a:ext cx="82800" cy="889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78120" y="1103400"/>
            <a:ext cx="111240" cy="108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93960" y="3184560"/>
            <a:ext cx="111240" cy="108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32200" y="30672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44800" y="9968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25600" y="2340000"/>
            <a:ext cx="0" cy="752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30400" y="1465200"/>
            <a:ext cx="614160" cy="727200"/>
          </a:xfrm>
          <a:custGeom>
            <a:avLst/>
            <a:gdLst/>
            <a:ahLst/>
            <a:rect l="l" t="t" r="r" b="b"/>
            <a:pathLst>
              <a:path w="387" h="458">
                <a:moveTo>
                  <a:pt x="0" y="0"/>
                </a:moveTo>
                <a:cubicBezTo>
                  <a:pt x="82" y="2"/>
                  <a:pt x="164" y="5"/>
                  <a:pt x="220" y="26"/>
                </a:cubicBezTo>
                <a:cubicBezTo>
                  <a:pt x="276" y="47"/>
                  <a:pt x="311" y="79"/>
                  <a:pt x="338" y="127"/>
                </a:cubicBezTo>
                <a:cubicBezTo>
                  <a:pt x="365" y="175"/>
                  <a:pt x="375" y="259"/>
                  <a:pt x="381" y="314"/>
                </a:cubicBezTo>
                <a:cubicBezTo>
                  <a:pt x="387" y="369"/>
                  <a:pt x="379" y="413"/>
                  <a:pt x="372" y="458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9800" y="1506600"/>
            <a:ext cx="42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dual voltage (at ON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60600" y="2367000"/>
            <a:ext cx="43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kage current (at OFF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44600" y="25844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2040" y="1895400"/>
            <a:ext cx="42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3.0V (2m cable, 100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61000" y="2741760"/>
            <a:ext cx="42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8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55800" y="4732200"/>
            <a:ext cx="65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must be work by “+V” – “Residual volta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55800" y="5484960"/>
            <a:ext cx="81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must not be work by “Leakage curr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6800" y="4370400"/>
            <a:ext cx="6924600" cy="189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4600" y="4141800"/>
            <a:ext cx="1263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!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5360" y="1017720"/>
            <a:ext cx="870912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DC2wire sensor can be monitored the current consumption for detecting the cable break or short condition. Customer can easily detect the trouble of cable wiring in his machi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n the Automotive Companies this combination (DC2wire + monitoring terminal box) has became standard u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able break de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--  Monitor the current consumption on 2wire lin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-- In case of normally open typ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-- OFF state: I &gt;0.5mA   --&gt; cable break : I=0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-- ON state: I &gt;load current (depend on load)  --&gt; cable break : I=0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o customer can set the criteria as minimum 0.5mA for 2 wi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DC3wire type is not so easy to detect the current consumption difference on power line. (only small ch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dditionally, OMRON has special Device-Net slave terminal for DC2wire sensors. e.g. DRT2-ID**C (-1), DRT2-ID32SLH (-1), DRT2-MD32SLH (-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DC2wire Prox can be connected to these slave terminals directly and detected the cable break automatically. (we need some setting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lso this slave terminal has useful function for predictive maintenance. This can monitor and memorize the ON-OFF cycles. Customer can analyze the maintenance cycle for sensors easily by this da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4760" y="37476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ive maintenance by DC2wire E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47760" y="1314360"/>
            <a:ext cx="5162400" cy="1276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324080" y="2685960"/>
            <a:ext cx="5133960" cy="2791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9520" y="299880"/>
            <a:ext cx="49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 cable break detection by DR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81080" y="461880"/>
            <a:ext cx="5077080" cy="277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905120" y="3224160"/>
            <a:ext cx="5162400" cy="3562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800" y="0"/>
            <a:ext cx="49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 cable short detection by DR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5:45:40Z</dcterms:created>
  <dc:creator>NHA0019E</dc:creator>
  <dc:description/>
  <dc:language>en-US</dc:language>
  <cp:lastModifiedBy>NHA0019E</cp:lastModifiedBy>
  <dcterms:modified xsi:type="dcterms:W3CDTF">2005-09-06T13:13:26Z</dcterms:modified>
  <cp:revision>12</cp:revision>
  <dc:subject/>
  <dc:title>PowerPoint プレゼンテーション</dc:title>
</cp:coreProperties>
</file>