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FBC-46FF-4F75-968D-0394483B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FB-3A5B-44C3-8394-A6F7219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8B4-14C5-47E6-AB3C-85AE9C55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6E4-9EC1-4322-A41A-9F2A2494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C69-9638-43CD-9AE6-27368BB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6B2-8AC3-47B6-BB3B-7264CE0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6A8-3097-4272-A5F7-DB3EDE4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CB9-04E5-470E-8B65-8F3A7FB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7F2-FD2D-414D-8B96-55228E37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B9A-392A-4620-A96A-8BDE97B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437-E78A-44B1-84F0-6A87BD7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664-4AFA-491C-8B94-16153A2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E51-57BE-45CA-8CAD-C7F51325DA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or PIN arrangement of E2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90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 size CN (M1CN) (DC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3048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compliant (standard in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5812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panese type (standard in Toyota, Nissa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343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8 size CN (M3CN, M5CN)(DC3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EC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5410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pins : M3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6019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pins : M5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295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 size CN (M1CN) (DC3,4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828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EC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762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 size CN (M1CN) (DC3,4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compliant (standard in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71600" y="2286000"/>
          <a:ext cx="7556400" cy="2371680"/>
        </p:xfrm>
        <a:graphic>
          <a:graphicData uri="http://schemas.openxmlformats.org/drawingml/2006/table">
            <a:tbl>
              <a:tblPr/>
              <a:tblGrid>
                <a:gridCol w="2031840"/>
                <a:gridCol w="1841760"/>
                <a:gridCol w="1841400"/>
                <a:gridCol w="1841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 pin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3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4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762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 size CN (M1CN) (DC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compliant (standard in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1905120"/>
          <a:ext cx="5715000" cy="1976400"/>
        </p:xfrm>
        <a:graphic>
          <a:graphicData uri="http://schemas.openxmlformats.org/drawingml/2006/table">
            <a:tbl>
              <a:tblPr/>
              <a:tblGrid>
                <a:gridCol w="2031840"/>
                <a:gridCol w="1841760"/>
                <a:gridCol w="1841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 pin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523880" y="41148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panese type (standard in Toyota, Nissa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09680" y="4572000"/>
          <a:ext cx="5715000" cy="1976400"/>
        </p:xfrm>
        <a:graphic>
          <a:graphicData uri="http://schemas.openxmlformats.org/drawingml/2006/table">
            <a:tbl>
              <a:tblPr/>
              <a:tblGrid>
                <a:gridCol w="2031840"/>
                <a:gridCol w="1841760"/>
                <a:gridCol w="1841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 pin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compliant (standard in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1752480"/>
          <a:ext cx="5715000" cy="2371680"/>
        </p:xfrm>
        <a:graphic>
          <a:graphicData uri="http://schemas.openxmlformats.org/drawingml/2006/table">
            <a:tbl>
              <a:tblPr/>
              <a:tblGrid>
                <a:gridCol w="2031840"/>
                <a:gridCol w="1841760"/>
                <a:gridCol w="1841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 pin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ins  M5C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85800" y="838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8 size CN (M3CN, M5CN) (DC3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00200" y="4343400"/>
          <a:ext cx="5715000" cy="2371680"/>
        </p:xfrm>
        <a:graphic>
          <a:graphicData uri="http://schemas.openxmlformats.org/drawingml/2006/table">
            <a:tbl>
              <a:tblPr/>
              <a:tblGrid>
                <a:gridCol w="2031840"/>
                <a:gridCol w="1841760"/>
                <a:gridCol w="1841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 pin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pins  M3C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6:55Z</dcterms:created>
  <dc:creator>NHA0019E</dc:creator>
  <dc:description/>
  <dc:language>en-US</dc:language>
  <cp:lastModifiedBy>NHA0019E</cp:lastModifiedBy>
  <dcterms:modified xsi:type="dcterms:W3CDTF">2005-02-23T12:42:21Z</dcterms:modified>
  <cp:revision>3</cp:revision>
  <dc:subject/>
  <dc:title>PowerPoint プレゼンテーション</dc:title>
</cp:coreProperties>
</file>