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76F-48A5-4AE5-9DCE-8A698D3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04A-1C17-4B25-AE61-FF1CF94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5D9-6C38-4BE3-801C-2AA27702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DDC-6C7E-41A1-9DBA-D1A11952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E4D-1A48-4E29-92AA-C405579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7AA-10F0-474F-8755-B6665F2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29E-3155-425F-A8F1-DB886FB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52D-D3B2-4387-84E1-5C4CB62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34F-A42A-4D9D-A10E-BDEF8562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282-5219-45D5-8EF8-AF807A9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16D-82CF-491D-A4BD-611F9B7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4CA-1269-430E-A06A-E8804D8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FD0-6A9F-4606-B2AC-32EC895FF6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219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bending performance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3623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A has the structure which protect the cable from be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ble protecto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962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can be bent at –40 degrees C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3962520" y="2087640"/>
            <a:ext cx="393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ing times ( times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54080" y="1536840"/>
            <a:ext cx="1253880" cy="2318760"/>
            <a:chOff x="1054080" y="1536840"/>
            <a:chExt cx="1253880" cy="2318760"/>
          </a:xfrm>
        </p:grpSpPr>
        <p:sp>
          <p:nvSpPr>
            <p:cNvPr id="47" name=""/>
            <p:cNvSpPr/>
            <p:nvPr/>
          </p:nvSpPr>
          <p:spPr>
            <a:xfrm>
              <a:off x="1142280" y="1536840"/>
              <a:ext cx="617760" cy="724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93400" y="2261160"/>
              <a:ext cx="514800" cy="90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0840" y="2351880"/>
              <a:ext cx="441000" cy="78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9520" y="2430360"/>
              <a:ext cx="323280" cy="7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54080" y="1753920"/>
              <a:ext cx="79416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4080" y="1899000"/>
              <a:ext cx="794160" cy="7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46560" y="2496600"/>
              <a:ext cx="742680" cy="85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0000" y="2509200"/>
              <a:ext cx="765000" cy="87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12840" y="3375720"/>
              <a:ext cx="0" cy="4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7960" y="3348360"/>
              <a:ext cx="0" cy="50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60360" y="1536840"/>
            <a:ext cx="1179000" cy="1852200"/>
            <a:chOff x="2160360" y="1536840"/>
            <a:chExt cx="1179000" cy="1852200"/>
          </a:xfrm>
        </p:grpSpPr>
        <p:sp>
          <p:nvSpPr>
            <p:cNvPr id="58" name=""/>
            <p:cNvSpPr/>
            <p:nvPr/>
          </p:nvSpPr>
          <p:spPr>
            <a:xfrm flipH="1">
              <a:off x="2665080" y="1536840"/>
              <a:ext cx="589320" cy="724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715120" y="2261520"/>
              <a:ext cx="491040" cy="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749320" y="2351880"/>
              <a:ext cx="420840" cy="78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05480" y="2430720"/>
              <a:ext cx="308520" cy="7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581200" y="1753920"/>
              <a:ext cx="7578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81200" y="1899000"/>
              <a:ext cx="757800" cy="7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160360" y="2496960"/>
              <a:ext cx="708840" cy="851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327400" y="2516400"/>
              <a:ext cx="722880" cy="872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65160" y="3855960"/>
            <a:ext cx="736920" cy="3636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08320" y="3303720"/>
            <a:ext cx="250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3480" y="3303720"/>
            <a:ext cx="250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17560" y="4219560"/>
            <a:ext cx="103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ght 500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8240" y="2044800"/>
            <a:ext cx="590760" cy="144360"/>
          </a:xfrm>
          <a:prstGeom prst="leftRightArrow">
            <a:avLst>
              <a:gd name="adj1" fmla="val 50000"/>
              <a:gd name="adj2" fmla="val 814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13120" y="247968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90 de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4760" y="34210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l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2498400">
            <a:off x="1921680" y="2805120"/>
            <a:ext cx="610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86" y="321"/>
                </a:moveTo>
                <a:arcTo wR="10800" hR="10800" stAng="-6240330" swAng="6653125"/>
                <a:lnTo>
                  <a:pt x="10800" y="10800"/>
                </a:lnTo>
                <a:close/>
              </a:path>
              <a:path fill="none" w="21600" h="21600">
                <a:moveTo>
                  <a:pt x="8186" y="321"/>
                </a:moveTo>
                <a:arcTo wR="10800" hR="10800" stAng="-6240330" swAng="665312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8600"/>
            <a:ext cx="281952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bending test (at 23deg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6840" y="203040"/>
            <a:ext cx="4682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2A keep same performance as E2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has the cable prot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392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449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535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2697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5448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382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230640"/>
            <a:ext cx="228600" cy="12189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840120"/>
            <a:ext cx="2286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4221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4373640"/>
            <a:ext cx="22860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2955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3535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4068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946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4525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525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956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IFM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ＩＥ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087640"/>
            <a:ext cx="190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2316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( dia. 4m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44956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AMAT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602240"/>
            <a:ext cx="685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P+F       N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Ｊ１．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4373640"/>
            <a:ext cx="22860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068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862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4799160"/>
          <a:ext cx="266724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99160"/>
                    <a:ext cx="266724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043520" y="5048280"/>
            <a:ext cx="1671480" cy="819000"/>
          </a:xfrm>
          <a:prstGeom prst="borderCallout2">
            <a:avLst>
              <a:gd name="adj1" fmla="val 18750"/>
              <a:gd name="adj2" fmla="val -8333"/>
              <a:gd name="adj3" fmla="val 13953"/>
              <a:gd name="adj4" fmla="val -30958"/>
              <a:gd name="adj5" fmla="val 105037"/>
              <a:gd name="adj6" fmla="val -58402"/>
            </a:avLst>
          </a:prstGeom>
          <a:noFill/>
          <a:ln w="255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able pro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733920"/>
            <a:ext cx="2057400" cy="16002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225360"/>
            <a:ext cx="1755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440" y="5073480"/>
            <a:ext cx="28004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840" y="5524560"/>
            <a:ext cx="94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est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870520"/>
            <a:ext cx="28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) to wind the cable to rod by 6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5410080"/>
            <a:ext cx="9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Criter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6520" y="5791320"/>
            <a:ext cx="36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A crack should not be appeared on outer sh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268360"/>
            <a:ext cx="1244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00" y="2351160"/>
            <a:ext cx="114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Diameter of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0720" y="256716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= dia. 12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4240" y="2205000"/>
            <a:ext cx="98640" cy="363600"/>
          </a:xfrm>
          <a:custGeom>
            <a:avLst/>
            <a:gdLst/>
            <a:ahLst/>
            <a:rect l="l" t="t" r="r" b="b"/>
            <a:pathLst>
              <a:path w="76" h="292">
                <a:moveTo>
                  <a:pt x="28" y="0"/>
                </a:moveTo>
                <a:lnTo>
                  <a:pt x="0" y="288"/>
                </a:lnTo>
                <a:lnTo>
                  <a:pt x="48" y="292"/>
                </a:lnTo>
                <a:lnTo>
                  <a:pt x="76" y="4"/>
                </a:lnTo>
                <a:lnTo>
                  <a:pt x="28" y="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1640" y="2305080"/>
            <a:ext cx="295200" cy="306360"/>
          </a:xfrm>
          <a:custGeom>
            <a:avLst/>
            <a:gdLst/>
            <a:ahLst/>
            <a:rect l="l" t="t" r="r" b="b"/>
            <a:pathLst>
              <a:path w="228" h="246">
                <a:moveTo>
                  <a:pt x="192" y="0"/>
                </a:moveTo>
                <a:lnTo>
                  <a:pt x="0" y="214"/>
                </a:lnTo>
                <a:lnTo>
                  <a:pt x="36" y="246"/>
                </a:lnTo>
                <a:lnTo>
                  <a:pt x="228" y="32"/>
                </a:lnTo>
                <a:lnTo>
                  <a:pt x="192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3800" y="2527200"/>
            <a:ext cx="582840" cy="897120"/>
          </a:xfrm>
          <a:custGeom>
            <a:avLst/>
            <a:gdLst/>
            <a:ahLst/>
            <a:rect l="l" t="t" r="r" b="b"/>
            <a:pathLst>
              <a:path w="450" h="720">
                <a:moveTo>
                  <a:pt x="320" y="0"/>
                </a:moveTo>
                <a:lnTo>
                  <a:pt x="0" y="658"/>
                </a:lnTo>
                <a:lnTo>
                  <a:pt x="130" y="720"/>
                </a:lnTo>
                <a:lnTo>
                  <a:pt x="450" y="62"/>
                </a:lnTo>
                <a:lnTo>
                  <a:pt x="32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0520" y="1554120"/>
            <a:ext cx="642960" cy="753840"/>
            <a:chOff x="1460520" y="1554120"/>
            <a:chExt cx="642960" cy="753840"/>
          </a:xfrm>
        </p:grpSpPr>
        <p:sp>
          <p:nvSpPr>
            <p:cNvPr id="117" name=""/>
            <p:cNvSpPr/>
            <p:nvPr/>
          </p:nvSpPr>
          <p:spPr>
            <a:xfrm>
              <a:off x="1532880" y="1554120"/>
              <a:ext cx="500400" cy="564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74280" y="2124000"/>
              <a:ext cx="414720" cy="64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5600" y="2193480"/>
              <a:ext cx="354960" cy="57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52400" y="2255760"/>
              <a:ext cx="258840" cy="52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0520" y="1725840"/>
              <a:ext cx="642960" cy="6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0520" y="1837800"/>
              <a:ext cx="642960" cy="6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84320" y="2975040"/>
            <a:ext cx="2174760" cy="438120"/>
            <a:chOff x="1084320" y="2975040"/>
            <a:chExt cx="2174760" cy="438120"/>
          </a:xfrm>
        </p:grpSpPr>
        <p:sp>
          <p:nvSpPr>
            <p:cNvPr id="124" name=""/>
            <p:cNvSpPr/>
            <p:nvPr/>
          </p:nvSpPr>
          <p:spPr>
            <a:xfrm>
              <a:off x="1084320" y="2975040"/>
              <a:ext cx="2174760" cy="438120"/>
            </a:xfrm>
            <a:custGeom>
              <a:avLst/>
              <a:gdLst/>
              <a:ahLst/>
              <a:rect l="l" t="t" r="r" b="b"/>
              <a:pathLst>
                <a:path w="1680" h="352">
                  <a:moveTo>
                    <a:pt x="0" y="186"/>
                  </a:moveTo>
                  <a:lnTo>
                    <a:pt x="2" y="220"/>
                  </a:lnTo>
                  <a:lnTo>
                    <a:pt x="6" y="250"/>
                  </a:lnTo>
                  <a:lnTo>
                    <a:pt x="14" y="280"/>
                  </a:lnTo>
                  <a:lnTo>
                    <a:pt x="22" y="304"/>
                  </a:lnTo>
                  <a:lnTo>
                    <a:pt x="32" y="324"/>
                  </a:lnTo>
                  <a:lnTo>
                    <a:pt x="44" y="340"/>
                  </a:lnTo>
                  <a:lnTo>
                    <a:pt x="56" y="348"/>
                  </a:lnTo>
                  <a:lnTo>
                    <a:pt x="70" y="352"/>
                  </a:lnTo>
                  <a:lnTo>
                    <a:pt x="1614" y="336"/>
                  </a:lnTo>
                  <a:lnTo>
                    <a:pt x="1628" y="332"/>
                  </a:lnTo>
                  <a:lnTo>
                    <a:pt x="1640" y="322"/>
                  </a:lnTo>
                  <a:lnTo>
                    <a:pt x="1652" y="308"/>
                  </a:lnTo>
                  <a:lnTo>
                    <a:pt x="1662" y="286"/>
                  </a:lnTo>
                  <a:lnTo>
                    <a:pt x="1670" y="262"/>
                  </a:lnTo>
                  <a:lnTo>
                    <a:pt x="1676" y="232"/>
                  </a:lnTo>
                  <a:lnTo>
                    <a:pt x="1678" y="200"/>
                  </a:lnTo>
                  <a:lnTo>
                    <a:pt x="1680" y="166"/>
                  </a:lnTo>
                  <a:lnTo>
                    <a:pt x="1678" y="132"/>
                  </a:lnTo>
                  <a:lnTo>
                    <a:pt x="1674" y="102"/>
                  </a:lnTo>
                  <a:lnTo>
                    <a:pt x="1668" y="74"/>
                  </a:lnTo>
                  <a:lnTo>
                    <a:pt x="1658" y="48"/>
                  </a:lnTo>
                  <a:lnTo>
                    <a:pt x="1648" y="28"/>
                  </a:lnTo>
                  <a:lnTo>
                    <a:pt x="1636" y="14"/>
                  </a:lnTo>
                  <a:lnTo>
                    <a:pt x="1624" y="4"/>
                  </a:lnTo>
                  <a:lnTo>
                    <a:pt x="1610" y="0"/>
                  </a:lnTo>
                  <a:lnTo>
                    <a:pt x="66" y="16"/>
                  </a:lnTo>
                  <a:lnTo>
                    <a:pt x="52" y="20"/>
                  </a:lnTo>
                  <a:lnTo>
                    <a:pt x="40" y="30"/>
                  </a:lnTo>
                  <a:lnTo>
                    <a:pt x="28" y="46"/>
                  </a:lnTo>
                  <a:lnTo>
                    <a:pt x="18" y="66"/>
                  </a:lnTo>
                  <a:lnTo>
                    <a:pt x="10" y="90"/>
                  </a:lnTo>
                  <a:lnTo>
                    <a:pt x="6" y="120"/>
                  </a:lnTo>
                  <a:lnTo>
                    <a:pt x="2" y="15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84320" y="2994480"/>
              <a:ext cx="178200" cy="418320"/>
            </a:xfrm>
            <a:custGeom>
              <a:avLst/>
              <a:gdLst/>
              <a:ahLst/>
              <a:rect l="l" t="t" r="r" b="b"/>
              <a:pathLst>
                <a:path w="138" h="336">
                  <a:moveTo>
                    <a:pt x="70" y="336"/>
                  </a:moveTo>
                  <a:lnTo>
                    <a:pt x="84" y="332"/>
                  </a:lnTo>
                  <a:lnTo>
                    <a:pt x="96" y="322"/>
                  </a:lnTo>
                  <a:lnTo>
                    <a:pt x="108" y="308"/>
                  </a:lnTo>
                  <a:lnTo>
                    <a:pt x="118" y="286"/>
                  </a:lnTo>
                  <a:lnTo>
                    <a:pt x="126" y="262"/>
                  </a:lnTo>
                  <a:lnTo>
                    <a:pt x="132" y="234"/>
                  </a:lnTo>
                  <a:lnTo>
                    <a:pt x="136" y="202"/>
                  </a:lnTo>
                  <a:lnTo>
                    <a:pt x="138" y="168"/>
                  </a:lnTo>
                  <a:lnTo>
                    <a:pt x="136" y="134"/>
                  </a:lnTo>
                  <a:lnTo>
                    <a:pt x="132" y="102"/>
                  </a:lnTo>
                  <a:lnTo>
                    <a:pt x="124" y="74"/>
                  </a:lnTo>
                  <a:lnTo>
                    <a:pt x="116" y="48"/>
                  </a:lnTo>
                  <a:lnTo>
                    <a:pt x="106" y="28"/>
                  </a:lnTo>
                  <a:lnTo>
                    <a:pt x="94" y="14"/>
                  </a:lnTo>
                  <a:lnTo>
                    <a:pt x="80" y="4"/>
                  </a:lnTo>
                  <a:lnTo>
                    <a:pt x="66" y="0"/>
                  </a:lnTo>
                  <a:lnTo>
                    <a:pt x="52" y="4"/>
                  </a:lnTo>
                  <a:lnTo>
                    <a:pt x="40" y="14"/>
                  </a:lnTo>
                  <a:lnTo>
                    <a:pt x="28" y="30"/>
                  </a:lnTo>
                  <a:lnTo>
                    <a:pt x="18" y="50"/>
                  </a:lnTo>
                  <a:lnTo>
                    <a:pt x="10" y="74"/>
                  </a:lnTo>
                  <a:lnTo>
                    <a:pt x="6" y="104"/>
                  </a:lnTo>
                  <a:lnTo>
                    <a:pt x="2" y="136"/>
                  </a:lnTo>
                  <a:lnTo>
                    <a:pt x="0" y="170"/>
                  </a:lnTo>
                  <a:lnTo>
                    <a:pt x="2" y="204"/>
                  </a:lnTo>
                  <a:lnTo>
                    <a:pt x="6" y="234"/>
                  </a:lnTo>
                  <a:lnTo>
                    <a:pt x="14" y="264"/>
                  </a:lnTo>
                  <a:lnTo>
                    <a:pt x="22" y="288"/>
                  </a:lnTo>
                  <a:lnTo>
                    <a:pt x="32" y="308"/>
                  </a:lnTo>
                  <a:lnTo>
                    <a:pt x="44" y="324"/>
                  </a:lnTo>
                  <a:lnTo>
                    <a:pt x="56" y="332"/>
                  </a:lnTo>
                  <a:lnTo>
                    <a:pt x="70" y="336"/>
                  </a:lnTo>
                  <a:close/>
                </a:path>
              </a:pathLst>
            </a:custGeom>
            <a:solidFill>
              <a:srgbClr val="3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84320" y="2975040"/>
              <a:ext cx="2174760" cy="438120"/>
            </a:xfrm>
            <a:custGeom>
              <a:avLst/>
              <a:gdLst/>
              <a:ahLst/>
              <a:rect l="l" t="t" r="r" b="b"/>
              <a:pathLst>
                <a:path w="1680" h="352">
                  <a:moveTo>
                    <a:pt x="0" y="186"/>
                  </a:moveTo>
                  <a:lnTo>
                    <a:pt x="2" y="220"/>
                  </a:lnTo>
                  <a:lnTo>
                    <a:pt x="6" y="250"/>
                  </a:lnTo>
                  <a:lnTo>
                    <a:pt x="14" y="280"/>
                  </a:lnTo>
                  <a:lnTo>
                    <a:pt x="22" y="304"/>
                  </a:lnTo>
                  <a:lnTo>
                    <a:pt x="32" y="324"/>
                  </a:lnTo>
                  <a:lnTo>
                    <a:pt x="44" y="340"/>
                  </a:lnTo>
                  <a:lnTo>
                    <a:pt x="56" y="348"/>
                  </a:lnTo>
                  <a:lnTo>
                    <a:pt x="70" y="352"/>
                  </a:lnTo>
                  <a:lnTo>
                    <a:pt x="1614" y="336"/>
                  </a:lnTo>
                  <a:lnTo>
                    <a:pt x="1628" y="332"/>
                  </a:lnTo>
                  <a:lnTo>
                    <a:pt x="1640" y="322"/>
                  </a:lnTo>
                  <a:lnTo>
                    <a:pt x="1652" y="308"/>
                  </a:lnTo>
                  <a:lnTo>
                    <a:pt x="1662" y="286"/>
                  </a:lnTo>
                  <a:lnTo>
                    <a:pt x="1670" y="262"/>
                  </a:lnTo>
                  <a:lnTo>
                    <a:pt x="1676" y="232"/>
                  </a:lnTo>
                  <a:lnTo>
                    <a:pt x="1678" y="200"/>
                  </a:lnTo>
                  <a:lnTo>
                    <a:pt x="1680" y="166"/>
                  </a:lnTo>
                  <a:lnTo>
                    <a:pt x="1678" y="132"/>
                  </a:lnTo>
                  <a:lnTo>
                    <a:pt x="1674" y="102"/>
                  </a:lnTo>
                  <a:lnTo>
                    <a:pt x="1668" y="74"/>
                  </a:lnTo>
                  <a:lnTo>
                    <a:pt x="1658" y="48"/>
                  </a:lnTo>
                  <a:lnTo>
                    <a:pt x="1648" y="28"/>
                  </a:lnTo>
                  <a:lnTo>
                    <a:pt x="1636" y="14"/>
                  </a:lnTo>
                  <a:lnTo>
                    <a:pt x="1624" y="4"/>
                  </a:lnTo>
                  <a:lnTo>
                    <a:pt x="1610" y="0"/>
                  </a:lnTo>
                  <a:lnTo>
                    <a:pt x="66" y="16"/>
                  </a:lnTo>
                  <a:lnTo>
                    <a:pt x="52" y="20"/>
                  </a:lnTo>
                  <a:lnTo>
                    <a:pt x="40" y="30"/>
                  </a:lnTo>
                  <a:lnTo>
                    <a:pt x="28" y="46"/>
                  </a:lnTo>
                  <a:lnTo>
                    <a:pt x="18" y="66"/>
                  </a:lnTo>
                  <a:lnTo>
                    <a:pt x="10" y="90"/>
                  </a:lnTo>
                  <a:lnTo>
                    <a:pt x="6" y="120"/>
                  </a:lnTo>
                  <a:lnTo>
                    <a:pt x="2" y="152"/>
                  </a:lnTo>
                  <a:lnTo>
                    <a:pt x="0" y="18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69640" y="2994480"/>
              <a:ext cx="92880" cy="418320"/>
            </a:xfrm>
            <a:custGeom>
              <a:avLst/>
              <a:gdLst/>
              <a:ahLst/>
              <a:rect l="l" t="t" r="r" b="b"/>
              <a:pathLst>
                <a:path w="72" h="336">
                  <a:moveTo>
                    <a:pt x="4" y="336"/>
                  </a:moveTo>
                  <a:lnTo>
                    <a:pt x="18" y="332"/>
                  </a:lnTo>
                  <a:lnTo>
                    <a:pt x="30" y="322"/>
                  </a:lnTo>
                  <a:lnTo>
                    <a:pt x="42" y="308"/>
                  </a:lnTo>
                  <a:lnTo>
                    <a:pt x="52" y="286"/>
                  </a:lnTo>
                  <a:lnTo>
                    <a:pt x="60" y="262"/>
                  </a:lnTo>
                  <a:lnTo>
                    <a:pt x="66" y="234"/>
                  </a:lnTo>
                  <a:lnTo>
                    <a:pt x="70" y="202"/>
                  </a:lnTo>
                  <a:lnTo>
                    <a:pt x="72" y="168"/>
                  </a:lnTo>
                  <a:lnTo>
                    <a:pt x="70" y="134"/>
                  </a:lnTo>
                  <a:lnTo>
                    <a:pt x="66" y="102"/>
                  </a:lnTo>
                  <a:lnTo>
                    <a:pt x="58" y="74"/>
                  </a:lnTo>
                  <a:lnTo>
                    <a:pt x="50" y="48"/>
                  </a:lnTo>
                  <a:lnTo>
                    <a:pt x="40" y="28"/>
                  </a:lnTo>
                  <a:lnTo>
                    <a:pt x="28" y="14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685880" y="3295800"/>
            <a:ext cx="176400" cy="204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0200" y="3286080"/>
            <a:ext cx="176040" cy="201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3287880"/>
            <a:ext cx="189000" cy="204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3160" y="3281400"/>
            <a:ext cx="176040" cy="2030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6320" y="3278160"/>
            <a:ext cx="176040" cy="201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800" y="3281400"/>
            <a:ext cx="176400" cy="2030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30560" y="2892600"/>
            <a:ext cx="174600" cy="2030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5960" y="2892600"/>
            <a:ext cx="176040" cy="2030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70200" y="2889360"/>
            <a:ext cx="176040" cy="201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08400" y="2889360"/>
            <a:ext cx="176040" cy="201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87680" y="2874960"/>
            <a:ext cx="174600" cy="201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9400" y="2305080"/>
            <a:ext cx="193680" cy="1090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6320" y="2986200"/>
            <a:ext cx="171720" cy="407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0640" y="2986200"/>
            <a:ext cx="169920" cy="407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38480" y="2990880"/>
            <a:ext cx="171360" cy="404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982960"/>
            <a:ext cx="171360" cy="406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2990880"/>
            <a:ext cx="171720" cy="404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62280" y="29829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87680" y="3014640"/>
            <a:ext cx="144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303516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3440" y="298296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2720" y="2982960"/>
            <a:ext cx="14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65160" y="2313000"/>
            <a:ext cx="648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4720" y="230976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960" y="2973240"/>
            <a:ext cx="298440" cy="276480"/>
          </a:xfrm>
          <a:custGeom>
            <a:avLst/>
            <a:gdLst/>
            <a:ahLst/>
            <a:rect l="l" t="t" r="r" b="b"/>
            <a:pathLst>
              <a:path w="230" h="222">
                <a:moveTo>
                  <a:pt x="230" y="68"/>
                </a:moveTo>
                <a:lnTo>
                  <a:pt x="200" y="108"/>
                </a:lnTo>
                <a:lnTo>
                  <a:pt x="56" y="0"/>
                </a:lnTo>
                <a:lnTo>
                  <a:pt x="0" y="78"/>
                </a:lnTo>
                <a:lnTo>
                  <a:pt x="144" y="184"/>
                </a:lnTo>
                <a:lnTo>
                  <a:pt x="116" y="222"/>
                </a:lnTo>
                <a:lnTo>
                  <a:pt x="220" y="182"/>
                </a:lnTo>
                <a:lnTo>
                  <a:pt x="230" y="6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3280" y="1371600"/>
            <a:ext cx="668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040" y="1447920"/>
            <a:ext cx="116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ensor 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200" y="160200"/>
            <a:ext cx="2654280" cy="825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bending test at cold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5200" y="2235240"/>
            <a:ext cx="14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45200" y="2540160"/>
            <a:ext cx="197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5200" y="3149640"/>
            <a:ext cx="1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45200" y="375912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75400" y="2549520"/>
            <a:ext cx="433440" cy="14889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20040" y="2549520"/>
            <a:ext cx="433440" cy="87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16560" y="2158920"/>
            <a:ext cx="1035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48680" y="2158920"/>
            <a:ext cx="861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88440" y="2228760"/>
            <a:ext cx="36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E2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02480" y="1828800"/>
            <a:ext cx="1292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97440" y="1752480"/>
            <a:ext cx="129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( dia 4.0m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35240"/>
            <a:ext cx="487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254840" y="3022920"/>
            <a:ext cx="197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mperature (deg.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27600" y="2362320"/>
            <a:ext cx="339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30560" y="24256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6320" y="2971800"/>
            <a:ext cx="727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320" y="30481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2280" y="3568680"/>
            <a:ext cx="72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320" y="363204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20968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4720" y="1676520"/>
            <a:ext cx="91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20760"/>
            <a:ext cx="42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Improve the bending strength and the ease of wiring at low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cable material was changed to sof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549680"/>
            <a:ext cx="625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95280" y="3962520"/>
            <a:ext cx="1288800" cy="1214280"/>
            <a:chOff x="1295280" y="3962520"/>
            <a:chExt cx="1288800" cy="1214280"/>
          </a:xfrm>
        </p:grpSpPr>
        <p:sp>
          <p:nvSpPr>
            <p:cNvPr id="180" name=""/>
            <p:cNvSpPr/>
            <p:nvPr/>
          </p:nvSpPr>
          <p:spPr>
            <a:xfrm>
              <a:off x="2442960" y="4437360"/>
              <a:ext cx="49320" cy="20772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28" y="0"/>
                  </a:moveTo>
                  <a:lnTo>
                    <a:pt x="0" y="288"/>
                  </a:lnTo>
                  <a:lnTo>
                    <a:pt x="48" y="292"/>
                  </a:lnTo>
                  <a:lnTo>
                    <a:pt x="76" y="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6480" y="4494240"/>
              <a:ext cx="147600" cy="176400"/>
            </a:xfrm>
            <a:custGeom>
              <a:avLst/>
              <a:gdLst/>
              <a:ahLst/>
              <a:rect l="l" t="t" r="r" b="b"/>
              <a:pathLst>
                <a:path w="228" h="246">
                  <a:moveTo>
                    <a:pt x="192" y="0"/>
                  </a:moveTo>
                  <a:lnTo>
                    <a:pt x="0" y="214"/>
                  </a:lnTo>
                  <a:lnTo>
                    <a:pt x="36" y="246"/>
                  </a:lnTo>
                  <a:lnTo>
                    <a:pt x="228" y="3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11120" y="4621320"/>
              <a:ext cx="291960" cy="512640"/>
            </a:xfrm>
            <a:custGeom>
              <a:avLst/>
              <a:gdLst/>
              <a:ahLst/>
              <a:rect l="l" t="t" r="r" b="b"/>
              <a:pathLst>
                <a:path w="450" h="720">
                  <a:moveTo>
                    <a:pt x="320" y="0"/>
                  </a:moveTo>
                  <a:lnTo>
                    <a:pt x="0" y="658"/>
                  </a:lnTo>
                  <a:lnTo>
                    <a:pt x="130" y="720"/>
                  </a:lnTo>
                  <a:lnTo>
                    <a:pt x="450" y="62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641240" y="4067280"/>
              <a:ext cx="324000" cy="430200"/>
              <a:chOff x="1641240" y="4067280"/>
              <a:chExt cx="324000" cy="430200"/>
            </a:xfrm>
          </p:grpSpPr>
          <p:sp>
            <p:nvSpPr>
              <p:cNvPr id="184" name=""/>
              <p:cNvSpPr/>
              <p:nvPr/>
            </p:nvSpPr>
            <p:spPr>
              <a:xfrm>
                <a:off x="1677600" y="4067280"/>
                <a:ext cx="252000" cy="3222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98480" y="4392360"/>
                <a:ext cx="209160" cy="36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14320" y="4431960"/>
                <a:ext cx="178920" cy="32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37720" y="4467600"/>
                <a:ext cx="130320" cy="29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41240" y="4165200"/>
                <a:ext cx="324000" cy="35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41240" y="4228920"/>
                <a:ext cx="324000" cy="39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452240" y="4876920"/>
              <a:ext cx="1092240" cy="250920"/>
              <a:chOff x="1452240" y="4876920"/>
              <a:chExt cx="1092240" cy="250920"/>
            </a:xfrm>
          </p:grpSpPr>
          <p:sp>
            <p:nvSpPr>
              <p:cNvPr id="191" name=""/>
              <p:cNvSpPr/>
              <p:nvPr/>
            </p:nvSpPr>
            <p:spPr>
              <a:xfrm>
                <a:off x="1452240" y="4876920"/>
                <a:ext cx="1092240" cy="250920"/>
              </a:xfrm>
              <a:custGeom>
                <a:avLst/>
                <a:gdLst/>
                <a:ahLst/>
                <a:rect l="l" t="t" r="r" b="b"/>
                <a:pathLst>
                  <a:path w="1680" h="352">
                    <a:moveTo>
                      <a:pt x="0" y="186"/>
                    </a:moveTo>
                    <a:lnTo>
                      <a:pt x="2" y="220"/>
                    </a:lnTo>
                    <a:lnTo>
                      <a:pt x="6" y="250"/>
                    </a:lnTo>
                    <a:lnTo>
                      <a:pt x="14" y="280"/>
                    </a:lnTo>
                    <a:lnTo>
                      <a:pt x="22" y="304"/>
                    </a:lnTo>
                    <a:lnTo>
                      <a:pt x="32" y="324"/>
                    </a:lnTo>
                    <a:lnTo>
                      <a:pt x="44" y="340"/>
                    </a:lnTo>
                    <a:lnTo>
                      <a:pt x="56" y="348"/>
                    </a:lnTo>
                    <a:lnTo>
                      <a:pt x="70" y="352"/>
                    </a:lnTo>
                    <a:lnTo>
                      <a:pt x="1614" y="336"/>
                    </a:lnTo>
                    <a:lnTo>
                      <a:pt x="1628" y="332"/>
                    </a:lnTo>
                    <a:lnTo>
                      <a:pt x="1640" y="322"/>
                    </a:lnTo>
                    <a:lnTo>
                      <a:pt x="1652" y="308"/>
                    </a:lnTo>
                    <a:lnTo>
                      <a:pt x="1662" y="286"/>
                    </a:lnTo>
                    <a:lnTo>
                      <a:pt x="1670" y="262"/>
                    </a:lnTo>
                    <a:lnTo>
                      <a:pt x="1676" y="232"/>
                    </a:lnTo>
                    <a:lnTo>
                      <a:pt x="1678" y="200"/>
                    </a:lnTo>
                    <a:lnTo>
                      <a:pt x="1680" y="166"/>
                    </a:lnTo>
                    <a:lnTo>
                      <a:pt x="1678" y="132"/>
                    </a:lnTo>
                    <a:lnTo>
                      <a:pt x="1674" y="102"/>
                    </a:lnTo>
                    <a:lnTo>
                      <a:pt x="1668" y="74"/>
                    </a:lnTo>
                    <a:lnTo>
                      <a:pt x="1658" y="48"/>
                    </a:lnTo>
                    <a:lnTo>
                      <a:pt x="1648" y="28"/>
                    </a:lnTo>
                    <a:lnTo>
                      <a:pt x="1636" y="14"/>
                    </a:lnTo>
                    <a:lnTo>
                      <a:pt x="1624" y="4"/>
                    </a:lnTo>
                    <a:lnTo>
                      <a:pt x="1610" y="0"/>
                    </a:lnTo>
                    <a:lnTo>
                      <a:pt x="66" y="16"/>
                    </a:lnTo>
                    <a:lnTo>
                      <a:pt x="52" y="20"/>
                    </a:lnTo>
                    <a:lnTo>
                      <a:pt x="40" y="30"/>
                    </a:lnTo>
                    <a:lnTo>
                      <a:pt x="28" y="46"/>
                    </a:lnTo>
                    <a:lnTo>
                      <a:pt x="18" y="66"/>
                    </a:lnTo>
                    <a:lnTo>
                      <a:pt x="10" y="90"/>
                    </a:lnTo>
                    <a:lnTo>
                      <a:pt x="6" y="120"/>
                    </a:lnTo>
                    <a:lnTo>
                      <a:pt x="2" y="15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52240" y="4888080"/>
                <a:ext cx="89640" cy="239760"/>
              </a:xfrm>
              <a:custGeom>
                <a:avLst/>
                <a:gdLst/>
                <a:ahLst/>
                <a:rect l="l" t="t" r="r" b="b"/>
                <a:pathLst>
                  <a:path w="138" h="336">
                    <a:moveTo>
                      <a:pt x="70" y="336"/>
                    </a:moveTo>
                    <a:lnTo>
                      <a:pt x="84" y="332"/>
                    </a:lnTo>
                    <a:lnTo>
                      <a:pt x="96" y="322"/>
                    </a:lnTo>
                    <a:lnTo>
                      <a:pt x="108" y="308"/>
                    </a:lnTo>
                    <a:lnTo>
                      <a:pt x="118" y="286"/>
                    </a:lnTo>
                    <a:lnTo>
                      <a:pt x="126" y="262"/>
                    </a:lnTo>
                    <a:lnTo>
                      <a:pt x="132" y="234"/>
                    </a:lnTo>
                    <a:lnTo>
                      <a:pt x="136" y="202"/>
                    </a:lnTo>
                    <a:lnTo>
                      <a:pt x="138" y="168"/>
                    </a:lnTo>
                    <a:lnTo>
                      <a:pt x="136" y="134"/>
                    </a:lnTo>
                    <a:lnTo>
                      <a:pt x="132" y="102"/>
                    </a:lnTo>
                    <a:lnTo>
                      <a:pt x="124" y="74"/>
                    </a:lnTo>
                    <a:lnTo>
                      <a:pt x="116" y="48"/>
                    </a:lnTo>
                    <a:lnTo>
                      <a:pt x="106" y="28"/>
                    </a:lnTo>
                    <a:lnTo>
                      <a:pt x="94" y="14"/>
                    </a:lnTo>
                    <a:lnTo>
                      <a:pt x="80" y="4"/>
                    </a:lnTo>
                    <a:lnTo>
                      <a:pt x="66" y="0"/>
                    </a:lnTo>
                    <a:lnTo>
                      <a:pt x="52" y="4"/>
                    </a:lnTo>
                    <a:lnTo>
                      <a:pt x="40" y="14"/>
                    </a:lnTo>
                    <a:lnTo>
                      <a:pt x="28" y="30"/>
                    </a:lnTo>
                    <a:lnTo>
                      <a:pt x="18" y="50"/>
                    </a:lnTo>
                    <a:lnTo>
                      <a:pt x="10" y="74"/>
                    </a:lnTo>
                    <a:lnTo>
                      <a:pt x="6" y="104"/>
                    </a:lnTo>
                    <a:lnTo>
                      <a:pt x="2" y="136"/>
                    </a:lnTo>
                    <a:lnTo>
                      <a:pt x="0" y="170"/>
                    </a:lnTo>
                    <a:lnTo>
                      <a:pt x="2" y="204"/>
                    </a:lnTo>
                    <a:lnTo>
                      <a:pt x="6" y="234"/>
                    </a:lnTo>
                    <a:lnTo>
                      <a:pt x="14" y="264"/>
                    </a:lnTo>
                    <a:lnTo>
                      <a:pt x="22" y="288"/>
                    </a:lnTo>
                    <a:lnTo>
                      <a:pt x="32" y="308"/>
                    </a:lnTo>
                    <a:lnTo>
                      <a:pt x="44" y="324"/>
                    </a:lnTo>
                    <a:lnTo>
                      <a:pt x="56" y="332"/>
                    </a:lnTo>
                    <a:lnTo>
                      <a:pt x="70" y="336"/>
                    </a:lnTo>
                    <a:close/>
                  </a:path>
                </a:pathLst>
              </a:custGeom>
              <a:solidFill>
                <a:srgbClr val="32d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52240" y="4876920"/>
                <a:ext cx="1092240" cy="250920"/>
              </a:xfrm>
              <a:custGeom>
                <a:avLst/>
                <a:gdLst/>
                <a:ahLst/>
                <a:rect l="l" t="t" r="r" b="b"/>
                <a:pathLst>
                  <a:path w="1680" h="352">
                    <a:moveTo>
                      <a:pt x="0" y="186"/>
                    </a:moveTo>
                    <a:lnTo>
                      <a:pt x="2" y="220"/>
                    </a:lnTo>
                    <a:lnTo>
                      <a:pt x="6" y="250"/>
                    </a:lnTo>
                    <a:lnTo>
                      <a:pt x="14" y="280"/>
                    </a:lnTo>
                    <a:lnTo>
                      <a:pt x="22" y="304"/>
                    </a:lnTo>
                    <a:lnTo>
                      <a:pt x="32" y="324"/>
                    </a:lnTo>
                    <a:lnTo>
                      <a:pt x="44" y="340"/>
                    </a:lnTo>
                    <a:lnTo>
                      <a:pt x="56" y="348"/>
                    </a:lnTo>
                    <a:lnTo>
                      <a:pt x="70" y="352"/>
                    </a:lnTo>
                    <a:lnTo>
                      <a:pt x="1614" y="336"/>
                    </a:lnTo>
                    <a:lnTo>
                      <a:pt x="1628" y="332"/>
                    </a:lnTo>
                    <a:lnTo>
                      <a:pt x="1640" y="322"/>
                    </a:lnTo>
                    <a:lnTo>
                      <a:pt x="1652" y="308"/>
                    </a:lnTo>
                    <a:lnTo>
                      <a:pt x="1662" y="286"/>
                    </a:lnTo>
                    <a:lnTo>
                      <a:pt x="1670" y="262"/>
                    </a:lnTo>
                    <a:lnTo>
                      <a:pt x="1676" y="232"/>
                    </a:lnTo>
                    <a:lnTo>
                      <a:pt x="1678" y="200"/>
                    </a:lnTo>
                    <a:lnTo>
                      <a:pt x="1680" y="166"/>
                    </a:lnTo>
                    <a:lnTo>
                      <a:pt x="1678" y="132"/>
                    </a:lnTo>
                    <a:lnTo>
                      <a:pt x="1674" y="102"/>
                    </a:lnTo>
                    <a:lnTo>
                      <a:pt x="1668" y="74"/>
                    </a:lnTo>
                    <a:lnTo>
                      <a:pt x="1658" y="48"/>
                    </a:lnTo>
                    <a:lnTo>
                      <a:pt x="1648" y="28"/>
                    </a:lnTo>
                    <a:lnTo>
                      <a:pt x="1636" y="14"/>
                    </a:lnTo>
                    <a:lnTo>
                      <a:pt x="1624" y="4"/>
                    </a:lnTo>
                    <a:lnTo>
                      <a:pt x="1610" y="0"/>
                    </a:lnTo>
                    <a:lnTo>
                      <a:pt x="66" y="16"/>
                    </a:lnTo>
                    <a:lnTo>
                      <a:pt x="52" y="20"/>
                    </a:lnTo>
                    <a:lnTo>
                      <a:pt x="40" y="30"/>
                    </a:lnTo>
                    <a:lnTo>
                      <a:pt x="28" y="46"/>
                    </a:lnTo>
                    <a:lnTo>
                      <a:pt x="18" y="66"/>
                    </a:lnTo>
                    <a:lnTo>
                      <a:pt x="10" y="90"/>
                    </a:lnTo>
                    <a:lnTo>
                      <a:pt x="6" y="120"/>
                    </a:lnTo>
                    <a:lnTo>
                      <a:pt x="2" y="152"/>
                    </a:lnTo>
                    <a:lnTo>
                      <a:pt x="0" y="18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95080" y="4888080"/>
                <a:ext cx="46440" cy="239760"/>
              </a:xfrm>
              <a:custGeom>
                <a:avLst/>
                <a:gdLst/>
                <a:ahLst/>
                <a:rect l="l" t="t" r="r" b="b"/>
                <a:pathLst>
                  <a:path w="72" h="336">
                    <a:moveTo>
                      <a:pt x="4" y="336"/>
                    </a:moveTo>
                    <a:lnTo>
                      <a:pt x="18" y="332"/>
                    </a:lnTo>
                    <a:lnTo>
                      <a:pt x="30" y="322"/>
                    </a:lnTo>
                    <a:lnTo>
                      <a:pt x="42" y="308"/>
                    </a:lnTo>
                    <a:lnTo>
                      <a:pt x="52" y="286"/>
                    </a:lnTo>
                    <a:lnTo>
                      <a:pt x="60" y="262"/>
                    </a:lnTo>
                    <a:lnTo>
                      <a:pt x="66" y="234"/>
                    </a:lnTo>
                    <a:lnTo>
                      <a:pt x="70" y="202"/>
                    </a:lnTo>
                    <a:lnTo>
                      <a:pt x="72" y="168"/>
                    </a:lnTo>
                    <a:lnTo>
                      <a:pt x="70" y="134"/>
                    </a:lnTo>
                    <a:lnTo>
                      <a:pt x="66" y="102"/>
                    </a:lnTo>
                    <a:lnTo>
                      <a:pt x="58" y="74"/>
                    </a:lnTo>
                    <a:lnTo>
                      <a:pt x="50" y="48"/>
                    </a:lnTo>
                    <a:lnTo>
                      <a:pt x="40" y="28"/>
                    </a:lnTo>
                    <a:lnTo>
                      <a:pt x="28" y="14"/>
                    </a:lnTo>
                    <a:lnTo>
                      <a:pt x="1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3920" y="5059440"/>
              <a:ext cx="88920" cy="117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7520" y="5054760"/>
              <a:ext cx="87480" cy="1141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38240" y="5056200"/>
              <a:ext cx="9504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35080" y="5051520"/>
              <a:ext cx="8892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2200" y="5050080"/>
              <a:ext cx="8748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1120" y="5051520"/>
              <a:ext cx="8892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8600" y="4830840"/>
              <a:ext cx="8712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9680" y="4830840"/>
              <a:ext cx="8892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47520" y="4827600"/>
              <a:ext cx="8748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7520" y="4827600"/>
              <a:ext cx="8892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7880" y="4819680"/>
              <a:ext cx="87480" cy="115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0680" y="4494240"/>
              <a:ext cx="98640" cy="622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50760" y="4883400"/>
              <a:ext cx="85680" cy="233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2920" y="4883400"/>
              <a:ext cx="85680" cy="233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31840" y="4886280"/>
              <a:ext cx="87120" cy="230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4881600"/>
              <a:ext cx="85680" cy="2318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18960" y="4886280"/>
              <a:ext cx="85680" cy="230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5360" y="488160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7880" y="489924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18960" y="4911840"/>
              <a:ext cx="180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30040" y="488160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38240" y="4881600"/>
              <a:ext cx="144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280" y="449892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49240" y="449748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5280" y="3962520"/>
              <a:ext cx="33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832400" y="381960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temp. 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18680" y="361944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77680" y="4278240"/>
            <a:ext cx="209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ease the w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the cable shea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ＭＳ Ｐゴシック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114800"/>
            <a:ext cx="99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rack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t –45 deg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537000"/>
            <a:ext cx="99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rack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t –25 deg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6324480"/>
            <a:ext cx="28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) to release the cable wind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2520" y="403848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ou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09588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) to put in the low temp. oven. 2.0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6:38:45Z</dcterms:created>
  <dc:creator>tankaz</dc:creator>
  <dc:description/>
  <dc:language>en-US</dc:language>
  <cp:lastModifiedBy>tankaz</cp:lastModifiedBy>
  <dcterms:modified xsi:type="dcterms:W3CDTF">2003-03-14T13:20:36Z</dcterms:modified>
  <cp:revision>5</cp:revision>
  <dc:subject/>
  <dc:title>PowerPoint プレゼンテーション</dc:title>
</cp:coreProperties>
</file>