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0A6E-9A6C-4A1E-95B2-D1FC9934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69F0-9B58-4BAC-BB6D-DAD9A571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FB8-5F48-4F63-8D3C-5C0D31A8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B4D5-30A5-4377-B8BA-DA84EB19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778E-E765-4B32-BE76-14B74985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3257-6948-4172-96D7-094823AB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0B8-A9B5-4F51-88EB-B8E08046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6AAE-A643-4F54-BA2A-F7ABCD58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5BC-2070-4FAB-8358-87F54B3C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E2D-7A9A-4580-9105-B8605D85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6A5-24E9-4450-9099-5F4F65F0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58FA-C957-4B8C-8FCF-45E24EB3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9E43-8DE3-42D2-A76A-E108195455B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6858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output type in E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12952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 types are already available in data sheet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2438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mA load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ntivalent (NO+N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27432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4mm longer body only in M12 shor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590920"/>
            <a:ext cx="380880" cy="1371600"/>
          </a:xfrm>
          <a:custGeom>
            <a:avLst/>
            <a:gdLst>
              <a:gd name="textAreaLeft" fmla="*/ 0 w 380880"/>
              <a:gd name="textAreaRight" fmla="*/ 137520 w 3808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4267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2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800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2W non pola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43434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body length as standard E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4267080"/>
            <a:ext cx="380880" cy="1371600"/>
          </a:xfrm>
          <a:custGeom>
            <a:avLst/>
            <a:gdLst>
              <a:gd name="textAreaLeft" fmla="*/ 0 w 380880"/>
              <a:gd name="textAreaRight" fmla="*/ 137520 w 3808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5105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D is only on one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5:45:00Z</dcterms:created>
  <dc:creator>NHA0019E</dc:creator>
  <dc:description/>
  <dc:language>en-US</dc:language>
  <cp:lastModifiedBy>NHA0019E</cp:lastModifiedBy>
  <dcterms:modified xsi:type="dcterms:W3CDTF">2005-02-23T12:54:14Z</dcterms:modified>
  <cp:revision>4</cp:revision>
  <dc:subject/>
  <dc:title>PowerPoint プレゼンテーション</dc:title>
</cp:coreProperties>
</file>