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2AA-BFF5-457B-B916-33AABAF2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D27-1A3D-47B0-A991-0C546CF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BF3-3ADD-4F0D-B117-3614E954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3E8-5838-4F7C-A8CE-8A53E0B7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679-726A-45A5-BBC3-057F102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D51-FD29-4970-9F96-DC46F1E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DEA-F214-41A2-B676-7644F159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8E4-926C-4369-8784-24EC918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804-ECAD-4FFF-B1ED-E87533B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716-87C5-4E9E-80A5-F529B6E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A1D-73F1-4A6F-A7B3-BB910B7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417-AC3C-4957-B7C3-C8AEC19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6F9E-2E31-4752-82C3-6E0F8A95F5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ng distance variety of E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417760"/>
            <a:ext cx="68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2A has several sensing distanc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2800" y="3036960"/>
            <a:ext cx="68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1.0 of IEC60947-5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562200"/>
            <a:ext cx="68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1.5 of IEC60947-5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800" y="4113360"/>
            <a:ext cx="68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2.0 of IEC60947-5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23880" y="1397160"/>
          <a:ext cx="6096240" cy="22874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31920"/>
                <a:gridCol w="120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 flipV="1">
            <a:off x="2755800" y="2003400"/>
            <a:ext cx="12114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440400" y="2553840"/>
            <a:ext cx="11988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8800" y="77940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eld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76440" y="4395960"/>
          <a:ext cx="6095880" cy="22874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31920"/>
                <a:gridCol w="12063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90400" y="3900600"/>
            <a:ext cx="26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hield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860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ng distance table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0600" y="3173400"/>
            <a:ext cx="94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2A standar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26560" y="6127920"/>
            <a:ext cx="94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2A standar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1400" y="3321000"/>
            <a:ext cx="349200" cy="297000"/>
          </a:xfrm>
          <a:prstGeom prst="leftArrow">
            <a:avLst>
              <a:gd name="adj1" fmla="val 50000"/>
              <a:gd name="adj2" fmla="val 293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1400" y="6253200"/>
            <a:ext cx="349200" cy="297000"/>
          </a:xfrm>
          <a:prstGeom prst="leftArrow">
            <a:avLst>
              <a:gd name="adj1" fmla="val 50000"/>
              <a:gd name="adj2" fmla="val 293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09800" y="5580000"/>
            <a:ext cx="12114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060800" y="5553000"/>
            <a:ext cx="12114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9000" y="9144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9000" y="39798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9400" y="1384200"/>
            <a:ext cx="72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ensing variation types have alread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2400" y="2701800"/>
            <a:ext cx="72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k to OEE SenBU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5:40Z</dcterms:created>
  <dc:creator>NHA0019E</dc:creator>
  <dc:description/>
  <dc:language>en-US</dc:language>
  <cp:lastModifiedBy>NHA0019E</cp:lastModifiedBy>
  <dcterms:modified xsi:type="dcterms:W3CDTF">2005-03-07T10:28:20Z</dcterms:modified>
  <cp:revision>16</cp:revision>
  <dc:subject/>
  <dc:title>PowerPoint プレゼンテーション</dc:title>
</cp:coreProperties>
</file>