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811-9B0F-4ABA-9F7D-CDE76B41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6E3C-C498-458B-804E-D6178691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89F-8AB6-402A-9671-6BC575AB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8F0-A188-472F-9CC2-9D448035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13A-26DC-4557-A9B3-64BF6293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6A9-4B30-47CB-B788-5C0B3BF0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C8F-29AA-4A82-9F59-AE9169CD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77C-480B-4DB3-9C70-221E86F6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C9F-827C-42F0-962D-A3A02597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AC8-AA12-40E8-8AD9-FFBD2188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849-34B1-4EBB-BE7B-E31398D9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D8BA-7F75-448B-AE63-7D3AF810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98BF-CD68-408A-B873-BD3240720A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143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water-proof construction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25909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reliability for harsh applicatio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pecial structure in cable prot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200" y="5508720"/>
            <a:ext cx="914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E2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13280" y="304920"/>
            <a:ext cx="48765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) Increase a distance of water-proof destr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) Increase a adhesive strength between each material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3) Cable protector keep high adhesive force with c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6280" y="3746520"/>
            <a:ext cx="379260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3 times for creeping dist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66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red line </a:t>
            </a:r>
            <a:r>
              <a:rPr b="0" lang="en-US" sz="12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 adhesive point →</a:t>
            </a:r>
            <a:r>
              <a:rPr b="0" lang="zh-CN" sz="1200" spc="-1" strike="noStrike">
                <a:solidFill>
                  <a:srgbClr val="ff6600"/>
                </a:solidFill>
                <a:latin typeface="Times New Roman"/>
              </a:rPr>
              <a:t>　</a:t>
            </a: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extend this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blue line </a:t>
            </a:r>
            <a:r>
              <a:rPr b="0" lang="en-US" sz="1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no-adhesive point (water can go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028960"/>
            <a:ext cx="9144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E2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02400" y="3619440"/>
            <a:ext cx="3352680" cy="131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Change the material of protector: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　　　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Nylon </a:t>
            </a:r>
            <a:r>
              <a:rPr b="0" lang="ja-JP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Polyester ela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(good adhesive str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Process for protector: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　　　　        </a:t>
            </a:r>
            <a:r>
              <a:rPr b="0" lang="ja-JP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olding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( Reduce the assembly strugg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191120"/>
            <a:ext cx="3045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3809880"/>
            <a:ext cx="5331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886200" y="3962160"/>
            <a:ext cx="533520" cy="152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75120" y="4165560"/>
            <a:ext cx="749160" cy="25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295280" y="5029200"/>
            <a:ext cx="5207040" cy="1539720"/>
            <a:chOff x="1295280" y="5029200"/>
            <a:chExt cx="5207040" cy="1539720"/>
          </a:xfrm>
        </p:grpSpPr>
        <p:sp>
          <p:nvSpPr>
            <p:cNvPr id="53" name=""/>
            <p:cNvSpPr/>
            <p:nvPr/>
          </p:nvSpPr>
          <p:spPr>
            <a:xfrm>
              <a:off x="2068560" y="5200560"/>
              <a:ext cx="2687760" cy="1157400"/>
            </a:xfrm>
            <a:custGeom>
              <a:avLst/>
              <a:gdLst/>
              <a:ahLst/>
              <a:rect l="l" t="t" r="r" b="b"/>
              <a:pathLst>
                <a:path w="1786" h="729">
                  <a:moveTo>
                    <a:pt x="90" y="0"/>
                  </a:moveTo>
                  <a:cubicBezTo>
                    <a:pt x="72" y="22"/>
                    <a:pt x="54" y="44"/>
                    <a:pt x="36" y="66"/>
                  </a:cubicBezTo>
                  <a:cubicBezTo>
                    <a:pt x="0" y="133"/>
                    <a:pt x="0" y="221"/>
                    <a:pt x="36" y="287"/>
                  </a:cubicBezTo>
                  <a:cubicBezTo>
                    <a:pt x="54" y="320"/>
                    <a:pt x="90" y="376"/>
                    <a:pt x="90" y="376"/>
                  </a:cubicBezTo>
                  <a:cubicBezTo>
                    <a:pt x="72" y="497"/>
                    <a:pt x="54" y="608"/>
                    <a:pt x="54" y="729"/>
                  </a:cubicBezTo>
                  <a:lnTo>
                    <a:pt x="1369" y="696"/>
                  </a:lnTo>
                  <a:lnTo>
                    <a:pt x="1730" y="652"/>
                  </a:lnTo>
                  <a:lnTo>
                    <a:pt x="1750" y="658"/>
                  </a:lnTo>
                  <a:cubicBezTo>
                    <a:pt x="1786" y="636"/>
                    <a:pt x="1754" y="576"/>
                    <a:pt x="1754" y="554"/>
                  </a:cubicBezTo>
                  <a:cubicBezTo>
                    <a:pt x="1736" y="488"/>
                    <a:pt x="1780" y="464"/>
                    <a:pt x="1762" y="398"/>
                  </a:cubicBezTo>
                  <a:cubicBezTo>
                    <a:pt x="1762" y="354"/>
                    <a:pt x="1706" y="279"/>
                    <a:pt x="1742" y="246"/>
                  </a:cubicBezTo>
                  <a:cubicBezTo>
                    <a:pt x="1760" y="213"/>
                    <a:pt x="1774" y="84"/>
                    <a:pt x="1738" y="58"/>
                  </a:cubicBezTo>
                  <a:lnTo>
                    <a:pt x="1586" y="66"/>
                  </a:lnTo>
                  <a:lnTo>
                    <a:pt x="1279" y="0"/>
                  </a:lnTo>
                  <a:lnTo>
                    <a:pt x="9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19600" y="5380200"/>
              <a:ext cx="442800" cy="839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1481040" y="5616000"/>
              <a:ext cx="951120" cy="70164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45" y="0"/>
                  </a:moveTo>
                  <a:lnTo>
                    <a:pt x="0" y="0"/>
                  </a:lnTo>
                  <a:lnTo>
                    <a:pt x="0" y="28"/>
                  </a:lnTo>
                  <a:cubicBezTo>
                    <a:pt x="41" y="26"/>
                    <a:pt x="54" y="39"/>
                    <a:pt x="44" y="23"/>
                  </a:cubicBezTo>
                  <a:cubicBezTo>
                    <a:pt x="41" y="18"/>
                    <a:pt x="46" y="27"/>
                    <a:pt x="42" y="20"/>
                  </a:cubicBezTo>
                  <a:cubicBezTo>
                    <a:pt x="42" y="17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81040" y="5292720"/>
              <a:ext cx="930240" cy="663480"/>
            </a:xfrm>
            <a:custGeom>
              <a:avLst/>
              <a:gdLst/>
              <a:ahLst/>
              <a:rect l="l" t="t" r="r" b="b"/>
              <a:pathLst>
                <a:path w="790" h="486">
                  <a:moveTo>
                    <a:pt x="658" y="0"/>
                  </a:moveTo>
                  <a:lnTo>
                    <a:pt x="0" y="0"/>
                  </a:lnTo>
                  <a:lnTo>
                    <a:pt x="0" y="349"/>
                  </a:lnTo>
                  <a:cubicBezTo>
                    <a:pt x="600" y="324"/>
                    <a:pt x="790" y="486"/>
                    <a:pt x="644" y="287"/>
                  </a:cubicBezTo>
                  <a:cubicBezTo>
                    <a:pt x="600" y="224"/>
                    <a:pt x="673" y="336"/>
                    <a:pt x="614" y="249"/>
                  </a:cubicBezTo>
                  <a:cubicBezTo>
                    <a:pt x="614" y="212"/>
                    <a:pt x="671" y="54"/>
                    <a:pt x="686" y="3"/>
                  </a:cubicBez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1502800">
              <a:off x="4416480" y="5619600"/>
              <a:ext cx="198360" cy="11124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8" y="7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1553800">
              <a:off x="4586400" y="5557320"/>
              <a:ext cx="384120" cy="1843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8" y="7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5800" y="5603760"/>
              <a:ext cx="339840" cy="1731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6"/>
                  </a:moveTo>
                  <a:lnTo>
                    <a:pt x="35" y="16"/>
                  </a:lnTo>
                  <a:lnTo>
                    <a:pt x="33" y="10"/>
                  </a:lnTo>
                  <a:lnTo>
                    <a:pt x="29" y="3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7" y="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 rot="510000">
              <a:off x="4430880" y="5898240"/>
              <a:ext cx="196560" cy="1317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8" y="7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1565800">
              <a:off x="4586400" y="5889240"/>
              <a:ext cx="384120" cy="173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8" y="7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36960" y="5475240"/>
              <a:ext cx="1551240" cy="638280"/>
            </a:xfrm>
            <a:custGeom>
              <a:avLst/>
              <a:gdLst/>
              <a:ahLst/>
              <a:rect l="l" t="t" r="r" b="b"/>
              <a:pathLst>
                <a:path w="65" h="19">
                  <a:moveTo>
                    <a:pt x="56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65" y="19"/>
                  </a:ln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192560" y="5853960"/>
              <a:ext cx="357120" cy="18900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6"/>
                  </a:moveTo>
                  <a:lnTo>
                    <a:pt x="35" y="16"/>
                  </a:lnTo>
                  <a:lnTo>
                    <a:pt x="33" y="10"/>
                  </a:lnTo>
                  <a:lnTo>
                    <a:pt x="29" y="3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7" y="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38240" y="5761080"/>
              <a:ext cx="2702160" cy="106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60720" y="5165640"/>
              <a:ext cx="1862280" cy="295200"/>
            </a:xfrm>
            <a:custGeom>
              <a:avLst/>
              <a:gdLst/>
              <a:ahLst/>
              <a:rect l="l" t="t" r="r" b="b"/>
              <a:pathLst>
                <a:path w="1417" h="216">
                  <a:moveTo>
                    <a:pt x="0" y="83"/>
                  </a:moveTo>
                  <a:lnTo>
                    <a:pt x="55" y="125"/>
                  </a:lnTo>
                  <a:lnTo>
                    <a:pt x="189" y="125"/>
                  </a:lnTo>
                  <a:lnTo>
                    <a:pt x="275" y="144"/>
                  </a:lnTo>
                  <a:lnTo>
                    <a:pt x="929" y="144"/>
                  </a:lnTo>
                  <a:lnTo>
                    <a:pt x="929" y="216"/>
                  </a:lnTo>
                  <a:lnTo>
                    <a:pt x="1417" y="216"/>
                  </a:lnTo>
                  <a:lnTo>
                    <a:pt x="1417" y="160"/>
                  </a:lnTo>
                  <a:lnTo>
                    <a:pt x="889" y="68"/>
                  </a:lnTo>
                  <a:lnTo>
                    <a:pt x="685" y="68"/>
                  </a:lnTo>
                  <a:lnTo>
                    <a:pt x="685" y="0"/>
                  </a:lnTo>
                  <a:lnTo>
                    <a:pt x="289" y="0"/>
                  </a:lnTo>
                  <a:lnTo>
                    <a:pt x="291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481040" y="5029200"/>
              <a:ext cx="2865600" cy="249120"/>
              <a:chOff x="1481040" y="5029200"/>
              <a:chExt cx="2865600" cy="249120"/>
            </a:xfrm>
          </p:grpSpPr>
          <p:sp>
            <p:nvSpPr>
              <p:cNvPr id="67" name=""/>
              <p:cNvSpPr/>
              <p:nvPr/>
            </p:nvSpPr>
            <p:spPr>
              <a:xfrm>
                <a:off x="1481040" y="5029200"/>
                <a:ext cx="2865600" cy="249120"/>
              </a:xfrm>
              <a:custGeom>
                <a:avLst/>
                <a:gdLst/>
                <a:ahLst/>
                <a:rect l="l" t="t" r="r" b="b"/>
                <a:pathLst>
                  <a:path w="2180" h="182">
                    <a:moveTo>
                      <a:pt x="69" y="0"/>
                    </a:moveTo>
                    <a:lnTo>
                      <a:pt x="0" y="90"/>
                    </a:lnTo>
                    <a:lnTo>
                      <a:pt x="0" y="179"/>
                    </a:lnTo>
                    <a:lnTo>
                      <a:pt x="2178" y="182"/>
                    </a:lnTo>
                    <a:lnTo>
                      <a:pt x="2180" y="96"/>
                    </a:lnTo>
                    <a:lnTo>
                      <a:pt x="2111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81040" y="5150880"/>
                <a:ext cx="285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1473120" y="6318720"/>
              <a:ext cx="2871360" cy="250200"/>
              <a:chOff x="1473120" y="6318720"/>
              <a:chExt cx="2871360" cy="25020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1473120" y="6318360"/>
                <a:ext cx="2871360" cy="250200"/>
              </a:xfrm>
              <a:custGeom>
                <a:avLst/>
                <a:gdLst/>
                <a:ahLst/>
                <a:rect l="l" t="t" r="r" b="b"/>
                <a:pathLst>
                  <a:path w="1047" h="118">
                    <a:moveTo>
                      <a:pt x="33" y="3"/>
                    </a:moveTo>
                    <a:lnTo>
                      <a:pt x="0" y="61"/>
                    </a:lnTo>
                    <a:lnTo>
                      <a:pt x="0" y="118"/>
                    </a:lnTo>
                    <a:lnTo>
                      <a:pt x="1047" y="117"/>
                    </a:lnTo>
                    <a:lnTo>
                      <a:pt x="1047" y="60"/>
                    </a:lnTo>
                    <a:lnTo>
                      <a:pt x="1011" y="0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73120" y="6441840"/>
                <a:ext cx="287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1436760" y="5238720"/>
              <a:ext cx="1020600" cy="1119240"/>
            </a:xfrm>
            <a:custGeom>
              <a:avLst/>
              <a:gdLst/>
              <a:ahLst/>
              <a:rect l="l" t="t" r="r" b="b"/>
              <a:pathLst>
                <a:path w="776" h="841">
                  <a:moveTo>
                    <a:pt x="758" y="0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1" y="841"/>
                  </a:lnTo>
                  <a:lnTo>
                    <a:pt x="145" y="841"/>
                  </a:lnTo>
                  <a:lnTo>
                    <a:pt x="775" y="841"/>
                  </a:lnTo>
                  <a:lnTo>
                    <a:pt x="776" y="796"/>
                  </a:lnTo>
                  <a:lnTo>
                    <a:pt x="32" y="796"/>
                  </a:lnTo>
                  <a:lnTo>
                    <a:pt x="32" y="52"/>
                  </a:lnTo>
                  <a:lnTo>
                    <a:pt x="755" y="49"/>
                  </a:lnTo>
                  <a:lnTo>
                    <a:pt x="758" y="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81040" y="5359320"/>
              <a:ext cx="451080" cy="900360"/>
            </a:xfrm>
            <a:custGeom>
              <a:avLst/>
              <a:gdLst/>
              <a:ahLst/>
              <a:rect l="l" t="t" r="r" b="b"/>
              <a:pathLst>
                <a:path w="45" h="80">
                  <a:moveTo>
                    <a:pt x="0" y="0"/>
                  </a:moveTo>
                  <a:lnTo>
                    <a:pt x="45" y="0"/>
                  </a:lnTo>
                  <a:lnTo>
                    <a:pt x="45" y="80"/>
                  </a:lnTo>
                  <a:lnTo>
                    <a:pt x="0" y="80"/>
                  </a:lnTo>
                  <a:lnTo>
                    <a:pt x="0" y="62"/>
                  </a:lnTo>
                  <a:lnTo>
                    <a:pt x="26" y="62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26"/>
                  </a:lnTo>
                  <a:lnTo>
                    <a:pt x="25" y="26"/>
                  </a:lnTo>
                  <a:lnTo>
                    <a:pt x="25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960720" y="6132600"/>
              <a:ext cx="1863720" cy="295200"/>
            </a:xfrm>
            <a:custGeom>
              <a:avLst/>
              <a:gdLst/>
              <a:ahLst/>
              <a:rect l="l" t="t" r="r" b="b"/>
              <a:pathLst>
                <a:path w="1417" h="216">
                  <a:moveTo>
                    <a:pt x="0" y="83"/>
                  </a:moveTo>
                  <a:lnTo>
                    <a:pt x="55" y="125"/>
                  </a:lnTo>
                  <a:lnTo>
                    <a:pt x="189" y="125"/>
                  </a:lnTo>
                  <a:lnTo>
                    <a:pt x="275" y="144"/>
                  </a:lnTo>
                  <a:lnTo>
                    <a:pt x="929" y="144"/>
                  </a:lnTo>
                  <a:lnTo>
                    <a:pt x="929" y="216"/>
                  </a:lnTo>
                  <a:lnTo>
                    <a:pt x="1417" y="216"/>
                  </a:lnTo>
                  <a:lnTo>
                    <a:pt x="1417" y="160"/>
                  </a:lnTo>
                  <a:lnTo>
                    <a:pt x="889" y="68"/>
                  </a:lnTo>
                  <a:lnTo>
                    <a:pt x="685" y="68"/>
                  </a:lnTo>
                  <a:lnTo>
                    <a:pt x="685" y="0"/>
                  </a:lnTo>
                  <a:lnTo>
                    <a:pt x="289" y="0"/>
                  </a:lnTo>
                  <a:lnTo>
                    <a:pt x="291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41880" y="5705640"/>
              <a:ext cx="250920" cy="5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89400" y="5605560"/>
              <a:ext cx="158760" cy="95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6800" y="5267160"/>
              <a:ext cx="231480" cy="489240"/>
            </a:xfrm>
            <a:custGeom>
              <a:avLst/>
              <a:gdLst/>
              <a:ahLst/>
              <a:rect l="l" t="t" r="r" b="b"/>
              <a:pathLst>
                <a:path w="155" h="308">
                  <a:moveTo>
                    <a:pt x="57" y="308"/>
                  </a:moveTo>
                  <a:cubicBezTo>
                    <a:pt x="21" y="297"/>
                    <a:pt x="35" y="292"/>
                    <a:pt x="15" y="255"/>
                  </a:cubicBezTo>
                  <a:cubicBezTo>
                    <a:pt x="17" y="243"/>
                    <a:pt x="0" y="224"/>
                    <a:pt x="3" y="212"/>
                  </a:cubicBezTo>
                  <a:cubicBezTo>
                    <a:pt x="6" y="198"/>
                    <a:pt x="31" y="136"/>
                    <a:pt x="31" y="136"/>
                  </a:cubicBezTo>
                  <a:cubicBezTo>
                    <a:pt x="35" y="86"/>
                    <a:pt x="45" y="77"/>
                    <a:pt x="45" y="28"/>
                  </a:cubicBezTo>
                  <a:lnTo>
                    <a:pt x="155" y="28"/>
                  </a:lnTo>
                  <a:lnTo>
                    <a:pt x="151" y="0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62520" y="5286240"/>
              <a:ext cx="728640" cy="95400"/>
            </a:xfrm>
            <a:custGeom>
              <a:avLst/>
              <a:gdLst/>
              <a:ahLst/>
              <a:rect l="l" t="t" r="r" b="b"/>
              <a:pathLst>
                <a:path w="484" h="60">
                  <a:moveTo>
                    <a:pt x="0" y="0"/>
                  </a:moveTo>
                  <a:lnTo>
                    <a:pt x="48" y="40"/>
                  </a:lnTo>
                  <a:lnTo>
                    <a:pt x="176" y="40"/>
                  </a:lnTo>
                  <a:lnTo>
                    <a:pt x="260" y="60"/>
                  </a:lnTo>
                  <a:lnTo>
                    <a:pt x="484" y="60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14920" y="5470560"/>
              <a:ext cx="450720" cy="88920"/>
            </a:xfrm>
            <a:custGeom>
              <a:avLst/>
              <a:gdLst/>
              <a:ahLst/>
              <a:rect l="l" t="t" r="r" b="b"/>
              <a:pathLst>
                <a:path w="300" h="56">
                  <a:moveTo>
                    <a:pt x="300" y="0"/>
                  </a:moveTo>
                  <a:lnTo>
                    <a:pt x="84" y="0"/>
                  </a:lnTo>
                  <a:lnTo>
                    <a:pt x="84" y="52"/>
                  </a:lnTo>
                  <a:lnTo>
                    <a:pt x="0" y="56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08440" y="5749920"/>
              <a:ext cx="131760" cy="14616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0" y="0"/>
                  </a:moveTo>
                  <a:lnTo>
                    <a:pt x="88" y="0"/>
                  </a:lnTo>
                  <a:lnTo>
                    <a:pt x="84" y="84"/>
                  </a:lnTo>
                  <a:lnTo>
                    <a:pt x="0" y="9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14920" y="6060960"/>
              <a:ext cx="444600" cy="69840"/>
            </a:xfrm>
            <a:custGeom>
              <a:avLst/>
              <a:gdLst/>
              <a:ahLst/>
              <a:rect l="l" t="t" r="r" b="b"/>
              <a:pathLst>
                <a:path w="296" h="44">
                  <a:moveTo>
                    <a:pt x="296" y="44"/>
                  </a:moveTo>
                  <a:lnTo>
                    <a:pt x="80" y="44"/>
                  </a:lnTo>
                  <a:lnTo>
                    <a:pt x="80" y="0"/>
                  </a:lnTo>
                  <a:lnTo>
                    <a:pt x="0" y="8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02320" y="5381640"/>
              <a:ext cx="0" cy="177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02320" y="6067440"/>
              <a:ext cx="0" cy="177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02320" y="5737320"/>
              <a:ext cx="0" cy="164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76360" y="5311800"/>
              <a:ext cx="782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95280" y="5819760"/>
              <a:ext cx="5207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38200" y="5130720"/>
              <a:ext cx="2916360" cy="157320"/>
            </a:xfrm>
            <a:custGeom>
              <a:avLst/>
              <a:gdLst/>
              <a:ahLst/>
              <a:rect l="l" t="t" r="r" b="b"/>
              <a:pathLst>
                <a:path w="1938" h="99">
                  <a:moveTo>
                    <a:pt x="0" y="60"/>
                  </a:moveTo>
                  <a:lnTo>
                    <a:pt x="666" y="63"/>
                  </a:lnTo>
                  <a:lnTo>
                    <a:pt x="663" y="99"/>
                  </a:lnTo>
                  <a:lnTo>
                    <a:pt x="1935" y="99"/>
                  </a:lnTo>
                  <a:lnTo>
                    <a:pt x="193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11680" y="5369040"/>
              <a:ext cx="1284480" cy="99720"/>
            </a:xfrm>
            <a:custGeom>
              <a:avLst/>
              <a:gdLst/>
              <a:ahLst/>
              <a:rect l="l" t="t" r="r" b="b"/>
              <a:pathLst>
                <a:path w="854" h="63">
                  <a:moveTo>
                    <a:pt x="0" y="0"/>
                  </a:moveTo>
                  <a:lnTo>
                    <a:pt x="306" y="0"/>
                  </a:lnTo>
                  <a:lnTo>
                    <a:pt x="312" y="63"/>
                  </a:lnTo>
                  <a:lnTo>
                    <a:pt x="854" y="59"/>
                  </a:lnTo>
                </a:path>
              </a:pathLst>
            </a:custGeom>
            <a:noFill/>
            <a:ln w="47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952800" y="6229440"/>
              <a:ext cx="728640" cy="95040"/>
            </a:xfrm>
            <a:custGeom>
              <a:avLst/>
              <a:gdLst/>
              <a:ahLst/>
              <a:rect l="l" t="t" r="r" b="b"/>
              <a:pathLst>
                <a:path w="484" h="60">
                  <a:moveTo>
                    <a:pt x="0" y="0"/>
                  </a:moveTo>
                  <a:lnTo>
                    <a:pt x="48" y="40"/>
                  </a:lnTo>
                  <a:lnTo>
                    <a:pt x="176" y="40"/>
                  </a:lnTo>
                  <a:lnTo>
                    <a:pt x="260" y="60"/>
                  </a:lnTo>
                  <a:lnTo>
                    <a:pt x="484" y="60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721400" y="6121440"/>
              <a:ext cx="1284120" cy="100080"/>
            </a:xfrm>
            <a:custGeom>
              <a:avLst/>
              <a:gdLst/>
              <a:ahLst/>
              <a:rect l="l" t="t" r="r" b="b"/>
              <a:pathLst>
                <a:path w="854" h="63">
                  <a:moveTo>
                    <a:pt x="0" y="0"/>
                  </a:moveTo>
                  <a:lnTo>
                    <a:pt x="306" y="0"/>
                  </a:lnTo>
                  <a:lnTo>
                    <a:pt x="312" y="63"/>
                  </a:lnTo>
                  <a:lnTo>
                    <a:pt x="854" y="59"/>
                  </a:lnTo>
                </a:path>
              </a:pathLst>
            </a:custGeom>
            <a:noFill/>
            <a:ln w="47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438200" y="6321600"/>
              <a:ext cx="2916360" cy="156960"/>
            </a:xfrm>
            <a:custGeom>
              <a:avLst/>
              <a:gdLst/>
              <a:ahLst/>
              <a:rect l="l" t="t" r="r" b="b"/>
              <a:pathLst>
                <a:path w="1938" h="99">
                  <a:moveTo>
                    <a:pt x="0" y="60"/>
                  </a:moveTo>
                  <a:lnTo>
                    <a:pt x="666" y="63"/>
                  </a:lnTo>
                  <a:lnTo>
                    <a:pt x="663" y="99"/>
                  </a:lnTo>
                  <a:lnTo>
                    <a:pt x="1935" y="99"/>
                  </a:lnTo>
                  <a:lnTo>
                    <a:pt x="193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 flipV="1">
            <a:off x="4724280" y="2971440"/>
            <a:ext cx="0" cy="25146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562720" y="2819160"/>
            <a:ext cx="0" cy="25146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95280" y="1600200"/>
            <a:ext cx="5035680" cy="1539720"/>
            <a:chOff x="1295280" y="1600200"/>
            <a:chExt cx="5035680" cy="1539720"/>
          </a:xfrm>
        </p:grpSpPr>
        <p:sp>
          <p:nvSpPr>
            <p:cNvPr id="95" name=""/>
            <p:cNvSpPr/>
            <p:nvPr/>
          </p:nvSpPr>
          <p:spPr>
            <a:xfrm>
              <a:off x="2065320" y="1771560"/>
              <a:ext cx="2739960" cy="1157400"/>
            </a:xfrm>
            <a:custGeom>
              <a:avLst/>
              <a:gdLst/>
              <a:ahLst/>
              <a:rect l="l" t="t" r="r" b="b"/>
              <a:pathLst>
                <a:path w="106" h="66">
                  <a:moveTo>
                    <a:pt x="5" y="0"/>
                  </a:moveTo>
                  <a:cubicBezTo>
                    <a:pt x="4" y="2"/>
                    <a:pt x="3" y="4"/>
                    <a:pt x="2" y="6"/>
                  </a:cubicBezTo>
                  <a:cubicBezTo>
                    <a:pt x="0" y="12"/>
                    <a:pt x="0" y="20"/>
                    <a:pt x="2" y="26"/>
                  </a:cubicBezTo>
                  <a:cubicBezTo>
                    <a:pt x="3" y="29"/>
                    <a:pt x="5" y="34"/>
                    <a:pt x="5" y="34"/>
                  </a:cubicBezTo>
                  <a:cubicBezTo>
                    <a:pt x="4" y="45"/>
                    <a:pt x="3" y="55"/>
                    <a:pt x="3" y="66"/>
                  </a:cubicBezTo>
                  <a:lnTo>
                    <a:pt x="76" y="63"/>
                  </a:lnTo>
                  <a:lnTo>
                    <a:pt x="96" y="59"/>
                  </a:lnTo>
                  <a:lnTo>
                    <a:pt x="103" y="58"/>
                  </a:lnTo>
                  <a:cubicBezTo>
                    <a:pt x="105" y="56"/>
                    <a:pt x="100" y="52"/>
                    <a:pt x="100" y="50"/>
                  </a:cubicBezTo>
                  <a:cubicBezTo>
                    <a:pt x="99" y="44"/>
                    <a:pt x="100" y="43"/>
                    <a:pt x="99" y="37"/>
                  </a:cubicBezTo>
                  <a:cubicBezTo>
                    <a:pt x="99" y="33"/>
                    <a:pt x="98" y="23"/>
                    <a:pt x="100" y="20"/>
                  </a:cubicBezTo>
                  <a:cubicBezTo>
                    <a:pt x="101" y="17"/>
                    <a:pt x="106" y="8"/>
                    <a:pt x="104" y="7"/>
                  </a:cubicBezTo>
                  <a:lnTo>
                    <a:pt x="88" y="6"/>
                  </a:lnTo>
                  <a:lnTo>
                    <a:pt x="71" y="0"/>
                  </a:lnTo>
                  <a:lnTo>
                    <a:pt x="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10800000">
              <a:off x="1416600" y="2230200"/>
              <a:ext cx="1111320" cy="54900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45" y="0"/>
                  </a:moveTo>
                  <a:lnTo>
                    <a:pt x="0" y="0"/>
                  </a:lnTo>
                  <a:lnTo>
                    <a:pt x="0" y="28"/>
                  </a:lnTo>
                  <a:cubicBezTo>
                    <a:pt x="41" y="26"/>
                    <a:pt x="54" y="39"/>
                    <a:pt x="44" y="23"/>
                  </a:cubicBezTo>
                  <a:cubicBezTo>
                    <a:pt x="41" y="18"/>
                    <a:pt x="46" y="27"/>
                    <a:pt x="42" y="20"/>
                  </a:cubicBezTo>
                  <a:cubicBezTo>
                    <a:pt x="42" y="17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3040" y="2298600"/>
              <a:ext cx="715680" cy="279360"/>
            </a:xfrm>
            <a:custGeom>
              <a:avLst/>
              <a:gdLst/>
              <a:ahLst/>
              <a:rect l="l" t="t" r="r" b="b"/>
              <a:pathLst>
                <a:path w="140" h="11">
                  <a:moveTo>
                    <a:pt x="0" y="1"/>
                  </a:moveTo>
                  <a:cubicBezTo>
                    <a:pt x="3" y="1"/>
                    <a:pt x="12" y="0"/>
                    <a:pt x="21" y="1"/>
                  </a:cubicBezTo>
                  <a:cubicBezTo>
                    <a:pt x="30" y="2"/>
                    <a:pt x="46" y="4"/>
                    <a:pt x="55" y="6"/>
                  </a:cubicBezTo>
                  <a:cubicBezTo>
                    <a:pt x="64" y="8"/>
                    <a:pt x="67" y="11"/>
                    <a:pt x="77" y="10"/>
                  </a:cubicBezTo>
                  <a:cubicBezTo>
                    <a:pt x="87" y="9"/>
                    <a:pt x="103" y="2"/>
                    <a:pt x="113" y="1"/>
                  </a:cubicBezTo>
                  <a:cubicBezTo>
                    <a:pt x="123" y="0"/>
                    <a:pt x="135" y="1"/>
                    <a:pt x="140" y="1"/>
                  </a:cubicBezTo>
                </a:path>
              </a:pathLst>
            </a:custGeom>
            <a:noFill/>
            <a:ln w="255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49680" y="2344680"/>
              <a:ext cx="1403280" cy="676440"/>
            </a:xfrm>
            <a:custGeom>
              <a:avLst/>
              <a:gdLst/>
              <a:ahLst/>
              <a:rect l="l" t="t" r="r" b="b"/>
              <a:pathLst>
                <a:path w="964" h="426">
                  <a:moveTo>
                    <a:pt x="0" y="416"/>
                  </a:moveTo>
                  <a:lnTo>
                    <a:pt x="328" y="426"/>
                  </a:lnTo>
                  <a:lnTo>
                    <a:pt x="455" y="358"/>
                  </a:lnTo>
                  <a:lnTo>
                    <a:pt x="659" y="306"/>
                  </a:lnTo>
                  <a:lnTo>
                    <a:pt x="754" y="281"/>
                  </a:lnTo>
                  <a:lnTo>
                    <a:pt x="907" y="269"/>
                  </a:lnTo>
                  <a:lnTo>
                    <a:pt x="954" y="269"/>
                  </a:lnTo>
                  <a:lnTo>
                    <a:pt x="964" y="0"/>
                  </a:lnTo>
                  <a:lnTo>
                    <a:pt x="10" y="0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66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41760" y="1738440"/>
              <a:ext cx="1411200" cy="658800"/>
            </a:xfrm>
            <a:custGeom>
              <a:avLst/>
              <a:gdLst/>
              <a:ahLst/>
              <a:rect l="l" t="t" r="r" b="b"/>
              <a:pathLst>
                <a:path w="969" h="415">
                  <a:moveTo>
                    <a:pt x="0" y="3"/>
                  </a:moveTo>
                  <a:lnTo>
                    <a:pt x="341" y="0"/>
                  </a:lnTo>
                  <a:lnTo>
                    <a:pt x="498" y="59"/>
                  </a:lnTo>
                  <a:lnTo>
                    <a:pt x="662" y="112"/>
                  </a:lnTo>
                  <a:lnTo>
                    <a:pt x="758" y="136"/>
                  </a:lnTo>
                  <a:lnTo>
                    <a:pt x="911" y="148"/>
                  </a:lnTo>
                  <a:lnTo>
                    <a:pt x="959" y="148"/>
                  </a:lnTo>
                  <a:lnTo>
                    <a:pt x="969" y="415"/>
                  </a:lnTo>
                  <a:lnTo>
                    <a:pt x="10" y="41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6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1000" y="2271600"/>
              <a:ext cx="243000" cy="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72120" y="2166840"/>
              <a:ext cx="152280" cy="104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1502800">
              <a:off x="4844520" y="2179800"/>
              <a:ext cx="192240" cy="12204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8" y="7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2400">
              <a:off x="5016240" y="2116080"/>
              <a:ext cx="369720" cy="2509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8" y="7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65600" y="2158920"/>
              <a:ext cx="297000" cy="18900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6"/>
                  </a:moveTo>
                  <a:lnTo>
                    <a:pt x="35" y="16"/>
                  </a:lnTo>
                  <a:lnTo>
                    <a:pt x="33" y="10"/>
                  </a:lnTo>
                  <a:lnTo>
                    <a:pt x="29" y="3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7" y="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510000">
              <a:off x="4859280" y="2469240"/>
              <a:ext cx="192240" cy="1317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8" y="7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800">
              <a:off x="5013360" y="2403000"/>
              <a:ext cx="369720" cy="2653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8" y="7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19640" y="2055960"/>
              <a:ext cx="1035000" cy="639720"/>
            </a:xfrm>
            <a:custGeom>
              <a:avLst/>
              <a:gdLst/>
              <a:ahLst/>
              <a:rect l="l" t="t" r="r" b="b"/>
              <a:pathLst>
                <a:path w="65" h="19">
                  <a:moveTo>
                    <a:pt x="56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65" y="19"/>
                  </a:ln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651200" y="2415600"/>
              <a:ext cx="324000" cy="1983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6"/>
                  </a:moveTo>
                  <a:lnTo>
                    <a:pt x="35" y="16"/>
                  </a:lnTo>
                  <a:lnTo>
                    <a:pt x="33" y="10"/>
                  </a:lnTo>
                  <a:lnTo>
                    <a:pt x="29" y="3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7" y="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1120" y="2338560"/>
              <a:ext cx="1336680" cy="99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00600" y="1744560"/>
              <a:ext cx="900000" cy="588960"/>
            </a:xfrm>
            <a:custGeom>
              <a:avLst/>
              <a:gdLst/>
              <a:ahLst/>
              <a:rect l="l" t="t" r="r" b="b"/>
              <a:pathLst>
                <a:path w="707" h="431">
                  <a:moveTo>
                    <a:pt x="0" y="59"/>
                  </a:moveTo>
                  <a:lnTo>
                    <a:pt x="55" y="104"/>
                  </a:lnTo>
                  <a:lnTo>
                    <a:pt x="189" y="104"/>
                  </a:lnTo>
                  <a:lnTo>
                    <a:pt x="275" y="163"/>
                  </a:lnTo>
                  <a:lnTo>
                    <a:pt x="369" y="178"/>
                  </a:lnTo>
                  <a:lnTo>
                    <a:pt x="497" y="431"/>
                  </a:lnTo>
                  <a:lnTo>
                    <a:pt x="563" y="428"/>
                  </a:lnTo>
                  <a:lnTo>
                    <a:pt x="566" y="173"/>
                  </a:lnTo>
                  <a:lnTo>
                    <a:pt x="614" y="116"/>
                  </a:lnTo>
                  <a:lnTo>
                    <a:pt x="707" y="116"/>
                  </a:lnTo>
                  <a:lnTo>
                    <a:pt x="707" y="44"/>
                  </a:lnTo>
                  <a:lnTo>
                    <a:pt x="534" y="45"/>
                  </a:lnTo>
                  <a:lnTo>
                    <a:pt x="534" y="0"/>
                  </a:lnTo>
                  <a:lnTo>
                    <a:pt x="495" y="0"/>
                  </a:lnTo>
                  <a:lnTo>
                    <a:pt x="291" y="0"/>
                  </a:lnTo>
                  <a:lnTo>
                    <a:pt x="291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 rot="10800000">
              <a:off x="1436760" y="1935720"/>
              <a:ext cx="1101600" cy="62532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45" y="0"/>
                  </a:moveTo>
                  <a:lnTo>
                    <a:pt x="0" y="0"/>
                  </a:lnTo>
                  <a:lnTo>
                    <a:pt x="0" y="28"/>
                  </a:lnTo>
                  <a:cubicBezTo>
                    <a:pt x="41" y="26"/>
                    <a:pt x="54" y="39"/>
                    <a:pt x="44" y="23"/>
                  </a:cubicBezTo>
                  <a:cubicBezTo>
                    <a:pt x="41" y="18"/>
                    <a:pt x="46" y="27"/>
                    <a:pt x="42" y="20"/>
                  </a:cubicBezTo>
                  <a:cubicBezTo>
                    <a:pt x="42" y="17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rot="16200000">
              <a:off x="1464120" y="1795320"/>
              <a:ext cx="1031760" cy="1136520"/>
            </a:xfrm>
            <a:custGeom>
              <a:avLst/>
              <a:gdLst/>
              <a:ahLst/>
              <a:rect l="l" t="t" r="r" b="b"/>
              <a:pathLst>
                <a:path w="112" h="96">
                  <a:moveTo>
                    <a:pt x="112" y="94"/>
                  </a:moveTo>
                  <a:lnTo>
                    <a:pt x="112" y="17"/>
                  </a:lnTo>
                  <a:lnTo>
                    <a:pt x="108" y="17"/>
                  </a:lnTo>
                  <a:lnTo>
                    <a:pt x="108" y="0"/>
                  </a:lnTo>
                  <a:lnTo>
                    <a:pt x="5" y="0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96"/>
                  </a:lnTo>
                  <a:lnTo>
                    <a:pt x="11" y="96"/>
                  </a:lnTo>
                  <a:lnTo>
                    <a:pt x="11" y="3"/>
                  </a:lnTo>
                  <a:lnTo>
                    <a:pt x="101" y="3"/>
                  </a:lnTo>
                  <a:lnTo>
                    <a:pt x="101" y="94"/>
                  </a:lnTo>
                  <a:lnTo>
                    <a:pt x="112" y="94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rot="10800000">
              <a:off x="1454040" y="1974960"/>
              <a:ext cx="503280" cy="777600"/>
            </a:xfrm>
            <a:custGeom>
              <a:avLst/>
              <a:gdLst/>
              <a:ahLst/>
              <a:rect l="l" t="t" r="r" b="b"/>
              <a:pathLst>
                <a:path w="45" h="80">
                  <a:moveTo>
                    <a:pt x="0" y="0"/>
                  </a:moveTo>
                  <a:lnTo>
                    <a:pt x="45" y="0"/>
                  </a:lnTo>
                  <a:lnTo>
                    <a:pt x="45" y="80"/>
                  </a:lnTo>
                  <a:lnTo>
                    <a:pt x="0" y="80"/>
                  </a:lnTo>
                  <a:lnTo>
                    <a:pt x="0" y="62"/>
                  </a:lnTo>
                  <a:lnTo>
                    <a:pt x="26" y="62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26"/>
                  </a:lnTo>
                  <a:lnTo>
                    <a:pt x="25" y="26"/>
                  </a:lnTo>
                  <a:lnTo>
                    <a:pt x="25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rot="10800000">
              <a:off x="1962000" y="2338200"/>
              <a:ext cx="1214640" cy="90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rot="16200000">
              <a:off x="1730880" y="2538360"/>
              <a:ext cx="141480" cy="747720"/>
            </a:xfrm>
            <a:custGeom>
              <a:avLst/>
              <a:gdLst/>
              <a:ahLst/>
              <a:rect l="l" t="t" r="r" b="b"/>
              <a:pathLst>
                <a:path w="15" h="64">
                  <a:moveTo>
                    <a:pt x="15" y="0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5" y="64"/>
                  </a:lnTo>
                  <a:lnTo>
                    <a:pt x="5" y="12"/>
                  </a:lnTo>
                  <a:lnTo>
                    <a:pt x="15" y="1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16200000">
              <a:off x="1747080" y="1432440"/>
              <a:ext cx="139680" cy="779760"/>
            </a:xfrm>
            <a:custGeom>
              <a:avLst/>
              <a:gdLst/>
              <a:ahLst/>
              <a:rect l="l" t="t" r="r" b="b"/>
              <a:pathLst>
                <a:path w="15" h="66">
                  <a:moveTo>
                    <a:pt x="0" y="1"/>
                  </a:moveTo>
                  <a:lnTo>
                    <a:pt x="14" y="1"/>
                  </a:lnTo>
                  <a:lnTo>
                    <a:pt x="15" y="0"/>
                  </a:lnTo>
                  <a:lnTo>
                    <a:pt x="15" y="66"/>
                  </a:lnTo>
                  <a:lnTo>
                    <a:pt x="10" y="66"/>
                  </a:lnTo>
                  <a:lnTo>
                    <a:pt x="10" y="14"/>
                  </a:lnTo>
                  <a:lnTo>
                    <a:pt x="0" y="1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496880" y="1600200"/>
              <a:ext cx="2772000" cy="249120"/>
              <a:chOff x="1496880" y="1600200"/>
              <a:chExt cx="2772000" cy="249120"/>
            </a:xfrm>
          </p:grpSpPr>
          <p:sp>
            <p:nvSpPr>
              <p:cNvPr id="118" name=""/>
              <p:cNvSpPr/>
              <p:nvPr/>
            </p:nvSpPr>
            <p:spPr>
              <a:xfrm>
                <a:off x="1496880" y="1600200"/>
                <a:ext cx="2772000" cy="249120"/>
              </a:xfrm>
              <a:custGeom>
                <a:avLst/>
                <a:gdLst/>
                <a:ahLst/>
                <a:rect l="l" t="t" r="r" b="b"/>
                <a:pathLst>
                  <a:path w="2180" h="182">
                    <a:moveTo>
                      <a:pt x="69" y="0"/>
                    </a:moveTo>
                    <a:lnTo>
                      <a:pt x="0" y="90"/>
                    </a:lnTo>
                    <a:lnTo>
                      <a:pt x="0" y="179"/>
                    </a:lnTo>
                    <a:lnTo>
                      <a:pt x="2178" y="182"/>
                    </a:lnTo>
                    <a:lnTo>
                      <a:pt x="2180" y="96"/>
                    </a:lnTo>
                    <a:lnTo>
                      <a:pt x="2111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96880" y="1721880"/>
                <a:ext cx="276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895560" y="2449440"/>
              <a:ext cx="900360" cy="560520"/>
            </a:xfrm>
            <a:custGeom>
              <a:avLst/>
              <a:gdLst/>
              <a:ahLst/>
              <a:rect l="l" t="t" r="r" b="b"/>
              <a:pathLst>
                <a:path w="707" h="410">
                  <a:moveTo>
                    <a:pt x="0" y="354"/>
                  </a:moveTo>
                  <a:lnTo>
                    <a:pt x="68" y="293"/>
                  </a:lnTo>
                  <a:lnTo>
                    <a:pt x="179" y="296"/>
                  </a:lnTo>
                  <a:lnTo>
                    <a:pt x="275" y="255"/>
                  </a:lnTo>
                  <a:lnTo>
                    <a:pt x="369" y="241"/>
                  </a:lnTo>
                  <a:lnTo>
                    <a:pt x="497" y="0"/>
                  </a:lnTo>
                  <a:lnTo>
                    <a:pt x="563" y="3"/>
                  </a:lnTo>
                  <a:lnTo>
                    <a:pt x="566" y="245"/>
                  </a:lnTo>
                  <a:lnTo>
                    <a:pt x="614" y="300"/>
                  </a:lnTo>
                  <a:lnTo>
                    <a:pt x="707" y="300"/>
                  </a:lnTo>
                  <a:lnTo>
                    <a:pt x="707" y="368"/>
                  </a:lnTo>
                  <a:lnTo>
                    <a:pt x="534" y="367"/>
                  </a:lnTo>
                  <a:lnTo>
                    <a:pt x="534" y="410"/>
                  </a:lnTo>
                  <a:lnTo>
                    <a:pt x="495" y="410"/>
                  </a:lnTo>
                  <a:lnTo>
                    <a:pt x="291" y="410"/>
                  </a:lnTo>
                  <a:lnTo>
                    <a:pt x="291" y="354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488960" y="2889720"/>
              <a:ext cx="2776320" cy="250200"/>
              <a:chOff x="1488960" y="2889720"/>
              <a:chExt cx="2776320" cy="250200"/>
            </a:xfrm>
          </p:grpSpPr>
          <p:sp>
            <p:nvSpPr>
              <p:cNvPr id="122" name=""/>
              <p:cNvSpPr/>
              <p:nvPr/>
            </p:nvSpPr>
            <p:spPr>
              <a:xfrm flipV="1">
                <a:off x="1488960" y="2889000"/>
                <a:ext cx="2776320" cy="250200"/>
              </a:xfrm>
              <a:custGeom>
                <a:avLst/>
                <a:gdLst/>
                <a:ahLst/>
                <a:rect l="l" t="t" r="r" b="b"/>
                <a:pathLst>
                  <a:path w="1047" h="118">
                    <a:moveTo>
                      <a:pt x="33" y="3"/>
                    </a:moveTo>
                    <a:lnTo>
                      <a:pt x="0" y="61"/>
                    </a:lnTo>
                    <a:lnTo>
                      <a:pt x="0" y="118"/>
                    </a:lnTo>
                    <a:lnTo>
                      <a:pt x="1047" y="117"/>
                    </a:lnTo>
                    <a:lnTo>
                      <a:pt x="1047" y="60"/>
                    </a:lnTo>
                    <a:lnTo>
                      <a:pt x="1011" y="0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88960" y="3012840"/>
                <a:ext cx="27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927600" y="1854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09960" y="1847880"/>
              <a:ext cx="611280" cy="476280"/>
            </a:xfrm>
            <a:custGeom>
              <a:avLst/>
              <a:gdLst/>
              <a:ahLst/>
              <a:rect l="l" t="t" r="r" b="b"/>
              <a:pathLst>
                <a:path w="408" h="296">
                  <a:moveTo>
                    <a:pt x="0" y="0"/>
                  </a:moveTo>
                  <a:lnTo>
                    <a:pt x="28" y="28"/>
                  </a:lnTo>
                  <a:lnTo>
                    <a:pt x="156" y="28"/>
                  </a:lnTo>
                  <a:lnTo>
                    <a:pt x="220" y="72"/>
                  </a:lnTo>
                  <a:lnTo>
                    <a:pt x="304" y="88"/>
                  </a:lnTo>
                  <a:lnTo>
                    <a:pt x="408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8480" y="1746360"/>
              <a:ext cx="222120" cy="583920"/>
            </a:xfrm>
            <a:custGeom>
              <a:avLst/>
              <a:gdLst/>
              <a:ahLst/>
              <a:rect l="l" t="t" r="r" b="b"/>
              <a:pathLst>
                <a:path w="152" h="380">
                  <a:moveTo>
                    <a:pt x="0" y="0"/>
                  </a:moveTo>
                  <a:lnTo>
                    <a:pt x="0" y="40"/>
                  </a:lnTo>
                  <a:lnTo>
                    <a:pt x="152" y="40"/>
                  </a:lnTo>
                  <a:lnTo>
                    <a:pt x="152" y="104"/>
                  </a:lnTo>
                  <a:lnTo>
                    <a:pt x="72" y="108"/>
                  </a:lnTo>
                  <a:lnTo>
                    <a:pt x="28" y="160"/>
                  </a:lnTo>
                  <a:lnTo>
                    <a:pt x="28" y="380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14800" y="2057400"/>
              <a:ext cx="938160" cy="114480"/>
            </a:xfrm>
            <a:custGeom>
              <a:avLst/>
              <a:gdLst/>
              <a:ahLst/>
              <a:rect l="l" t="t" r="r" b="b"/>
              <a:pathLst>
                <a:path w="584" h="79">
                  <a:moveTo>
                    <a:pt x="0" y="79"/>
                  </a:moveTo>
                  <a:lnTo>
                    <a:pt x="0" y="43"/>
                  </a:lnTo>
                  <a:lnTo>
                    <a:pt x="140" y="39"/>
                  </a:lnTo>
                  <a:lnTo>
                    <a:pt x="144" y="3"/>
                  </a:lnTo>
                  <a:lnTo>
                    <a:pt x="584" y="0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03640" y="2305080"/>
              <a:ext cx="216000" cy="177840"/>
            </a:xfrm>
            <a:custGeom>
              <a:avLst/>
              <a:gdLst/>
              <a:ahLst/>
              <a:rect l="l" t="t" r="r" b="b"/>
              <a:pathLst>
                <a:path w="148" h="104">
                  <a:moveTo>
                    <a:pt x="0" y="0"/>
                  </a:moveTo>
                  <a:lnTo>
                    <a:pt x="4" y="40"/>
                  </a:lnTo>
                  <a:lnTo>
                    <a:pt x="148" y="40"/>
                  </a:lnTo>
                  <a:lnTo>
                    <a:pt x="144" y="64"/>
                  </a:lnTo>
                  <a:lnTo>
                    <a:pt x="4" y="64"/>
                  </a:lnTo>
                  <a:lnTo>
                    <a:pt x="8" y="10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97520" y="2600280"/>
              <a:ext cx="955440" cy="120600"/>
            </a:xfrm>
            <a:custGeom>
              <a:avLst/>
              <a:gdLst/>
              <a:ahLst/>
              <a:rect l="l" t="t" r="r" b="b"/>
              <a:pathLst>
                <a:path w="626" h="60">
                  <a:moveTo>
                    <a:pt x="0" y="0"/>
                  </a:moveTo>
                  <a:lnTo>
                    <a:pt x="8" y="32"/>
                  </a:lnTo>
                  <a:lnTo>
                    <a:pt x="156" y="32"/>
                  </a:lnTo>
                  <a:lnTo>
                    <a:pt x="156" y="60"/>
                  </a:lnTo>
                  <a:lnTo>
                    <a:pt x="626" y="60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00400" y="1847880"/>
              <a:ext cx="252360" cy="476280"/>
            </a:xfrm>
            <a:custGeom>
              <a:avLst/>
              <a:gdLst/>
              <a:ahLst/>
              <a:rect l="l" t="t" r="r" b="b"/>
              <a:pathLst>
                <a:path w="173" h="300">
                  <a:moveTo>
                    <a:pt x="53" y="300"/>
                  </a:moveTo>
                  <a:cubicBezTo>
                    <a:pt x="25" y="284"/>
                    <a:pt x="21" y="282"/>
                    <a:pt x="1" y="252"/>
                  </a:cubicBezTo>
                  <a:cubicBezTo>
                    <a:pt x="3" y="242"/>
                    <a:pt x="0" y="236"/>
                    <a:pt x="3" y="226"/>
                  </a:cubicBezTo>
                  <a:cubicBezTo>
                    <a:pt x="6" y="214"/>
                    <a:pt x="37" y="108"/>
                    <a:pt x="37" y="108"/>
                  </a:cubicBezTo>
                  <a:cubicBezTo>
                    <a:pt x="41" y="67"/>
                    <a:pt x="27" y="112"/>
                    <a:pt x="27" y="72"/>
                  </a:cubicBezTo>
                  <a:lnTo>
                    <a:pt x="173" y="72"/>
                  </a:lnTo>
                  <a:lnTo>
                    <a:pt x="173" y="0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52600" y="1955880"/>
              <a:ext cx="87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95280" y="2387520"/>
              <a:ext cx="5035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81040" y="1714680"/>
              <a:ext cx="2799000" cy="128520"/>
            </a:xfrm>
            <a:custGeom>
              <a:avLst/>
              <a:gdLst/>
              <a:ahLst/>
              <a:rect l="l" t="t" r="r" b="b"/>
              <a:pathLst>
                <a:path w="1923" h="81">
                  <a:moveTo>
                    <a:pt x="0" y="6"/>
                  </a:moveTo>
                  <a:lnTo>
                    <a:pt x="0" y="81"/>
                  </a:lnTo>
                  <a:lnTo>
                    <a:pt x="1920" y="81"/>
                  </a:lnTo>
                  <a:lnTo>
                    <a:pt x="192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911760" y="2418480"/>
              <a:ext cx="610920" cy="476280"/>
            </a:xfrm>
            <a:custGeom>
              <a:avLst/>
              <a:gdLst/>
              <a:ahLst/>
              <a:rect l="l" t="t" r="r" b="b"/>
              <a:pathLst>
                <a:path w="408" h="296">
                  <a:moveTo>
                    <a:pt x="0" y="0"/>
                  </a:moveTo>
                  <a:lnTo>
                    <a:pt x="28" y="28"/>
                  </a:lnTo>
                  <a:lnTo>
                    <a:pt x="156" y="28"/>
                  </a:lnTo>
                  <a:lnTo>
                    <a:pt x="220" y="72"/>
                  </a:lnTo>
                  <a:lnTo>
                    <a:pt x="304" y="88"/>
                  </a:lnTo>
                  <a:lnTo>
                    <a:pt x="408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578480" y="2432160"/>
              <a:ext cx="222120" cy="583920"/>
            </a:xfrm>
            <a:custGeom>
              <a:avLst/>
              <a:gdLst/>
              <a:ahLst/>
              <a:rect l="l" t="t" r="r" b="b"/>
              <a:pathLst>
                <a:path w="152" h="380">
                  <a:moveTo>
                    <a:pt x="0" y="0"/>
                  </a:moveTo>
                  <a:lnTo>
                    <a:pt x="0" y="40"/>
                  </a:lnTo>
                  <a:lnTo>
                    <a:pt x="152" y="40"/>
                  </a:lnTo>
                  <a:lnTo>
                    <a:pt x="152" y="104"/>
                  </a:lnTo>
                  <a:lnTo>
                    <a:pt x="72" y="108"/>
                  </a:lnTo>
                  <a:lnTo>
                    <a:pt x="28" y="160"/>
                  </a:lnTo>
                  <a:lnTo>
                    <a:pt x="28" y="380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490760" y="2913480"/>
              <a:ext cx="2798640" cy="128520"/>
            </a:xfrm>
            <a:custGeom>
              <a:avLst/>
              <a:gdLst/>
              <a:ahLst/>
              <a:rect l="l" t="t" r="r" b="b"/>
              <a:pathLst>
                <a:path w="1923" h="81">
                  <a:moveTo>
                    <a:pt x="0" y="6"/>
                  </a:moveTo>
                  <a:lnTo>
                    <a:pt x="0" y="81"/>
                  </a:lnTo>
                  <a:lnTo>
                    <a:pt x="1920" y="81"/>
                  </a:lnTo>
                  <a:lnTo>
                    <a:pt x="192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2743200" cy="825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high water-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343040" y="2742840"/>
            <a:ext cx="152280" cy="25909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334120" y="2666880"/>
            <a:ext cx="0" cy="281952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59000" y="186516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25840" y="1960200"/>
            <a:ext cx="74124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645080" y="1712880"/>
            <a:ext cx="738000" cy="3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560" y="151776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559480" y="1712880"/>
            <a:ext cx="738000" cy="3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78400" y="148752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39280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728880" y="5385960"/>
            <a:ext cx="45108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718160" y="6137280"/>
            <a:ext cx="85392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24560" y="626436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022360" y="5776920"/>
            <a:ext cx="738360" cy="3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3560" y="556560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52480" y="5105520"/>
            <a:ext cx="327672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Times New Roman"/>
              </a:rPr>
              <a:t>Criter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1) Drift of Sr should be less than 10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) Insulation resistance should be more than  10M oh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( measured by 500VD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3) Dielectric strength should be more than 1000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(1000V / 1 minute Leakage current should &lt;1 mA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1520" y="0"/>
            <a:ext cx="175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ＭＳ Ｐゴシック"/>
              </a:rPr>
              <a:t>Conf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959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04560" y="1981080"/>
            <a:ext cx="228600" cy="990720"/>
            <a:chOff x="304560" y="1981080"/>
            <a:chExt cx="228600" cy="990720"/>
          </a:xfrm>
        </p:grpSpPr>
        <p:sp>
          <p:nvSpPr>
            <p:cNvPr id="156" name=""/>
            <p:cNvSpPr/>
            <p:nvPr/>
          </p:nvSpPr>
          <p:spPr>
            <a:xfrm flipV="1">
              <a:off x="501480" y="235440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04560" y="1981080"/>
              <a:ext cx="228600" cy="990720"/>
              <a:chOff x="304560" y="1981080"/>
              <a:chExt cx="228600" cy="990720"/>
            </a:xfrm>
          </p:grpSpPr>
          <p:sp>
            <p:nvSpPr>
              <p:cNvPr id="158" name=""/>
              <p:cNvSpPr/>
              <p:nvPr/>
            </p:nvSpPr>
            <p:spPr>
              <a:xfrm flipV="1">
                <a:off x="514440" y="244476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383760" y="23209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3120" y="229788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395280" y="222012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394200" y="22068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402480" y="219240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394200" y="21769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95640" y="21765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476640" y="22068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468360" y="219492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76640" y="217800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482400" y="23378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481320" y="230004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394560" y="23378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383760" y="233784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3760" y="232092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392040" y="229860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flipV="1">
                <a:off x="304560" y="29552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304920" y="29386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304560" y="292212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304920" y="2905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304560" y="2889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304920" y="28731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304560" y="28562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304920" y="28400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304560" y="28234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304920" y="28069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304560" y="27903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04920" y="27738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304560" y="27572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304920" y="27410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304560" y="272412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04920" y="27075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304560" y="26910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304920" y="26744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304560" y="2657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304920" y="26413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>
                <a:off x="304560" y="2624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304920" y="26082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304560" y="25916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304920" y="258048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507240" y="29552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507240" y="29386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507240" y="292212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507240" y="2905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507240" y="2889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507240" y="28731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507240" y="28562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>
                <a:off x="507240" y="28400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07240" y="28234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>
                <a:off x="507240" y="28069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507240" y="27903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507240" y="27738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07240" y="27572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507240" y="27410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507240" y="272412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240" y="27075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507240" y="26910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507240" y="26744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507240" y="2657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507240" y="26413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07240" y="2624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flipV="1">
                <a:off x="507240" y="26082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07240" y="25916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514080" y="257796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1560" y="29718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371160" y="240804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34080" y="241740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384840" y="235332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6200000">
                <a:off x="336240" y="205236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322560" y="244440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334440" y="241848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507960" y="244512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384840" y="235188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489600" y="23209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393840" y="228096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394200" y="22669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402480" y="22514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394200" y="22370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5640" y="22370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476640" y="22669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468360" y="22514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476640" y="223812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6200000">
                <a:off x="424800" y="220212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6200000">
                <a:off x="425880" y="226296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30480" y="2939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31200" y="29062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1200" y="28724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30480" y="2840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200" y="28072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0480" y="27741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1200" y="27403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1200" y="27075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0480" y="26748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30480" y="2642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2920" y="25743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0480" y="251280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0480" y="254556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9040" y="26082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29040" y="244656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9040" y="24786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2920" y="244404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3840" y="226656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3840" y="225108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93840" y="220680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5280" y="219168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4840" y="240768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>
            <a:off x="685800" y="2438280"/>
            <a:ext cx="838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 min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3657600"/>
            <a:ext cx="137160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959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904760" y="2209680"/>
            <a:ext cx="228600" cy="990720"/>
            <a:chOff x="1904760" y="2209680"/>
            <a:chExt cx="228600" cy="990720"/>
          </a:xfrm>
        </p:grpSpPr>
        <p:sp>
          <p:nvSpPr>
            <p:cNvPr id="271" name=""/>
            <p:cNvSpPr/>
            <p:nvPr/>
          </p:nvSpPr>
          <p:spPr>
            <a:xfrm flipV="1">
              <a:off x="2101680" y="258300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904760" y="2209680"/>
              <a:ext cx="228600" cy="990720"/>
              <a:chOff x="1904760" y="2209680"/>
              <a:chExt cx="228600" cy="9907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2114640" y="267336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983960" y="25495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93320" y="252648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1995480" y="244872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94400" y="24354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2002680" y="242100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994400" y="2405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95840" y="24051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076840" y="24354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2068560" y="242352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2076840" y="240660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2082600" y="2566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081520" y="252864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1994760" y="2566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1983960" y="256644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3960" y="254952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1992240" y="252720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1904760" y="31838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1905120" y="3167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1904760" y="3151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1905120" y="31345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1904760" y="3117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1905120" y="31017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>
                <a:off x="1904760" y="30848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1905120" y="3068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flipV="1">
                <a:off x="1904760" y="3052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1905120" y="30355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>
                <a:off x="1904760" y="3018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905120" y="30024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1904760" y="29858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1905120" y="2969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1904760" y="295272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1905120" y="29361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1904760" y="29196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1905120" y="29030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flipV="1">
                <a:off x="1904760" y="28864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1905120" y="28699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flipV="1">
                <a:off x="1904760" y="28533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1905120" y="28368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1904760" y="28202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1905120" y="280908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2107440" y="31838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flipV="1">
                <a:off x="2107440" y="3167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2107440" y="3151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flipV="1">
                <a:off x="2107440" y="31345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2107440" y="3117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2107440" y="31017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2107440" y="30848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flipV="1">
                <a:off x="2107440" y="3068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2107440" y="3052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2107440" y="30355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2107440" y="3018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2107440" y="30024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2107440" y="29858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2107440" y="2969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2107440" y="295272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flipV="1">
                <a:off x="2107440" y="29361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107440" y="29196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flipV="1">
                <a:off x="2107440" y="29030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2107440" y="28864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>
                <a:off x="2107440" y="28699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2107440" y="28533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flipV="1">
                <a:off x="2107440" y="28368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2107440" y="28202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2114280" y="280656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31760" y="32004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1971360" y="263664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1934280" y="264600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1985040" y="258192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6200000">
                <a:off x="1936440" y="228096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1922760" y="267300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1934640" y="264708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2108160" y="267372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1985040" y="258048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2089800" y="25495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1994040" y="250956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1994400" y="2495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2002680" y="24800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994400" y="24656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995840" y="24656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076840" y="2495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2068560" y="24800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076840" y="246672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6200000">
                <a:off x="2025000" y="243072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200000">
                <a:off x="2026080" y="249156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30680" y="31680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31400" y="31352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31400" y="3101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30680" y="30686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31400" y="30358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30680" y="30027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31400" y="29689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31400" y="29361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30680" y="29034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30680" y="28706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23120" y="28029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30680" y="274140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30680" y="277416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29240" y="28368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929240" y="267516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929240" y="27072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23120" y="267264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94040" y="249516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94040" y="247968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94040" y="243540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95480" y="242028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85040" y="263628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0" name=""/>
          <p:cNvSpPr/>
          <p:nvPr/>
        </p:nvSpPr>
        <p:spPr>
          <a:xfrm>
            <a:off x="2286000" y="3657600"/>
            <a:ext cx="1371600" cy="1219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5760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10840" y="4419720"/>
            <a:ext cx="12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Hot water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70 de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44197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Cold wate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0 to 5 de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990360" y="3504960"/>
            <a:ext cx="228600" cy="990360"/>
            <a:chOff x="990360" y="3504960"/>
            <a:chExt cx="228600" cy="990360"/>
          </a:xfrm>
        </p:grpSpPr>
        <p:sp>
          <p:nvSpPr>
            <p:cNvPr id="386" name=""/>
            <p:cNvSpPr/>
            <p:nvPr/>
          </p:nvSpPr>
          <p:spPr>
            <a:xfrm flipV="1">
              <a:off x="1187280" y="387792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990360" y="3504960"/>
              <a:ext cx="228600" cy="990360"/>
              <a:chOff x="990360" y="3504960"/>
              <a:chExt cx="228600" cy="990360"/>
            </a:xfrm>
          </p:grpSpPr>
          <p:sp>
            <p:nvSpPr>
              <p:cNvPr id="388" name=""/>
              <p:cNvSpPr/>
              <p:nvPr/>
            </p:nvSpPr>
            <p:spPr>
              <a:xfrm flipV="1">
                <a:off x="1200240" y="396828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1069560" y="38444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78920" y="382176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1081080" y="374400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1080000" y="37306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1088280" y="371628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1080000" y="37008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081440" y="37004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162440" y="37306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1154160" y="371880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1162440" y="370188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1168200" y="38617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1167120" y="382356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1080360" y="38617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1069560" y="386136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9560" y="384480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1077840" y="382248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990360" y="4478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990720" y="4462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990360" y="4446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0720" y="44298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990360" y="4412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990720" y="43966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 flipV="1">
                <a:off x="990360" y="4379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990720" y="4363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flipV="1">
                <a:off x="990360" y="4347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990720" y="43304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990360" y="4313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990720" y="42973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 flipV="1">
                <a:off x="990360" y="4280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990720" y="4264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>
                <a:off x="990360" y="4248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990720" y="4231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 flipV="1">
                <a:off x="990360" y="42148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990720" y="4197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990360" y="41814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990720" y="41648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990360" y="41482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990720" y="41320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990360" y="41151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990720" y="410436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1193040" y="4478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flipV="1">
                <a:off x="1193040" y="4462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1193040" y="4446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 flipV="1">
                <a:off x="1193040" y="44298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1193040" y="4412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flipV="1">
                <a:off x="1193040" y="43966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1193040" y="4379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flipV="1">
                <a:off x="1193040" y="4363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1193040" y="4347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 flipV="1">
                <a:off x="1193040" y="43304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1193040" y="4313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flipV="1">
                <a:off x="1193040" y="42973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1193040" y="4280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 flipV="1">
                <a:off x="1193040" y="4264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1193040" y="4248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flipV="1">
                <a:off x="1193040" y="4231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1193040" y="42148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1193040" y="4197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1193040" y="41814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1193040" y="41648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1193040" y="41482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>
                <a:off x="1193040" y="41320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1193040" y="41151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1199880" y="410184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017360" y="449532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1056960" y="393156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019880" y="394128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1070640" y="387720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6200000">
                <a:off x="1022040" y="357624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1008360" y="396792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1020240" y="394236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1193760" y="396900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1070640" y="387576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1175400" y="38444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flipV="1">
                <a:off x="1079640" y="380448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1080000" y="3790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1088280" y="377532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1080000" y="37609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081440" y="37605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1162440" y="3790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1154160" y="377532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1162440" y="376200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6200000">
                <a:off x="1110600" y="37256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6200000">
                <a:off x="1111680" y="37868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016280" y="44629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017000" y="44301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017000" y="43959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016280" y="43635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017000" y="43308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016280" y="4298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17000" y="42638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017000" y="42314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016280" y="41983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016280" y="41655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08720" y="409788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016280" y="40366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016280" y="40690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014840" y="41317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1014840" y="397008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14840" y="400248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008720" y="39675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079640" y="379044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079640" y="377496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079640" y="373068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081080" y="371556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70640" y="393120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5" name=""/>
          <p:cNvSpPr/>
          <p:nvPr/>
        </p:nvSpPr>
        <p:spPr>
          <a:xfrm rot="19449000">
            <a:off x="639360" y="298584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819160" y="3504960"/>
            <a:ext cx="228600" cy="990360"/>
            <a:chOff x="2819160" y="3504960"/>
            <a:chExt cx="228600" cy="990360"/>
          </a:xfrm>
        </p:grpSpPr>
        <p:sp>
          <p:nvSpPr>
            <p:cNvPr id="497" name=""/>
            <p:cNvSpPr/>
            <p:nvPr/>
          </p:nvSpPr>
          <p:spPr>
            <a:xfrm flipV="1">
              <a:off x="3016080" y="387792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2819160" y="3504960"/>
              <a:ext cx="228600" cy="990360"/>
              <a:chOff x="2819160" y="3504960"/>
              <a:chExt cx="228600" cy="990360"/>
            </a:xfrm>
          </p:grpSpPr>
          <p:sp>
            <p:nvSpPr>
              <p:cNvPr id="499" name=""/>
              <p:cNvSpPr/>
              <p:nvPr/>
            </p:nvSpPr>
            <p:spPr>
              <a:xfrm flipV="1">
                <a:off x="3029040" y="396828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2898360" y="38444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07720" y="382176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2909880" y="374400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2908800" y="37306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2917080" y="371628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2908800" y="37008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910240" y="37004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2991240" y="37306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2982960" y="371880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2991240" y="370188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2997000" y="38617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2995920" y="382356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2909160" y="38617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2898360" y="386136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98360" y="384480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906640" y="382248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flipV="1">
                <a:off x="2819160" y="4478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2819520" y="4462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 flipV="1">
                <a:off x="2819160" y="4446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2819520" y="44298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 flipV="1">
                <a:off x="2819160" y="4412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2819520" y="43966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 flipV="1">
                <a:off x="2819160" y="4379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2819520" y="4363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 flipV="1">
                <a:off x="2819160" y="4347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2819520" y="43304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 flipV="1">
                <a:off x="2819160" y="4313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2819520" y="42973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 flipV="1">
                <a:off x="2819160" y="4280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2819520" y="42645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flipV="1">
                <a:off x="2819160" y="4248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2819520" y="4231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flipV="1">
                <a:off x="2819160" y="42148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2819520" y="4197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2819160" y="41814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2819520" y="41648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flipV="1">
                <a:off x="2819160" y="41482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2819520" y="41320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 flipV="1">
                <a:off x="2819160" y="41151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2819520" y="410436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3021840" y="4478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flipV="1">
                <a:off x="3021840" y="4462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3021840" y="4446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flipV="1">
                <a:off x="3021840" y="44298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3021840" y="4412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 flipV="1">
                <a:off x="3021840" y="43966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3021840" y="4379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 flipV="1">
                <a:off x="3021840" y="4363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3021840" y="4347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 flipV="1">
                <a:off x="3021840" y="43304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3021840" y="4313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flipV="1">
                <a:off x="3021840" y="42973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021840" y="4280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flipV="1">
                <a:off x="3021840" y="42645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3021840" y="4248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 flipV="1">
                <a:off x="3021840" y="4231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3021840" y="42148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>
                <a:off x="3021840" y="4197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3021840" y="41814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 flipV="1">
                <a:off x="3021840" y="41648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3021840" y="41482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 flipV="1">
                <a:off x="3021840" y="41320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3021840" y="41151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3028680" y="410184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846160" y="449532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2885760" y="393156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2848680" y="394128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2899440" y="387720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2850840" y="357624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2837160" y="396792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2849040" y="394236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3022560" y="396900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2899440" y="387576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3004200" y="38444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 flipV="1">
                <a:off x="2908440" y="380448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2908800" y="3790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2917080" y="377532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908800" y="37609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910240" y="37605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2991240" y="3790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2982960" y="377532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2991240" y="376200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6200000">
                <a:off x="2939400" y="37256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00000">
                <a:off x="2940480" y="37868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845080" y="44629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845800" y="44301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845800" y="43959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5080" y="43635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845800" y="43308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845080" y="4298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845800" y="42638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45800" y="42314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45080" y="41983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845080" y="41655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837520" y="409788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45080" y="40366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845080" y="40690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43640" y="41317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843640" y="397008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843640" y="400248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837520" y="39675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908440" y="379044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908440" y="377496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908440" y="373068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909880" y="371556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899440" y="393120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6" name=""/>
          <p:cNvSpPr/>
          <p:nvPr/>
        </p:nvSpPr>
        <p:spPr>
          <a:xfrm rot="19164600">
            <a:off x="2438280" y="312372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3580920" y="1904760"/>
            <a:ext cx="228600" cy="990360"/>
            <a:chOff x="3580920" y="1904760"/>
            <a:chExt cx="228600" cy="990360"/>
          </a:xfrm>
        </p:grpSpPr>
        <p:sp>
          <p:nvSpPr>
            <p:cNvPr id="608" name=""/>
            <p:cNvSpPr/>
            <p:nvPr/>
          </p:nvSpPr>
          <p:spPr>
            <a:xfrm flipV="1">
              <a:off x="3777840" y="227772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3580920" y="1904760"/>
              <a:ext cx="228600" cy="990360"/>
              <a:chOff x="3580920" y="1904760"/>
              <a:chExt cx="228600" cy="990360"/>
            </a:xfrm>
          </p:grpSpPr>
          <p:sp>
            <p:nvSpPr>
              <p:cNvPr id="610" name=""/>
              <p:cNvSpPr/>
              <p:nvPr/>
            </p:nvSpPr>
            <p:spPr>
              <a:xfrm flipV="1">
                <a:off x="3790800" y="236808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3660120" y="22442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669480" y="222156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671640" y="214380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3670560" y="21304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3678840" y="211608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3670560" y="21006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72000" y="21002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3753000" y="21304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3744720" y="211860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3753000" y="210168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3758760" y="2261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3757680" y="222336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670920" y="2261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3660120" y="226116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660120" y="224460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668400" y="222228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 flipV="1">
                <a:off x="3580920" y="28785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3581280" y="28623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3580920" y="28458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3581280" y="28296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flipV="1">
                <a:off x="3580920" y="28126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3581280" y="27964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>
                <a:off x="3580920" y="27795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3581280" y="27633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>
                <a:off x="3580920" y="27468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3581280" y="27302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>
                <a:off x="3580920" y="27136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3581280" y="26971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3580920" y="26805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3581280" y="26643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 flipV="1">
                <a:off x="3580920" y="26478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3581280" y="2630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 flipV="1">
                <a:off x="3580920" y="26146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3581280" y="2597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 flipV="1">
                <a:off x="3580920" y="25812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3581280" y="2564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flipV="1">
                <a:off x="3580920" y="2548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3581280" y="25318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 flipV="1">
                <a:off x="3580920" y="2514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3581280" y="250416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3783600" y="28785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 flipV="1">
                <a:off x="3783600" y="28623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3783600" y="28458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 flipV="1">
                <a:off x="3783600" y="28296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3783600" y="28126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flipV="1">
                <a:off x="3783600" y="27964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3783600" y="27795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 flipV="1">
                <a:off x="3783600" y="27633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3783600" y="27468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>
                <a:off x="3783600" y="27302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3783600" y="27136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flipV="1">
                <a:off x="3783600" y="26971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3783600" y="26805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flipV="1">
                <a:off x="3783600" y="26643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3783600" y="26478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flipV="1">
                <a:off x="3783600" y="2630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3783600" y="26146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>
                <a:off x="3783600" y="2597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3783600" y="25812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 flipV="1">
                <a:off x="3783600" y="2564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3783600" y="2548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 flipV="1">
                <a:off x="3783600" y="25318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3783600" y="2514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3790440" y="250164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607920" y="289512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3647520" y="233136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3610440" y="234108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3661200" y="227700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6200000">
                <a:off x="3612600" y="197604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3598920" y="236772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3610800" y="234216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3784320" y="236880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3661200" y="227556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3765960" y="22442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 flipV="1">
                <a:off x="3670200" y="220428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3670560" y="21902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3678840" y="217512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3670560" y="21607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672000" y="21603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3753000" y="21902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3744720" y="217512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3753000" y="216180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6200000">
                <a:off x="3701160" y="21254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6200000">
                <a:off x="3702240" y="21866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606840" y="28627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607560" y="28299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607560" y="27957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606840" y="27633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607560" y="27306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606840" y="26978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607560" y="26636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607560" y="26312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606840" y="25981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606840" y="25653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599280" y="249768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606840" y="24364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606840" y="24688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605400" y="25315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605400" y="236988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605400" y="240228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599280" y="23673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670200" y="219024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670200" y="217476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670200" y="213048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671640" y="211536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661200" y="233100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"/>
          <p:cNvSpPr/>
          <p:nvPr/>
        </p:nvSpPr>
        <p:spPr>
          <a:xfrm flipV="1" rot="2151000">
            <a:off x="1294920" y="312372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 rot="2151000">
            <a:off x="3181320" y="2967480"/>
            <a:ext cx="219240" cy="478080"/>
          </a:xfrm>
          <a:prstGeom prst="downArrow">
            <a:avLst>
              <a:gd name="adj1" fmla="val 50000"/>
              <a:gd name="adj2" fmla="val 54516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380160" y="1523880"/>
            <a:ext cx="685800" cy="457200"/>
          </a:xfrm>
          <a:custGeom>
            <a:avLst/>
            <a:gdLst>
              <a:gd name="textAreaLeft" fmla="*/ 228600 w 685800"/>
              <a:gd name="textAreaRight" fmla="*/ 587520 w 68580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66680" y="1523880"/>
            <a:ext cx="2438640" cy="152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14600" y="2438280"/>
            <a:ext cx="838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 min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29000" y="1523880"/>
            <a:ext cx="152280" cy="381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30760" y="249120"/>
            <a:ext cx="2632680" cy="825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-proof 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mperature sh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81480" y="5029200"/>
            <a:ext cx="35053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257800" y="51912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Informa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P6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IEC60529 stand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6934320" y="5257800"/>
            <a:ext cx="1781640" cy="1371600"/>
            <a:chOff x="6934320" y="5257800"/>
            <a:chExt cx="1781640" cy="1371600"/>
          </a:xfrm>
        </p:grpSpPr>
        <p:sp>
          <p:nvSpPr>
            <p:cNvPr id="727" name=""/>
            <p:cNvSpPr/>
            <p:nvPr/>
          </p:nvSpPr>
          <p:spPr>
            <a:xfrm>
              <a:off x="7010280" y="5864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34320" y="5562720"/>
              <a:ext cx="1218960" cy="1066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34320" y="525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153280" y="5257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7391160" y="5257800"/>
              <a:ext cx="228960" cy="1322280"/>
              <a:chOff x="7391160" y="5257800"/>
              <a:chExt cx="228960" cy="1322280"/>
            </a:xfrm>
          </p:grpSpPr>
          <p:sp>
            <p:nvSpPr>
              <p:cNvPr id="732" name=""/>
              <p:cNvSpPr/>
              <p:nvPr/>
            </p:nvSpPr>
            <p:spPr>
              <a:xfrm flipV="1">
                <a:off x="7588440" y="6129720"/>
                <a:ext cx="1440" cy="6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7601040" y="619560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471080" y="6104160"/>
                <a:ext cx="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480440" y="6090480"/>
                <a:ext cx="8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481880" y="603324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7480440" y="6021000"/>
                <a:ext cx="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7488360" y="6010560"/>
                <a:ext cx="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7480440" y="5999760"/>
                <a:ext cx="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482240" y="600192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7563240" y="6021000"/>
                <a:ext cx="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7554960" y="6013440"/>
                <a:ext cx="180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7563240" y="5999760"/>
                <a:ext cx="14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7569360" y="6117120"/>
                <a:ext cx="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7567920" y="6090120"/>
                <a:ext cx="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7480440" y="6117120"/>
                <a:ext cx="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470720" y="611892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70360" y="61070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479000" y="6088680"/>
                <a:ext cx="144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 flipV="1">
                <a:off x="7391160" y="6567840"/>
                <a:ext cx="270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7391520" y="655524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 flipV="1">
                <a:off x="7391160" y="654336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7391520" y="6531480"/>
                <a:ext cx="270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flipV="1">
                <a:off x="7391160" y="651924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7391520" y="650736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 flipV="1">
                <a:off x="7391160" y="649548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7391520" y="6483600"/>
                <a:ext cx="270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 flipV="1">
                <a:off x="7391160" y="647136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7391520" y="645948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 flipV="1">
                <a:off x="7391160" y="644760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7391520" y="6435720"/>
                <a:ext cx="270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flipV="1">
                <a:off x="7391160" y="642348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7391520" y="641160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flipV="1">
                <a:off x="7391160" y="6399360"/>
                <a:ext cx="270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7391520" y="638712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flipV="1">
                <a:off x="7391160" y="637524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7391520" y="636336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>
                <a:off x="7391160" y="6351480"/>
                <a:ext cx="270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7391520" y="633924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 flipV="1">
                <a:off x="7391160" y="632736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7391520" y="6315480"/>
                <a:ext cx="270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7391160" y="630324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7391520" y="6294600"/>
                <a:ext cx="176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7593120" y="6567840"/>
                <a:ext cx="270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 flipV="1">
                <a:off x="7592760" y="655524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7593120" y="654336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 flipV="1">
                <a:off x="7592760" y="6531480"/>
                <a:ext cx="270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7593120" y="651924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 flipV="1">
                <a:off x="7592760" y="650736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7593120" y="649548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 flipV="1">
                <a:off x="7592760" y="6483600"/>
                <a:ext cx="270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7593120" y="647136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 flipV="1">
                <a:off x="7592760" y="645948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V="1">
                <a:off x="7593120" y="644760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 flipV="1">
                <a:off x="7592760" y="6435720"/>
                <a:ext cx="270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V="1">
                <a:off x="7593120" y="642348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 flipV="1">
                <a:off x="7592760" y="641160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7593120" y="6399360"/>
                <a:ext cx="270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 flipV="1">
                <a:off x="7592760" y="638712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7593120" y="637524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 flipV="1">
                <a:off x="7592760" y="636336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7593120" y="6351480"/>
                <a:ext cx="270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 flipV="1">
                <a:off x="7592760" y="633924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7593120" y="632736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 flipV="1">
                <a:off x="7592760" y="6315480"/>
                <a:ext cx="270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7593120" y="6303240"/>
                <a:ext cx="27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 flipV="1">
                <a:off x="7600680" y="6291360"/>
                <a:ext cx="190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418520" y="658008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7458120" y="6170040"/>
                <a:ext cx="12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7421400" y="6175800"/>
                <a:ext cx="3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7471080" y="6129360"/>
                <a:ext cx="0" cy="3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6200000">
                <a:off x="7151400" y="5591520"/>
                <a:ext cx="742320" cy="74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7409160" y="6195240"/>
                <a:ext cx="0" cy="9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7421760" y="6177600"/>
                <a:ext cx="0" cy="1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7594920" y="6196680"/>
                <a:ext cx="0" cy="9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7471080" y="612972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7575840" y="6104160"/>
                <a:ext cx="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7480440" y="607680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7480440" y="6064560"/>
                <a:ext cx="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7488360" y="6054120"/>
                <a:ext cx="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7480440" y="6043320"/>
                <a:ext cx="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482240" y="60454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7563240" y="6064560"/>
                <a:ext cx="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7554960" y="6054120"/>
                <a:ext cx="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7563240" y="6046560"/>
                <a:ext cx="144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16200000">
                <a:off x="7513920" y="6012360"/>
                <a:ext cx="12240" cy="5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16200000">
                <a:off x="7514280" y="6055560"/>
                <a:ext cx="13320" cy="52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417080" y="6555600"/>
                <a:ext cx="1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418520" y="65314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418520" y="65077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417080" y="6483600"/>
                <a:ext cx="1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418520" y="64598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417080" y="6435720"/>
                <a:ext cx="1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418520" y="64119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418520" y="63874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417080" y="6363720"/>
                <a:ext cx="1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417080" y="6339600"/>
                <a:ext cx="1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409160" y="6290280"/>
                <a:ext cx="19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417080" y="624672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417080" y="626904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415280" y="6315480"/>
                <a:ext cx="1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7415280" y="6196680"/>
                <a:ext cx="0" cy="9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415280" y="62211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409160" y="6195600"/>
                <a:ext cx="19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480440" y="606636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480440" y="605628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480440" y="602316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482240" y="6012360"/>
                <a:ext cx="8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471080" y="617004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777240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229600" y="5562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305920" y="55627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306640" y="579132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2805480" y="228600"/>
            <a:ext cx="490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 the water-proof perform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　・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2A pass the more harsh test than IEC standard (IP67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・　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by new structure on cable protector </a:t>
            </a: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2480" y="1152360"/>
            <a:ext cx="332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original test (to simulate the real appl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105520" y="1928880"/>
            <a:ext cx="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05520" y="451656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1055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105520" y="2286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10800000">
            <a:off x="4189320" y="1927080"/>
            <a:ext cx="60660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eat cycle (tim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495680" y="21337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327672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562720" y="2127240"/>
            <a:ext cx="228600" cy="2389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095880" y="2127240"/>
            <a:ext cx="228600" cy="2389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162920" y="4419720"/>
            <a:ext cx="228600" cy="9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257800" y="46022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91320" y="4572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010280" y="4145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772400" y="45165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59600" y="4572000"/>
            <a:ext cx="48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91320" y="1330200"/>
            <a:ext cx="1904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18 shielded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629400" y="2133720"/>
            <a:ext cx="228600" cy="23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410080" y="1752480"/>
            <a:ext cx="53352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477120" y="457200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AMA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543800" y="31240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20840" y="45813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96080" y="3429000"/>
            <a:ext cx="228600" cy="10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229600" y="4419720"/>
            <a:ext cx="228600" cy="10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001000" y="4572000"/>
            <a:ext cx="792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+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077320" y="4145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943600" y="1752480"/>
            <a:ext cx="53352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477120" y="1752480"/>
            <a:ext cx="53316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629400" y="586728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486400" y="6019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30 min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9:30:48Z</dcterms:created>
  <dc:creator>tankaz</dc:creator>
  <dc:description/>
  <dc:language>en-US</dc:language>
  <cp:lastModifiedBy>tankaz</cp:lastModifiedBy>
  <dcterms:modified xsi:type="dcterms:W3CDTF">2003-03-17T17:52:06Z</dcterms:modified>
  <cp:revision>7</cp:revision>
  <dc:subject/>
  <dc:title>PowerPoint プレゼンテーション</dc:title>
</cp:coreProperties>
</file>