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961-0871-4A8C-973A-BEE4198B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F94-50FA-4196-A668-C52A945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2B0-2A3E-40A3-B70F-3542CEE1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27B-DD02-4CCC-B5BC-0960F70A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85F-1F82-486A-A525-82901621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C4-5BEA-4419-B01B-4516EA0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E7F-F353-4823-8856-8BE10B8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7E7-24D0-40C3-B659-639DE93C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8E9-547F-48DA-9054-01F06457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B6C-C499-46DF-AF3B-08D804C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82D-5FF9-4401-A7D9-BFF6F6B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BE4-A489-4DF7-830D-D1E3144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CE1-61C4-4A8A-8F86-74E2F1E45D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supply volt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981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can realize 10 to 55VDC supply vol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by long body length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1148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This type will be realized by RIS 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supply voltage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600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type:  10 to 32V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upply voltage type:  10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5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352680"/>
            <a:ext cx="73915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124080"/>
            <a:ext cx="16002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733920"/>
            <a:ext cx="670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Load current: at 70 to 85 degC ambient temp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100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ther temp range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200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48006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 body length:  standard long body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11:04:47Z</dcterms:created>
  <dc:creator>NHA0019E</dc:creator>
  <dc:description/>
  <dc:language>en-US</dc:language>
  <cp:lastModifiedBy>NHA0019E</cp:lastModifiedBy>
  <dcterms:modified xsi:type="dcterms:W3CDTF">2005-02-23T12:51:17Z</dcterms:modified>
  <cp:revision>3</cp:revision>
  <dc:subject/>
  <dc:title>PowerPoint プレゼンテーション</dc:title>
</cp:coreProperties>
</file>