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FA8-B323-4531-AD5C-9E4411C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50E-79C5-4023-81FF-F9B1B986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EAC-FB23-44D2-9B77-DAED3131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403-AC4C-470D-AA4B-130C51F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42B-AE20-416E-BD07-A6E6FBF6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C7A-E3C2-461D-8333-1B55B675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E3-E020-47EC-BBB1-8C4E065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9B2-ECF5-433B-AAA8-4F968EF8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852-08AC-4D1B-83B3-F06AB9A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1D5-0C9D-4B2F-8CA0-DA8B0EDA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CA3-B06A-4CFB-9570-A1141B1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9DB-5D99-464A-91AE-B543F30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713F-271E-4320-8680-2C7895AC4A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295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liability for temperature stres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971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high reliability policy of OMRON Proximity sens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560" y="1676160"/>
            <a:ext cx="228600" cy="990360"/>
            <a:chOff x="304560" y="1676160"/>
            <a:chExt cx="228600" cy="990360"/>
          </a:xfrm>
        </p:grpSpPr>
        <p:sp>
          <p:nvSpPr>
            <p:cNvPr id="47" name=""/>
            <p:cNvSpPr/>
            <p:nvPr/>
          </p:nvSpPr>
          <p:spPr>
            <a:xfrm flipV="1">
              <a:off x="501480" y="20491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04560" y="1676160"/>
              <a:ext cx="228600" cy="990360"/>
              <a:chOff x="304560" y="1676160"/>
              <a:chExt cx="228600" cy="99036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514440" y="21394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383760" y="20156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93120" y="19929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395280" y="19152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394200" y="19018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402480" y="18874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394200" y="18720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95640" y="1871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476640" y="19018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68360" y="18900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76640" y="18730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82400" y="2032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81320" y="19947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4560" y="2032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383760" y="20325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83760" y="20160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92040" y="19936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304560" y="2649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04920" y="2633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304560" y="2616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04920" y="2600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304560" y="25837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304920" y="2567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304560" y="2550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4920" y="25347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304560" y="25182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04920" y="2501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304560" y="2485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04920" y="2468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304560" y="2451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304920" y="24357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304560" y="24192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04920" y="24022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304560" y="23860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04920" y="2369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304560" y="23526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304920" y="2336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304560" y="2319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4920" y="23032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304560" y="2286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04920" y="22755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07240" y="2649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507240" y="2633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07240" y="2616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507240" y="2600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07240" y="25837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507240" y="2567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507240" y="2550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507240" y="25347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507240" y="25182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507240" y="2501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07240" y="2485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507240" y="2468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507240" y="2451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507240" y="24357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07240" y="24192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507240" y="24022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07240" y="23860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507240" y="2369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07240" y="23526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507240" y="2336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07240" y="2319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507240" y="23032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07240" y="2286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514080" y="22730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1560" y="26665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71160" y="21027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34080" y="21124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84840" y="20484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336240" y="17474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322560" y="21391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334440" y="21135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07960" y="21402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84840" y="20469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89600" y="20156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93840" y="19756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94200" y="19616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402480" y="19465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94200" y="19321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5640" y="19317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76640" y="19616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68360" y="19465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76640" y="19332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6200000">
                <a:off x="424800" y="18968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425880" y="19580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0480" y="2633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1200" y="2601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1200" y="2567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0480" y="2534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1200" y="2502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0480" y="2469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1200" y="2435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1200" y="2402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480" y="2369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0480" y="2336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2920" y="22690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0480" y="22078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0480" y="22402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9040" y="2302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29040" y="21412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9040" y="21736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920" y="21387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840" y="19616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3840" y="19461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3840" y="19018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5280" y="18867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4840" y="21024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68580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276720"/>
            <a:ext cx="1371600" cy="144756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0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04760" y="1904760"/>
            <a:ext cx="228600" cy="990360"/>
            <a:chOff x="1904760" y="1904760"/>
            <a:chExt cx="228600" cy="990360"/>
          </a:xfrm>
        </p:grpSpPr>
        <p:sp>
          <p:nvSpPr>
            <p:cNvPr id="160" name=""/>
            <p:cNvSpPr/>
            <p:nvPr/>
          </p:nvSpPr>
          <p:spPr>
            <a:xfrm flipV="1">
              <a:off x="2101680" y="22777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904760" y="1904760"/>
              <a:ext cx="228600" cy="990360"/>
              <a:chOff x="1904760" y="1904760"/>
              <a:chExt cx="228600" cy="99036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2114640" y="23680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983960" y="22442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93320" y="222156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995480" y="214380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994400" y="21304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002680" y="211608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994400" y="21006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95840" y="21002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2076840" y="21304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068560" y="211860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076840" y="210168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2082600" y="2261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081520" y="22233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1994760" y="2261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983960" y="22611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3960" y="22446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992240" y="222228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904760" y="2878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905120" y="2862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1904760" y="2845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905120" y="2829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1904760" y="2812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905120" y="27964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1904760" y="2779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905120" y="2763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1904760" y="2746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905120" y="27302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904760" y="2713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905120" y="2697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1904760" y="2680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905120" y="26643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1904760" y="26478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905120" y="2630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904760" y="26146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905120" y="2597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1904760" y="25812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905120" y="2564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1904760" y="2548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905120" y="25318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1904760" y="2514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905120" y="250416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2107440" y="2878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2107440" y="2862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2107440" y="2845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2107440" y="2829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2107440" y="2812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2107440" y="27964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2107440" y="2779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2107440" y="2763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107440" y="2746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2107440" y="27302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107440" y="2713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2107440" y="2697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2107440" y="2680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2107440" y="26643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107440" y="26478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2107440" y="2630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107440" y="26146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2107440" y="2597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2107440" y="25812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2107440" y="2564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107440" y="2548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2107440" y="25318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107440" y="2514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2114280" y="250164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1760" y="28951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971360" y="23313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934280" y="234108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5040" y="227700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1936440" y="197604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922760" y="23677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34640" y="234216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2108160" y="236880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985040" y="227556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089800" y="22442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1994040" y="22042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1994400" y="2190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002680" y="21751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1994400" y="21607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95840" y="21603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2076840" y="21902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2068560" y="217512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076840" y="216180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2025000" y="21254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2026080" y="21866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30680" y="28627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31400" y="28299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31400" y="2795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30680" y="2763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31400" y="27306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30680" y="26978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1400" y="2663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31400" y="2631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30680" y="25981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0680" y="25653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23120" y="24976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30680" y="24364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30680" y="24688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29240" y="2531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929240" y="23698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9240" y="240228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3120" y="23673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94040" y="219024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94040" y="217476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94040" y="213048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95480" y="21153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85040" y="23310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2284560" y="3273480"/>
            <a:ext cx="1371600" cy="14508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56840" y="44197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t air : +85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4419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d air : -40de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0360" y="3352680"/>
            <a:ext cx="228600" cy="990720"/>
            <a:chOff x="990360" y="3352680"/>
            <a:chExt cx="228600" cy="990720"/>
          </a:xfrm>
        </p:grpSpPr>
        <p:sp>
          <p:nvSpPr>
            <p:cNvPr id="273" name=""/>
            <p:cNvSpPr/>
            <p:nvPr/>
          </p:nvSpPr>
          <p:spPr>
            <a:xfrm flipV="1">
              <a:off x="1187280" y="37260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990360" y="3352680"/>
              <a:ext cx="228600" cy="990720"/>
              <a:chOff x="990360" y="3352680"/>
              <a:chExt cx="228600" cy="990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1200240" y="38163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069560" y="3692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78920" y="36694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081080" y="35917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080000" y="3578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088280" y="35640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1080000" y="3548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81440" y="3548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162440" y="3578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1154160" y="35665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1162440" y="35496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168200" y="3709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167120" y="36716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1080360" y="3709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1069560" y="37094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69560" y="36925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1077840" y="36702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990360" y="4326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990720" y="4310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990360" y="4294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990720" y="4277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990360" y="4260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990720" y="42447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990360" y="4227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990720" y="4211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990360" y="4195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990720" y="4178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990360" y="4161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990720" y="4145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990360" y="4128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990720" y="4112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990360" y="40957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990720" y="4079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990360" y="4062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990720" y="40460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990360" y="4029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990720" y="4012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990360" y="3996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990720" y="3979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990360" y="3963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990720" y="39520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1193040" y="4326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1193040" y="4310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1193040" y="4294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1193040" y="4277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1193040" y="4260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1193040" y="42447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193040" y="4227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1193040" y="4211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193040" y="4195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1193040" y="4178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193040" y="4161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1193040" y="4145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193040" y="4128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1193040" y="4112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193040" y="40957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1193040" y="4079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1193040" y="4062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1193040" y="40460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1193040" y="4029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1193040" y="4012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193040" y="3996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1193040" y="3979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1193040" y="3963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1199880" y="39495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17360" y="43434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056960" y="37796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019880" y="37890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1070640" y="37249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200000">
                <a:off x="1022040" y="34239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008360" y="38160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020240" y="37900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93760" y="38167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070640" y="37234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175400" y="3692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1079640" y="36525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080000" y="3638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088280" y="3623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080000" y="36086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81440" y="3608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162440" y="3638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154160" y="3623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162440" y="36097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6200000">
                <a:off x="1110600" y="35737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1111680" y="36345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6280" y="4311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17000" y="4278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17000" y="4244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16280" y="4211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17000" y="41788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016280" y="4145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17000" y="4111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17000" y="4079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16280" y="4046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16280" y="4013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08720" y="39459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016280" y="38844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16280" y="39171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14840" y="3979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014840" y="38181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14840" y="38502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08720" y="38156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79640" y="36381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079640" y="36226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79640" y="35784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81080" y="35632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070640" y="37792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 rot="19449000">
            <a:off x="639360" y="268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819160" y="3352680"/>
            <a:ext cx="228600" cy="990720"/>
            <a:chOff x="2819160" y="3352680"/>
            <a:chExt cx="228600" cy="990720"/>
          </a:xfrm>
        </p:grpSpPr>
        <p:sp>
          <p:nvSpPr>
            <p:cNvPr id="384" name=""/>
            <p:cNvSpPr/>
            <p:nvPr/>
          </p:nvSpPr>
          <p:spPr>
            <a:xfrm flipV="1">
              <a:off x="3016080" y="372600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819160" y="3352680"/>
              <a:ext cx="228600" cy="990720"/>
              <a:chOff x="2819160" y="3352680"/>
              <a:chExt cx="228600" cy="99072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3029040" y="381636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898360" y="3692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07720" y="366948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09880" y="359172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908800" y="3578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917080" y="356400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908800" y="3548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910240" y="3548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991240" y="357840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982960" y="356652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991240" y="354960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997000" y="3709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95920" y="367164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09160" y="37094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898360" y="370944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898360" y="369252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906640" y="367020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2819160" y="4326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2819520" y="4310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819160" y="4294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819520" y="4277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2819160" y="4260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819520" y="42447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2819160" y="4227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819520" y="4211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2819160" y="41950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19520" y="41785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2819160" y="41619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819520" y="41454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2819160" y="41288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819520" y="41126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2819160" y="409572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2819520" y="40791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819160" y="40626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2819520" y="40460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2819160" y="4029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819520" y="4012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2819160" y="3996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2819520" y="397980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2819160" y="3963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819520" y="395208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021840" y="4326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3021840" y="4310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021840" y="4294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3021840" y="4277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021840" y="4260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3021840" y="42447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3021840" y="4227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3021840" y="4211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3021840" y="41950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3021840" y="41785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021840" y="41619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3021840" y="41454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3021840" y="41288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3021840" y="41126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3021840" y="409572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3021840" y="40791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021840" y="40626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3021840" y="40460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021840" y="4029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3021840" y="4012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021840" y="3996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3021840" y="397980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3021840" y="3963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3028680" y="394956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46160" y="43434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2885760" y="377964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2848680" y="37890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899440" y="372492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6200000">
                <a:off x="2850840" y="342396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2837160" y="381600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49040" y="379008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3022560" y="38167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899440" y="372348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3004200" y="369252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>
                <a:off x="2908440" y="365256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908800" y="3638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917080" y="3623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908800" y="36086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10240" y="3608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991240" y="36385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982960" y="362304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991240" y="360972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6200000">
                <a:off x="2939400" y="357372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6200000">
                <a:off x="2940480" y="363456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45080" y="43110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45800" y="42782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45800" y="42440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45080" y="4211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45800" y="41788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45080" y="4145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845800" y="4111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45800" y="4079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45080" y="4046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45080" y="40136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37520" y="39459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45080" y="388440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45080" y="391716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43640" y="39798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843640" y="381816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43640" y="38502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37520" y="381564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08440" y="363816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908440" y="36226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8440" y="357840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09880" y="35632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99440" y="377928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"/>
          <p:cNvSpPr/>
          <p:nvPr/>
        </p:nvSpPr>
        <p:spPr>
          <a:xfrm rot="19164600">
            <a:off x="2437920" y="281916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580920" y="1600200"/>
            <a:ext cx="228600" cy="990720"/>
            <a:chOff x="3580920" y="1600200"/>
            <a:chExt cx="228600" cy="990720"/>
          </a:xfrm>
        </p:grpSpPr>
        <p:sp>
          <p:nvSpPr>
            <p:cNvPr id="495" name=""/>
            <p:cNvSpPr/>
            <p:nvPr/>
          </p:nvSpPr>
          <p:spPr>
            <a:xfrm flipV="1">
              <a:off x="3777840" y="1973520"/>
              <a:ext cx="1440" cy="8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580920" y="1600200"/>
              <a:ext cx="228600" cy="990720"/>
              <a:chOff x="3580920" y="1600200"/>
              <a:chExt cx="228600" cy="99072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3790800" y="2063880"/>
                <a:ext cx="7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60120" y="19400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69480" y="1917000"/>
                <a:ext cx="8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3671640" y="1839240"/>
                <a:ext cx="80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670560" y="1825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678840" y="1811520"/>
                <a:ext cx="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670560" y="1796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72000" y="179568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753000" y="182592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744720" y="1814040"/>
                <a:ext cx="7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753000" y="1797120"/>
                <a:ext cx="10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758760" y="19569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3757680" y="1919160"/>
                <a:ext cx="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3670920" y="19569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3660120" y="1956960"/>
                <a:ext cx="1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60120" y="194004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668400" y="1917720"/>
                <a:ext cx="7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flipV="1">
                <a:off x="3580920" y="2574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581280" y="2558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3580920" y="25416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581280" y="2525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3580920" y="2508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581280" y="249228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3580920" y="2475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3581280" y="2459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3580920" y="24426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581280" y="24260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3580920" y="24094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581280" y="23929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3580920" y="23763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581280" y="236016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3580920" y="234324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581280" y="23266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3580920" y="23101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3581280" y="22935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3580920" y="227700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3581280" y="226044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3580920" y="224388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3581280" y="2227320"/>
                <a:ext cx="262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3580920" y="2210760"/>
                <a:ext cx="262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3581280" y="2199600"/>
                <a:ext cx="176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3783600" y="2574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3783600" y="2558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3783600" y="25416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3783600" y="2525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783600" y="2508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3783600" y="249228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3783600" y="2475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>
                <a:off x="3783600" y="2459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783600" y="24426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3783600" y="24260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3783600" y="24094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3783600" y="23929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3783600" y="23763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3783600" y="236016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783600" y="234324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3783600" y="23266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783600" y="23101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3783600" y="22935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3783600" y="227700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783600" y="226044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3783600" y="224388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3783600" y="2227320"/>
                <a:ext cx="259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783600" y="2210760"/>
                <a:ext cx="259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790440" y="2197080"/>
                <a:ext cx="1908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07920" y="25909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647520" y="2027160"/>
                <a:ext cx="136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610440" y="203652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3661200" y="1972440"/>
                <a:ext cx="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200000">
                <a:off x="3612600" y="1671480"/>
                <a:ext cx="19548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3598920" y="206352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3610800" y="2037600"/>
                <a:ext cx="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3784320" y="206424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661200" y="197100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765960" y="1940040"/>
                <a:ext cx="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3670200" y="1900080"/>
                <a:ext cx="8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670560" y="1886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3678840" y="18705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3670560" y="185616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72000" y="1856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3753000" y="188604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3744720" y="18705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3753000" y="1857240"/>
                <a:ext cx="7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3701160" y="182124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6200000">
                <a:off x="3702240" y="1882080"/>
                <a:ext cx="16560" cy="5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606840" y="25585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07560" y="25257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07560" y="24915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6840" y="2459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07560" y="242640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06840" y="23932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07560" y="235944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07560" y="23266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06840" y="22939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06840" y="226116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99280" y="219348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606840" y="213192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06840" y="2164680"/>
                <a:ext cx="17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05400" y="222732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3605400" y="206568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05400" y="209772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599280" y="2063160"/>
                <a:ext cx="1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70200" y="1885680"/>
                <a:ext cx="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70200" y="187020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70200" y="1825920"/>
                <a:ext cx="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71640" y="181080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61200" y="2026800"/>
                <a:ext cx="11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" name=""/>
          <p:cNvSpPr/>
          <p:nvPr/>
        </p:nvSpPr>
        <p:spPr>
          <a:xfrm flipV="1" rot="2151000">
            <a:off x="1294920" y="2819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 rot="2151000">
            <a:off x="3180960" y="2663640"/>
            <a:ext cx="219240" cy="477720"/>
          </a:xfrm>
          <a:prstGeom prst="downArrow">
            <a:avLst>
              <a:gd name="adj1" fmla="val 50000"/>
              <a:gd name="adj2" fmla="val 5447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380160" y="1219320"/>
            <a:ext cx="685800" cy="457200"/>
          </a:xfrm>
          <a:custGeom>
            <a:avLst/>
            <a:gdLst>
              <a:gd name="textAreaLeft" fmla="*/ 228600 w 685800"/>
              <a:gd name="textAreaRight" fmla="*/ 587520 w 6858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66680" y="1219320"/>
            <a:ext cx="243864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29000" y="1219320"/>
            <a:ext cx="152280" cy="380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382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5105520"/>
            <a:ext cx="221004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Times New Roman"/>
              </a:rPr>
              <a:t>Heat shock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. –40degC  1 h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. +85degC 1 h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. Measure the insulating resistance and dielectric vol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4. Measure the S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5. Repeat from 1 to 4 proce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09680" y="5105520"/>
            <a:ext cx="31244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Times New Roman"/>
              </a:rPr>
              <a:t>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)Drift of Sr should be less than 10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) Insulation resistance should be more than  10M oh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 measured by 500V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) Dielectric strength should be more than 1000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1000V / 1 minute Leakage current should &lt;1 mA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2560" y="249120"/>
            <a:ext cx="2046240" cy="459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shock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6600" y="304920"/>
            <a:ext cx="52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2A have high performance same as E2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05520" y="1928880"/>
            <a:ext cx="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05520" y="45165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055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0800000">
            <a:off x="4191120" y="1928880"/>
            <a:ext cx="3934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eat cycle (ti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956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95680" y="289548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62720" y="2127240"/>
            <a:ext cx="228600" cy="2389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2127240"/>
            <a:ext cx="228600" cy="238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162920" y="3809880"/>
            <a:ext cx="228600" cy="7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57800" y="4602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91320" y="4602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10280" y="3535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72400" y="4516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135920" y="4572000"/>
            <a:ext cx="48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ence    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791320" y="121932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8 shielded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75160" y="365760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55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29400" y="2133720"/>
            <a:ext cx="228600" cy="23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1752480"/>
            <a:ext cx="5335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457200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MATAKE      FL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3535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0120" y="458136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M  I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96080" y="3809880"/>
            <a:ext cx="228600" cy="7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229600" y="2286000"/>
            <a:ext cx="2286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01000" y="4648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P+F 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ＮＢＢ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077320" y="19810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94240" y="5238720"/>
            <a:ext cx="3365640" cy="933480"/>
          </a:xfrm>
          <a:prstGeom prst="wedgeRectCallout">
            <a:avLst>
              <a:gd name="adj1" fmla="val -37500"/>
              <a:gd name="adj2" fmla="val -86736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uce the stress of filled resin 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E2A is optimized the inner stress by using the 3D-simula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43600" y="1752480"/>
            <a:ext cx="5335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1752480"/>
            <a:ext cx="5331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\\Sayo\汎個人\FORCE\Y.Sasaki\020727解析\3有り37.8\表面斜視.bmp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038480" cy="1369800"/>
          </a:xfrm>
          <a:prstGeom prst="rect">
            <a:avLst/>
          </a:prstGeom>
          <a:ln w="0">
            <a:noFill/>
          </a:ln>
        </p:spPr>
      </p:pic>
      <p:pic>
        <p:nvPicPr>
          <p:cNvPr id="645" name="\\Sayo\汎個人\FORCE\Y.Sasaki\020727解析\3有り37.8\上下断面.bmp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4114800" cy="147168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4981680" y="1600200"/>
            <a:ext cx="4161240" cy="4227480"/>
            <a:chOff x="4981680" y="1600200"/>
            <a:chExt cx="4161240" cy="4227480"/>
          </a:xfrm>
        </p:grpSpPr>
        <p:graphicFrame>
          <p:nvGraphicFramePr>
            <p:cNvPr id="647" name=""/>
            <p:cNvGraphicFramePr/>
            <p:nvPr/>
          </p:nvGraphicFramePr>
          <p:xfrm>
            <a:off x="4981680" y="3791520"/>
            <a:ext cx="4161240" cy="203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81680" y="3791520"/>
                      <a:ext cx="4161240" cy="20361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49" name=""/>
            <p:cNvGraphicFramePr/>
            <p:nvPr/>
          </p:nvGraphicFramePr>
          <p:xfrm>
            <a:off x="4981680" y="1600200"/>
            <a:ext cx="3205440" cy="215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81680" y="1600200"/>
                      <a:ext cx="3205440" cy="2156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651" name=""/>
          <p:cNvSpPr/>
          <p:nvPr/>
        </p:nvSpPr>
        <p:spPr>
          <a:xfrm>
            <a:off x="5410080" y="25146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2 shield WP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4343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2 shield M1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\\Sayo\汎個人\FORCE\Y.Sasaki\020727解析\3有り37.8\サイド断面.bmp" descr=""/>
          <p:cNvPicPr/>
          <p:nvPr/>
        </p:nvPicPr>
        <p:blipFill>
          <a:blip r:embed="rId7"/>
          <a:stretch/>
        </p:blipFill>
        <p:spPr>
          <a:xfrm>
            <a:off x="609480" y="3836880"/>
            <a:ext cx="4114800" cy="14828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2:26:38Z</dcterms:created>
  <dc:creator>tankaz</dc:creator>
  <dc:description/>
  <dc:language>en-US</dc:language>
  <cp:lastModifiedBy>tankaz</cp:lastModifiedBy>
  <dcterms:modified xsi:type="dcterms:W3CDTF">2003-03-17T17:51:38Z</dcterms:modified>
  <cp:revision>13</cp:revision>
  <dc:subject/>
  <dc:title>PowerPoint プレゼンテーション</dc:title>
</cp:coreProperties>
</file>