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E8E-5A4C-43F2-AE3A-84D9EB80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8DE-04A3-4379-86AD-4ABD9467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456-BC04-41F2-9ACD-262E9F80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F41-396E-49CA-B2AC-5E37623E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604-7097-4E2E-BC2B-397215FB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DA3-61BC-4816-AF04-536573CC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38F-A4C9-4B1C-9202-E3AA0C31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061-3245-4099-BA13-A99A5344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DA1-B069-4201-B4C1-B1ACE4A0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04C-5BA3-43C9-B957-F9F81E97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4BE-6DDC-431B-A2DC-61123D2C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2B0-B6A5-4FCA-9AA1-7F473842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7DF4-15B1-414B-BA62-282188B1A4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447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Free technology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048120"/>
            <a:ext cx="556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2A, Lead free soldering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free cable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30S斜視図０3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343400" cy="2020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152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ead Free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523880" y="1828800"/>
            <a:ext cx="213372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0968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free soldering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mization of heat prof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324480" y="914400"/>
            <a:ext cx="15264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52280"/>
            <a:ext cx="403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free cable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roved the heat-resistant d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495320" y="2362320"/>
            <a:ext cx="83844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236232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s special typ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We can provide the lead free brass met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57200" y="3052800"/>
          <a:ext cx="9601200" cy="380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57200" y="3052800"/>
                    <a:ext cx="960120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257800" y="472428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E2A standard type ------ satisfy  RoHS  lead free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13:20:01Z</dcterms:created>
  <dc:creator>tankaz</dc:creator>
  <dc:description/>
  <dc:language>en-US</dc:language>
  <cp:lastModifiedBy>tankaz</cp:lastModifiedBy>
  <dcterms:modified xsi:type="dcterms:W3CDTF">2003-03-17T16:33:12Z</dcterms:modified>
  <cp:revision>9</cp:revision>
  <dc:subject/>
  <dc:title>PowerPoint プレゼンテーション</dc:title>
</cp:coreProperties>
</file>