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CCE-AD35-40EF-A7AA-F57EDF98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320-849B-465B-9671-5B0EAAC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831-3F77-4BD9-A386-91D452F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EDE-1B1D-45EE-99E2-5645C1CD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977-CD6C-48BC-9887-B2FECD7F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735-01A8-4C9C-B978-99BDF8C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CF1-0B39-46F7-A9F6-2B5EF3C4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BC1-2519-4252-9B00-4D5E4B7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F93-F8AA-4554-BECC-A66B2FB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AAF-758C-4533-9BD1-6708D60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1EB-0A6E-49D3-BC08-08ACA377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E40-9E10-4162-BEE8-2BE42659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977-D68E-4421-80DA-6B18D8450F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219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 cable for E2A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0400" y="2376360"/>
            <a:ext cx="80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provide the special cable for cable bending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13200" y="2847960"/>
            <a:ext cx="388800" cy="630360"/>
          </a:xfrm>
          <a:prstGeom prst="downArrow">
            <a:avLst>
              <a:gd name="adj1" fmla="val 50000"/>
              <a:gd name="adj2" fmla="val 40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30400" y="3516480"/>
            <a:ext cx="80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obot cable type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1000" y="40258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 cable type”  has higher resistance for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952880"/>
            <a:ext cx="84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ype : 65000 tim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bot cable type: 170000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5760" y="4595760"/>
            <a:ext cx="80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200" y="160200"/>
            <a:ext cx="265428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 of “Robot cable 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22160" y="1371600"/>
            <a:ext cx="1253880" cy="2319120"/>
            <a:chOff x="722160" y="1371600"/>
            <a:chExt cx="1253880" cy="2319120"/>
          </a:xfrm>
        </p:grpSpPr>
        <p:sp>
          <p:nvSpPr>
            <p:cNvPr id="50" name=""/>
            <p:cNvSpPr/>
            <p:nvPr/>
          </p:nvSpPr>
          <p:spPr>
            <a:xfrm>
              <a:off x="810360" y="1371600"/>
              <a:ext cx="617760" cy="724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1480" y="2095920"/>
              <a:ext cx="514800" cy="90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8920" y="2187000"/>
              <a:ext cx="441000" cy="78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57600" y="2265120"/>
              <a:ext cx="323280" cy="72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2160" y="1589040"/>
              <a:ext cx="79416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2160" y="1733760"/>
              <a:ext cx="794160" cy="7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4640" y="2331720"/>
              <a:ext cx="742680" cy="85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8080" y="2343960"/>
              <a:ext cx="765000" cy="87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80920" y="3210840"/>
              <a:ext cx="0" cy="47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76040" y="3183480"/>
              <a:ext cx="0" cy="50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828440" y="1371600"/>
            <a:ext cx="1179000" cy="1852200"/>
            <a:chOff x="1828440" y="1371600"/>
            <a:chExt cx="1179000" cy="1852200"/>
          </a:xfrm>
        </p:grpSpPr>
        <p:sp>
          <p:nvSpPr>
            <p:cNvPr id="61" name=""/>
            <p:cNvSpPr/>
            <p:nvPr/>
          </p:nvSpPr>
          <p:spPr>
            <a:xfrm flipH="1">
              <a:off x="2333160" y="1371600"/>
              <a:ext cx="589320" cy="724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383200" y="2096280"/>
              <a:ext cx="491040" cy="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417400" y="2186640"/>
              <a:ext cx="420840" cy="78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473560" y="2265480"/>
              <a:ext cx="308520" cy="72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249280" y="1588680"/>
              <a:ext cx="7578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249280" y="1733760"/>
              <a:ext cx="757800" cy="7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828440" y="2331720"/>
              <a:ext cx="708840" cy="851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995480" y="2351160"/>
              <a:ext cx="722880" cy="872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533600" y="3691080"/>
            <a:ext cx="736560" cy="36324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6400" y="3138480"/>
            <a:ext cx="250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1920" y="3138480"/>
            <a:ext cx="250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6000" y="405432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ght 500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6680" y="1879560"/>
            <a:ext cx="590400" cy="144360"/>
          </a:xfrm>
          <a:prstGeom prst="leftRightArrow">
            <a:avLst>
              <a:gd name="adj1" fmla="val 50000"/>
              <a:gd name="adj2" fmla="val 81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1200" y="2314440"/>
            <a:ext cx="7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90 de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42840" y="32558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l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2498400">
            <a:off x="1590120" y="2639880"/>
            <a:ext cx="610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86" y="321"/>
                </a:moveTo>
                <a:arcTo wR="10800" hR="10800" stAng="-6240330" swAng="6653125"/>
                <a:lnTo>
                  <a:pt x="10800" y="10800"/>
                </a:lnTo>
                <a:close/>
              </a:path>
              <a:path fill="none" w="21600" h="21600">
                <a:moveTo>
                  <a:pt x="8186" y="321"/>
                </a:moveTo>
                <a:arcTo wR="10800" hR="10800" stAng="-6240330" swAng="6653125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372096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4199040" y="1071720"/>
            <a:ext cx="393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ing times ( times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3360" y="1041480"/>
            <a:ext cx="0" cy="28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3360" y="3890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3360" y="2976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3360" y="21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1240" y="1986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21240" y="27939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64240" y="2671920"/>
            <a:ext cx="228600" cy="12189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3281400"/>
            <a:ext cx="2286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88120" y="3662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21640" y="3814920"/>
            <a:ext cx="22860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9320" y="2397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26360" y="3022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16720" y="35100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83560" y="3387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83360" y="39672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02320" y="39369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45320" y="393696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IFM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ＩＥ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11960" y="3556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dia. 4mm c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35840" y="39369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AMAT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6560" y="4043520"/>
            <a:ext cx="685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P+F       N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Ｊ１．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55160" y="3814920"/>
            <a:ext cx="22860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510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7760" y="1060560"/>
            <a:ext cx="228600" cy="282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44920" y="1193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5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3360" y="134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92840" y="3981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96080" y="804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643200"/>
            <a:ext cx="1755720" cy="546120"/>
          </a:xfrm>
          <a:prstGeom prst="wedgeRectCallout">
            <a:avLst>
              <a:gd name="adj1" fmla="val -56328"/>
              <a:gd name="adj2" fmla="val -282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 breaking point of 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3240" y="4853160"/>
            <a:ext cx="8318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80" y="4691160"/>
            <a:ext cx="2430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cations of Robot 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9760" y="1104840"/>
            <a:ext cx="14889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 protector + robot 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327360" y="1312920"/>
            <a:ext cx="663480" cy="10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96920" y="5078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1) Special copper alloy metal for  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1320" y="551340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2) Special PVC material which have higher strength for b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3920" y="616104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pprox. 0.7 Euro UP on standard cost / meter (cable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1200" y="160200"/>
            <a:ext cx="265428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bot c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1476360"/>
          <a:ext cx="8076960" cy="5089680"/>
        </p:xfrm>
        <a:graphic>
          <a:graphicData uri="http://schemas.openxmlformats.org/drawingml/2006/table">
            <a:tbl>
              <a:tblPr/>
              <a:tblGrid>
                <a:gridCol w="1295280"/>
                <a:gridCol w="3048120"/>
                <a:gridCol w="3733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er allo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e (number of str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54/ dia0.05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8mm</a:t>
                      </a:r>
                      <a:r>
                        <a:rPr b="0" lang="ja-JP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er 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 0.83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yester elastomer (flame resi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er 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 1.33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wn / Blue / 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er sh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elastic P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5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er 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5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865680" y="255600"/>
            <a:ext cx="1135080" cy="1087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43240" y="500040"/>
            <a:ext cx="304920" cy="3049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48160" y="576360"/>
            <a:ext cx="30492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19560" y="804960"/>
            <a:ext cx="304920" cy="3045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21000" y="576360"/>
            <a:ext cx="154080" cy="153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0600" y="662040"/>
            <a:ext cx="1540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07040" y="885960"/>
            <a:ext cx="153720" cy="153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96840"/>
            <a:ext cx="1293840" cy="285840"/>
          </a:xfrm>
          <a:prstGeom prst="borderCallout2">
            <a:avLst>
              <a:gd name="adj1" fmla="val 18750"/>
              <a:gd name="adj2" fmla="val -8333"/>
              <a:gd name="adj3" fmla="val 40000"/>
              <a:gd name="adj4" fmla="val -29324"/>
              <a:gd name="adj5" fmla="val 108888"/>
              <a:gd name="adj6" fmla="val -5374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er she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4240" y="378000"/>
            <a:ext cx="1293840" cy="285480"/>
          </a:xfrm>
          <a:prstGeom prst="borderCallout2">
            <a:avLst>
              <a:gd name="adj1" fmla="val 18750"/>
              <a:gd name="adj2" fmla="val -8333"/>
              <a:gd name="adj3" fmla="val 40000"/>
              <a:gd name="adj4" fmla="val -29324"/>
              <a:gd name="adj5" fmla="val 108888"/>
              <a:gd name="adj6" fmla="val -5374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7080" y="703440"/>
            <a:ext cx="1293840" cy="285480"/>
          </a:xfrm>
          <a:prstGeom prst="borderCallout2">
            <a:avLst>
              <a:gd name="adj1" fmla="val 18750"/>
              <a:gd name="adj2" fmla="val -8333"/>
              <a:gd name="adj3" fmla="val 40000"/>
              <a:gd name="adj4" fmla="val -16685"/>
              <a:gd name="adj5" fmla="val 92777"/>
              <a:gd name="adj6" fmla="val -83069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1200" y="160200"/>
            <a:ext cx="265428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bot c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5040" y="2057400"/>
          <a:ext cx="7465680" cy="3798720"/>
        </p:xfrm>
        <a:graphic>
          <a:graphicData uri="http://schemas.openxmlformats.org/drawingml/2006/table">
            <a:tbl>
              <a:tblPr/>
              <a:tblGrid>
                <a:gridCol w="3244680"/>
                <a:gridCol w="2208240"/>
                <a:gridCol w="2012760"/>
              </a:tblGrid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er sh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sile strength (M 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than 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than 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d ratio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 modulus  (M 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ding &amp; Hot te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lack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ding &amp; Cold te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lack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tion ratio at 120degC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 temp. resist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ness  (H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95200" y="1152360"/>
            <a:ext cx="59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1) Lead (Pb) free  (less than 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9600" y="1630440"/>
            <a:ext cx="59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2) Mechanical characterist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99440" y="3755880"/>
            <a:ext cx="6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29680" y="5135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41083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7400" y="5908680"/>
            <a:ext cx="75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Wind the cable to rod (dia. 12mm) 6 time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eep in 120degC 1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230880"/>
            <a:ext cx="75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) Keep in –25 degC 1hour. </a:t>
            </a:r>
            <a:r>
              <a:rPr b="0" lang="ja-JP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Wind the cable to rod (dia. 12mm) 6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9600" y="1630440"/>
            <a:ext cx="59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2) Mechanical characterist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03880" y="1674720"/>
            <a:ext cx="27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lected da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5:40:54Z</dcterms:created>
  <dc:creator>tankaz</dc:creator>
  <dc:description/>
  <dc:language>en-US</dc:language>
  <cp:lastModifiedBy>tankaz</cp:lastModifiedBy>
  <dcterms:modified xsi:type="dcterms:W3CDTF">2003-07-14T16:27:00Z</dcterms:modified>
  <cp:revision>3</cp:revision>
  <dc:subject/>
  <dc:title>PowerPoint プレゼンテーション</dc:title>
</cp:coreProperties>
</file>