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5771-6AD9-479A-9D80-26C040410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F0CA-C114-4C85-A169-9FE9940B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86C1-7100-4AF9-B75A-904D21F3F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F6A0-B231-4230-908D-074AFD3F3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C953-017C-44BF-8A8D-3D86F80A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11E2-5542-41DE-B4B9-FA0ED77D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FFB9-4EC1-48B6-9201-4DC92F11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2142-9756-4013-B04A-850AF092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7865-1E1C-4722-8451-FDB080BD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796C-B151-45E7-A5DF-E69EFE02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603A-9D62-46E3-B828-629FE631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24AA-F976-4741-8566-39FFC8EA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3C0A-81D3-4045-A854-56D0115EDD8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12952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can we print Type name or Log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2514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where by laser marking tool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76560" y="1523880"/>
            <a:ext cx="6067440" cy="771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47652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048120" y="2438280"/>
            <a:ext cx="2190600" cy="2057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124080" y="4495680"/>
            <a:ext cx="3781440" cy="590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15238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C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743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Sensing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5791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Connector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print Special Logos on anywhere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124080" y="5562720"/>
            <a:ext cx="4381560" cy="981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8600" y="4495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read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6:10:55Z</dcterms:created>
  <dc:creator>NHA0019E</dc:creator>
  <dc:description/>
  <dc:language>en-US</dc:language>
  <cp:lastModifiedBy>NHA0019E</cp:lastModifiedBy>
  <dcterms:modified xsi:type="dcterms:W3CDTF">2005-02-23T12:50:56Z</dcterms:modified>
  <cp:revision>4</cp:revision>
  <dc:subject/>
  <dc:title>PowerPoint プレゼンテーション</dc:title>
</cp:coreProperties>
</file>