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252-2934-4D0B-AE38-D6299557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432-37BA-4F64-939A-A3C4929A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D15-87B2-49B0-8163-7BB726A5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3C5-B34C-488F-B86B-DC6E9095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F11-2F99-4BB6-B979-41D863EE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FC7-10C7-4AC4-95D4-1AA9B53D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364-F007-45F2-94F6-442FA099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2DE-36E8-43CC-A7C1-3A15D08A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AB2-729A-43B6-87D0-BCD52A8F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773-F19C-4356-AFAC-011615AC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711-5A5D-42BF-AF7B-B5039867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871-F3EE-49CF-A48B-30A15470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66C7-5B6E-439B-85A1-BC3CFB1F3A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3581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E2A can be used at 85deg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038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limitation of load current and suppl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Ambient Temperature of E2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5105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est in custo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ng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648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orag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5562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ardening Temp :  Sensing module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120 de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943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hole sensor    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88 de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00200" y="1676520"/>
          <a:ext cx="6095880" cy="175248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218960"/>
                <a:gridCol w="114300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ly 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to 30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to 32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219320" y="1143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C3W (standard type = 200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33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aximum Load Current Limitation at 70 to 85 de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657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C2W (standard type = 3 to 100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00200" y="4114800"/>
          <a:ext cx="6095880" cy="175248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218960"/>
                <a:gridCol w="114300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ly 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to 30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to 32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352680" y="617220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For the customized type, please ask to OEE-SenB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45:40Z</dcterms:created>
  <dc:creator>NHA0019E</dc:creator>
  <dc:description/>
  <dc:language>en-US</dc:language>
  <cp:lastModifiedBy>NHA0019E</cp:lastModifiedBy>
  <dcterms:modified xsi:type="dcterms:W3CDTF">2005-02-23T12:55:51Z</dcterms:modified>
  <cp:revision>4</cp:revision>
  <dc:subject/>
  <dc:title>PowerPoint プレゼンテーション</dc:title>
</cp:coreProperties>
</file>