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9AE-1889-43A7-BECA-241E99E1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031-BF8C-4ECD-A2A7-D5F001A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C48-45A6-4A52-84A0-E9061270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33D-C280-41D4-94D3-1F93635D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014-D8AA-4AC5-B9CC-800ED979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1A9-4DE1-4FE4-AECC-C035267C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72D-E100-4013-91E1-61343C5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DBC-5FF3-4094-B666-75673234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3E0-E467-407D-B2F7-2FE2FB37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B97-EE75-4051-A76C-35C560B8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1BD-D80D-495A-9C7D-6A92F78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CA5-1634-42B4-94C1-C1171D4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09C-9CA8-4587-8F20-64D2FEFD89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 diagnosis output on E2A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514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DC2Wire + Self diagnosis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3048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is fun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n stable position of tar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572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function will be realized by RIS ba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609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diagnosis function (only in NO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4114800" cy="1967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27400" y="1727280"/>
            <a:ext cx="299880" cy="58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25800" y="1654200"/>
            <a:ext cx="0" cy="356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02000" y="1654200"/>
            <a:ext cx="0" cy="357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89400" y="2460600"/>
            <a:ext cx="5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4800" y="3670200"/>
            <a:ext cx="28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1400" y="3416400"/>
            <a:ext cx="1560600" cy="253800"/>
          </a:xfrm>
          <a:custGeom>
            <a:avLst/>
            <a:gdLst/>
            <a:ahLst/>
            <a:rect l="l" t="t" r="r" b="b"/>
            <a:pathLst>
              <a:path w="983" h="160">
                <a:moveTo>
                  <a:pt x="0" y="160"/>
                </a:moveTo>
                <a:lnTo>
                  <a:pt x="0" y="0"/>
                </a:lnTo>
                <a:lnTo>
                  <a:pt x="983" y="0"/>
                </a:lnTo>
                <a:lnTo>
                  <a:pt x="983" y="16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3000" y="3362400"/>
            <a:ext cx="18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87400" y="4181400"/>
            <a:ext cx="281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3000" y="4451400"/>
            <a:ext cx="18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llow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5800" y="3911760"/>
            <a:ext cx="376200" cy="284040"/>
          </a:xfrm>
          <a:custGeom>
            <a:avLst/>
            <a:gdLst/>
            <a:ahLst/>
            <a:rect l="l" t="t" r="r" b="b"/>
            <a:pathLst>
              <a:path w="237" h="179">
                <a:moveTo>
                  <a:pt x="0" y="169"/>
                </a:moveTo>
                <a:lnTo>
                  <a:pt x="0" y="0"/>
                </a:lnTo>
                <a:lnTo>
                  <a:pt x="237" y="1"/>
                </a:lnTo>
                <a:lnTo>
                  <a:pt x="229" y="179"/>
                </a:lnTo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719600"/>
            <a:ext cx="28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00560" y="4464000"/>
            <a:ext cx="1252440" cy="255600"/>
          </a:xfrm>
          <a:custGeom>
            <a:avLst/>
            <a:gdLst/>
            <a:ahLst/>
            <a:rect l="l" t="t" r="r" b="b"/>
            <a:pathLst>
              <a:path w="789" h="161">
                <a:moveTo>
                  <a:pt x="0" y="160"/>
                </a:moveTo>
                <a:lnTo>
                  <a:pt x="0" y="0"/>
                </a:lnTo>
                <a:lnTo>
                  <a:pt x="789" y="0"/>
                </a:lnTo>
                <a:lnTo>
                  <a:pt x="789" y="161"/>
                </a:lnTo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3000" y="3873600"/>
            <a:ext cx="18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5840" y="317340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97400" y="359100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3200" y="5243400"/>
            <a:ext cx="28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5800" y="4975200"/>
            <a:ext cx="376200" cy="284040"/>
          </a:xfrm>
          <a:custGeom>
            <a:avLst/>
            <a:gdLst/>
            <a:ahLst/>
            <a:rect l="l" t="t" r="r" b="b"/>
            <a:pathLst>
              <a:path w="237" h="179">
                <a:moveTo>
                  <a:pt x="0" y="169"/>
                </a:moveTo>
                <a:lnTo>
                  <a:pt x="0" y="0"/>
                </a:lnTo>
                <a:lnTo>
                  <a:pt x="237" y="1"/>
                </a:lnTo>
                <a:lnTo>
                  <a:pt x="229" y="1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67400" y="4935600"/>
            <a:ext cx="26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agnosis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2840" y="480060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7000" y="514980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89200" y="4827600"/>
            <a:ext cx="1008000" cy="671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47800" y="5862600"/>
            <a:ext cx="53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In case of that target has stayed more than 0.3msec in this area (80 to 100% S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3800" y="5486400"/>
            <a:ext cx="174600" cy="496800"/>
          </a:xfrm>
          <a:prstGeom prst="downArrow">
            <a:avLst>
              <a:gd name="adj1" fmla="val 50000"/>
              <a:gd name="adj2" fmla="val 71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884920" y="1290600"/>
            <a:ext cx="3259080" cy="250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45200" y="3979800"/>
            <a:ext cx="29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load on diagnosis output=50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45200" y="4289400"/>
            <a:ext cx="29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al V on diagnosis output=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7400" y="725400"/>
            <a:ext cx="55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use self diagnosis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93800" y="15606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bration , Shock, Ambient temp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5200" y="2097000"/>
            <a:ext cx="457200" cy="579600"/>
          </a:xfrm>
          <a:prstGeom prst="downArrow">
            <a:avLst>
              <a:gd name="adj1" fmla="val 50000"/>
              <a:gd name="adj2" fmla="val 3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81200" y="275760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 position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22740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stance between sensor to tar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9600" y="3790800"/>
            <a:ext cx="457200" cy="579600"/>
          </a:xfrm>
          <a:prstGeom prst="downArrow">
            <a:avLst>
              <a:gd name="adj1" fmla="val 50000"/>
              <a:gd name="adj2" fmla="val 3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1200" y="449280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tection of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17800" y="492300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STOP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37400" y="3038400"/>
            <a:ext cx="671400" cy="739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04200" y="2932200"/>
            <a:ext cx="146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tect this situation by diagnosi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10:27:52Z</dcterms:created>
  <dc:creator>NHA0019E</dc:creator>
  <dc:description/>
  <dc:language>en-US</dc:language>
  <cp:lastModifiedBy>NHA0019E</cp:lastModifiedBy>
  <dcterms:modified xsi:type="dcterms:W3CDTF">2005-02-23T12:51:38Z</dcterms:modified>
  <cp:revision>4</cp:revision>
  <dc:subject/>
  <dc:title>PowerPoint プレゼンテーション</dc:title>
</cp:coreProperties>
</file>