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931-7B34-403E-8547-F69202FB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24A-B103-4A0E-9DEB-69DC6AE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AAD-C41C-4DFD-8E31-E30C8DA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79B-A9E8-403E-B5EF-54DE64BB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16D-8801-4144-838C-FA2844A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E40-0A58-42AC-A9BB-CA09291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32C-C557-4B13-9D78-F44A369F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D70-929A-4B42-A102-41A05A21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BD2-3530-41F4-A7B9-0AE5AB27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0AA-7F44-428A-A051-C54114D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AF8-AA3A-49E0-85D5-967EB54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E5-C6D5-4329-AE59-F6D74E6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8B5-0A0F-4CDA-A809-33DB190318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bration and Shock test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RON has higher test standard than IEC60947-5-2 n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80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brati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14300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55Hz,  1mm amplitu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min / sweep cycle,  30min in each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81952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2000Hz,  1.5mm amplitude or 15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min / sweep cycle,  150min in each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0666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1295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C n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74320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590920"/>
            <a:ext cx="1295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MRON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990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724280"/>
            <a:ext cx="83844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5029200"/>
            <a:ext cx="4572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19720"/>
            <a:ext cx="152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62720"/>
            <a:ext cx="1295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791320"/>
            <a:ext cx="17528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648320"/>
            <a:ext cx="228600" cy="761760"/>
          </a:xfrm>
          <a:prstGeom prst="upDownArrow">
            <a:avLst>
              <a:gd name="adj1" fmla="val 50000"/>
              <a:gd name="adj2" fmla="val 66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943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029200"/>
            <a:ext cx="228600" cy="7632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48"/>
                </a:moveTo>
                <a:cubicBezTo>
                  <a:pt x="12" y="24"/>
                  <a:pt x="24" y="0"/>
                  <a:pt x="48" y="0"/>
                </a:cubicBezTo>
                <a:cubicBezTo>
                  <a:pt x="72" y="0"/>
                  <a:pt x="128" y="40"/>
                  <a:pt x="144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192"/>
                </a:moveTo>
                <a:cubicBezTo>
                  <a:pt x="24" y="160"/>
                  <a:pt x="48" y="128"/>
                  <a:pt x="48" y="96"/>
                </a:cubicBezTo>
                <a:cubicBezTo>
                  <a:pt x="48" y="64"/>
                  <a:pt x="24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00200" y="44956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4648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76720" y="4800600"/>
          <a:ext cx="1322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800600"/>
                    <a:ext cx="1322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14600" y="44956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057400" y="57913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762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C 60947-5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0047200">
            <a:off x="5562720" y="3733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495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 near the high speed eng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380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c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14300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sine shape pulse,  30g,  11msec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times in each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81952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sine shape pulse,  100g(1000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11m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imes in each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0666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990720"/>
            <a:ext cx="1295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C n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74320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590920"/>
            <a:ext cx="1295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MRON standar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762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C 60947-5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105520"/>
            <a:ext cx="54864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al application test (OMRON orig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g, 300000times, at 23 de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267080"/>
            <a:ext cx="6705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114800"/>
            <a:ext cx="1295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MRON standar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ering the mounting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9:06:58Z</dcterms:created>
  <dc:creator>NHA0019E</dc:creator>
  <dc:description/>
  <dc:language>en-US</dc:language>
  <cp:lastModifiedBy>NHA0019E</cp:lastModifiedBy>
  <dcterms:modified xsi:type="dcterms:W3CDTF">2005-02-23T12:54:02Z</dcterms:modified>
  <cp:revision>4</cp:revision>
  <dc:subject/>
  <dc:title>PowerPoint プレゼンテーション</dc:title>
</cp:coreProperties>
</file>