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593-6DD0-4AE1-842A-75A5F501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E44-23F8-44C2-B6DE-659A8AD4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D78-4182-4181-91B2-10D9A658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D78-E34A-4DEF-A9A5-9DC1D3F1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59A-1E8E-40F2-8A07-FAC888CE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D07-6050-45CE-98D2-8332D0AE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D08-7C00-4AD9-9150-0017AA24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6A3-0972-40D0-B948-FBF5663F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EBD-1E7E-42B7-B08C-75608A12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7D6-ABD1-4A5F-A539-63E8738C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3C6-C457-4D29-98F9-05327ED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30F-65C5-4B54-8CE4-244D27DC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ED9B-D3EC-4F01-B934-AEEBE77AA2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8380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munity of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981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 magnetic field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 magnetic field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2514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0 to 200 gauss is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4267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 to 100 gauss is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E(G) has higher magnetic field resistance than E2A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6019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Please ask to OEE SenBU for detail 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38080" y="685800"/>
          <a:ext cx="7772400" cy="52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77240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40080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1066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 not provide this paper to customer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 magnetic field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594360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in ( ) shows sensing distance compared with IEC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 magnetic field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66680" y="1143000"/>
          <a:ext cx="7620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7620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400800" y="533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762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 not provide this paper to customer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624852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in ( ) shows sensing distance compared with IEC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685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c field calculation near high current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124080"/>
            <a:ext cx="5334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[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124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124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24280" y="19051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1447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urrent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428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3276720"/>
            <a:ext cx="7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[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267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gnetic field at point 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480060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gnetic field B=(2*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I)/(a) [gaus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ase of DC current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5181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57150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value is changed by surrounding metal of high current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61722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recommend to do sample test at real applications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762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c flux resistan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 on rotation position of sen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2590920"/>
            <a:ext cx="1219320" cy="20574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2286000"/>
            <a:ext cx="1219320" cy="609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5257800"/>
            <a:ext cx="457200" cy="1295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9b9b9"/>
              </a:gs>
              <a:gs pos="100000">
                <a:srgbClr val="3333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343400"/>
            <a:ext cx="1219320" cy="941400"/>
          </a:xfrm>
          <a:custGeom>
            <a:avLst/>
            <a:gdLst/>
            <a:ahLst/>
            <a:rect l="l" t="t" r="r" b="b"/>
            <a:pathLst>
              <a:path w="763" h="593">
                <a:moveTo>
                  <a:pt x="6" y="0"/>
                </a:moveTo>
                <a:lnTo>
                  <a:pt x="85" y="68"/>
                </a:lnTo>
                <a:lnTo>
                  <a:pt x="204" y="110"/>
                </a:lnTo>
                <a:lnTo>
                  <a:pt x="342" y="144"/>
                </a:lnTo>
                <a:lnTo>
                  <a:pt x="438" y="144"/>
                </a:lnTo>
                <a:lnTo>
                  <a:pt x="551" y="127"/>
                </a:lnTo>
                <a:lnTo>
                  <a:pt x="670" y="76"/>
                </a:lnTo>
                <a:lnTo>
                  <a:pt x="763" y="0"/>
                </a:lnTo>
                <a:lnTo>
                  <a:pt x="763" y="305"/>
                </a:lnTo>
                <a:lnTo>
                  <a:pt x="551" y="593"/>
                </a:lnTo>
                <a:lnTo>
                  <a:pt x="212" y="593"/>
                </a:lnTo>
                <a:lnTo>
                  <a:pt x="9" y="31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828800" y="198072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600200" y="20574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057400" y="190512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295280" y="20570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447920" y="2209320"/>
            <a:ext cx="190476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00200" y="2362320"/>
            <a:ext cx="19051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1600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gnetic flux direc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4479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flux direction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1240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etic flux direction A and B cause different resistance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3886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43434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ame from shape of ferrite core in sen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334120"/>
            <a:ext cx="5334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had malfunction signal in magnetic fiel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try to turn the sensor into good direction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0:38:54Z</dcterms:created>
  <dc:creator>NHA0019E</dc:creator>
  <dc:description/>
  <dc:language>en-US</dc:language>
  <cp:lastModifiedBy>NHA0019E</cp:lastModifiedBy>
  <dcterms:modified xsi:type="dcterms:W3CDTF">2005-02-23T12:52:02Z</dcterms:modified>
  <cp:revision>6</cp:revision>
  <dc:subject/>
  <dc:title>PowerPoint プレゼンテーション</dc:title>
</cp:coreProperties>
</file>