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7AB-BDCE-4638-9640-5DB420F7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623-6D43-4510-B7AC-8624E2C3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739-636C-42D4-9567-D7316AB6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23B-81AE-4731-ABAE-6540A8F9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03A-945A-4AFE-8476-55B2A789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140-1FFA-432B-A256-8433F46D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66E-3575-4555-8867-DC665D89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6BC-8067-4B96-B732-404A6330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6D1-E311-470F-BE05-2D2C0E39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9B4-537B-4068-B604-6D1FB271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CC7-C01C-449F-86E6-E80BD58B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0EF7-6DE6-4F5A-B727-731E9A0D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01AA-3DFF-4B80-B39E-2393413DB5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Length Change of E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849400"/>
            <a:ext cx="68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Please ask to SenBU marketing for detail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76120" y="4044960"/>
          <a:ext cx="257184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4044960"/>
                    <a:ext cx="257184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95200" y="3209760"/>
          <a:ext cx="4496040" cy="10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200" y="3209760"/>
                    <a:ext cx="4496040" cy="10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84200" y="619200"/>
            <a:ext cx="497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00" y="69840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110040" y="1717560"/>
          <a:ext cx="5549760" cy="39988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148608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 Leng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hange from standard short typ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08 C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08 Conn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2 C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1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2 Conn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8 C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.9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8 Conn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7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0 C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.2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0 Conn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062000" y="1116000"/>
            <a:ext cx="75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 each case, please ask to OEE SenB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9840" y="25020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14640" y="2494080"/>
            <a:ext cx="0" cy="2958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6600" y="2703600"/>
            <a:ext cx="178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0" y="2178000"/>
            <a:ext cx="21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dy length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84200" y="619200"/>
            <a:ext cx="497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0800" y="69840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ther short body lengt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0600" y="1411200"/>
            <a:ext cx="747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can eliminate func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possible to reduce body length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84520" y="3618000"/>
            <a:ext cx="29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or (L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8560" y="4008600"/>
            <a:ext cx="61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connection protection for OUTPUT (except M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11200" y="3416400"/>
            <a:ext cx="7194600" cy="209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7400" y="3186000"/>
            <a:ext cx="224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60800" y="4896000"/>
            <a:ext cx="108000" cy="106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60800" y="5097600"/>
            <a:ext cx="108000" cy="106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60800" y="5299200"/>
            <a:ext cx="108000" cy="106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14400" y="4373640"/>
            <a:ext cx="61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 circuit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45:40Z</dcterms:created>
  <dc:creator>NHA0019E</dc:creator>
  <dc:description/>
  <dc:language>en-US</dc:language>
  <cp:lastModifiedBy>NHA0019E</cp:lastModifiedBy>
  <dcterms:modified xsi:type="dcterms:W3CDTF">2005-02-23T12:48:19Z</dcterms:modified>
  <cp:revision>12</cp:revision>
  <dc:subject/>
  <dc:title>PowerPoint プレゼンテーション</dc:title>
</cp:coreProperties>
</file>