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8EF1-5A36-424A-8F94-792A5039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61C6-4210-480E-93C8-25C4A1D0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B6DD-CF48-4D7B-B45B-7E4036DD8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4AA9-420A-4F85-98C6-15498ED2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F03F-A0FC-4F9F-88D9-40E19A18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A788-D778-4928-A653-FE069B14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7FF1-9EE2-46A4-A2CD-32AF31E6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C948-DD3B-4FE3-AAE8-4470E4BA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497A-AD18-4EF1-843E-B6E69141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2A87-C0E6-4D26-8C32-A130E0E6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49B2-0AE1-47E0-9F4D-94060C87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7691-9784-4D1D-85A7-06B1D15B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44D4-1D0C-4D64-B5FB-DA54A30C061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oil-proof construction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2057400"/>
            <a:ext cx="6705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reliability for harsh applicatio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specially for cooling lubricant in machine too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365760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Automobile manufacture -----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Machine tools manufacture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5181480"/>
            <a:ext cx="7772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Our Prox is standard sensor in main car manufactures (Japa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391520" y="0"/>
            <a:ext cx="1752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ＭＳ Ｐゴシック"/>
              </a:rPr>
              <a:t>Confid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0360" y="160200"/>
            <a:ext cx="1835640" cy="459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l-proof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38400" y="2459160"/>
            <a:ext cx="17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4640" y="18669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430280"/>
            <a:ext cx="1598400" cy="154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990720"/>
            <a:ext cx="0" cy="55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3320" y="990720"/>
            <a:ext cx="0" cy="43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88840" y="761760"/>
            <a:ext cx="299880" cy="1757160"/>
            <a:chOff x="888840" y="761760"/>
            <a:chExt cx="299880" cy="1757160"/>
          </a:xfrm>
        </p:grpSpPr>
        <p:sp>
          <p:nvSpPr>
            <p:cNvPr id="53" name=""/>
            <p:cNvSpPr/>
            <p:nvPr/>
          </p:nvSpPr>
          <p:spPr>
            <a:xfrm flipV="1">
              <a:off x="1147320" y="1920240"/>
              <a:ext cx="1800" cy="8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1163880" y="2008440"/>
              <a:ext cx="0" cy="12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993240" y="1886760"/>
              <a:ext cx="0" cy="1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05480" y="1868760"/>
              <a:ext cx="11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1007280" y="1792800"/>
              <a:ext cx="10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1005480" y="1776960"/>
              <a:ext cx="0" cy="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1015920" y="1762920"/>
              <a:ext cx="0" cy="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005480" y="1748880"/>
              <a:ext cx="0" cy="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007640" y="1751040"/>
              <a:ext cx="10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1114200" y="1776960"/>
              <a:ext cx="0" cy="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1103400" y="1766520"/>
              <a:ext cx="216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114200" y="1748880"/>
              <a:ext cx="1800" cy="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122120" y="1904400"/>
              <a:ext cx="0" cy="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1120320" y="1868400"/>
              <a:ext cx="0" cy="1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1005480" y="1904400"/>
              <a:ext cx="0" cy="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993240" y="1906560"/>
              <a:ext cx="13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93240" y="1890720"/>
              <a:ext cx="13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03680" y="1866960"/>
              <a:ext cx="1800" cy="2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888840" y="2502360"/>
              <a:ext cx="35280" cy="1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888840" y="248652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flipV="1">
              <a:off x="888840" y="247068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888840" y="2454480"/>
              <a:ext cx="35280" cy="1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888840" y="243864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888840" y="242280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888840" y="240696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888840" y="2390760"/>
              <a:ext cx="35280" cy="1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888840" y="237492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888840" y="235908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888840" y="234324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888840" y="2327040"/>
              <a:ext cx="35280" cy="1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flipV="1">
              <a:off x="888840" y="231120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888840" y="229536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888840" y="2278800"/>
              <a:ext cx="35280" cy="1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888840" y="226296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888840" y="224712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888840" y="223128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888840" y="2215080"/>
              <a:ext cx="35280" cy="1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888840" y="219924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888840" y="218340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888840" y="2167200"/>
              <a:ext cx="35280" cy="1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888840" y="215136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888840" y="2139840"/>
              <a:ext cx="23040" cy="1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1153440" y="2502360"/>
              <a:ext cx="35280" cy="1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1153440" y="248652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1153440" y="247068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1153440" y="2454480"/>
              <a:ext cx="35280" cy="1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1153440" y="243864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1153440" y="242280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1153440" y="240696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1153440" y="2390760"/>
              <a:ext cx="35280" cy="1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1153440" y="237492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1153440" y="235908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153440" y="234324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1153440" y="2327040"/>
              <a:ext cx="35280" cy="1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1153440" y="231120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1153440" y="229536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153440" y="2278800"/>
              <a:ext cx="35280" cy="1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1153440" y="226296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1153440" y="224712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1153440" y="223128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1153440" y="2215080"/>
              <a:ext cx="35280" cy="1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 flipV="1">
              <a:off x="1153440" y="219924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153440" y="218340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1153440" y="2167200"/>
              <a:ext cx="35280" cy="1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1153440" y="215136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1163520" y="2135880"/>
              <a:ext cx="24840" cy="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24120" y="2518920"/>
              <a:ext cx="23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975600" y="1973880"/>
              <a:ext cx="1692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928440" y="1982160"/>
              <a:ext cx="4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993240" y="1920240"/>
              <a:ext cx="0" cy="5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0000">
              <a:off x="567360" y="1206000"/>
              <a:ext cx="986760" cy="9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911880" y="2008080"/>
              <a:ext cx="0" cy="13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928440" y="1984320"/>
              <a:ext cx="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1155600" y="2010240"/>
              <a:ext cx="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993240" y="1920600"/>
              <a:ext cx="15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1130760" y="1886760"/>
              <a:ext cx="0" cy="1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1005120" y="1850400"/>
              <a:ext cx="1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1005480" y="1834560"/>
              <a:ext cx="0" cy="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1015920" y="1820880"/>
              <a:ext cx="0" cy="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1005480" y="1806840"/>
              <a:ext cx="0" cy="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07640" y="1809000"/>
              <a:ext cx="10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1114200" y="1834560"/>
              <a:ext cx="0" cy="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103400" y="1820880"/>
              <a:ext cx="0" cy="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1114200" y="1810440"/>
              <a:ext cx="180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1049040" y="1765080"/>
              <a:ext cx="16200" cy="7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6200000">
              <a:off x="1049400" y="1823400"/>
              <a:ext cx="18000" cy="68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22320" y="2486880"/>
              <a:ext cx="2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24120" y="2454840"/>
              <a:ext cx="23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24120" y="2423160"/>
              <a:ext cx="23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22320" y="2391120"/>
              <a:ext cx="2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24120" y="2359440"/>
              <a:ext cx="23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22320" y="2327400"/>
              <a:ext cx="2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24120" y="2295720"/>
              <a:ext cx="23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24120" y="2263320"/>
              <a:ext cx="23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22320" y="2231640"/>
              <a:ext cx="2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22320" y="2199600"/>
              <a:ext cx="2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11880" y="2134080"/>
              <a:ext cx="25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22320" y="2076120"/>
              <a:ext cx="23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22320" y="2106000"/>
              <a:ext cx="23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19800" y="2167560"/>
              <a:ext cx="23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919800" y="2010240"/>
              <a:ext cx="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9800" y="2042280"/>
              <a:ext cx="23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1880" y="2008440"/>
              <a:ext cx="25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05480" y="1836360"/>
              <a:ext cx="10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05480" y="1823040"/>
              <a:ext cx="1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04760" y="1779120"/>
              <a:ext cx="1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07640" y="176508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93240" y="1974600"/>
              <a:ext cx="15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31480" y="2666880"/>
            <a:ext cx="17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IL temp.=50deg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1640" y="1154160"/>
            <a:ext cx="248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Test meth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merse the sensor to under oi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il temp. is 50 deg.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81080" y="1992240"/>
            <a:ext cx="2438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 u="sng">
                <a:solidFill>
                  <a:srgbClr val="000000"/>
                </a:solidFill>
                <a:uFillTx/>
                <a:latin typeface="Times New Roman"/>
              </a:rPr>
              <a:t>Criter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1) Satisfy  the Sr and insulating resistance spe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2) No damage at outer of sensor.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83960" y="152280"/>
            <a:ext cx="563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2A keep the high performance same as E2E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E2A pass the more harsh test than IEC standa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by new structure at cable protect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1905120"/>
            <a:ext cx="3505320" cy="87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M18 shielded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Oil : Synsetic CSF8000 (Japanese lubrica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2538360"/>
            <a:ext cx="0" cy="258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05520" y="4265640"/>
            <a:ext cx="152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5520" y="3276720"/>
            <a:ext cx="152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10800000">
            <a:off x="4419720" y="2743200"/>
            <a:ext cx="606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mersing Time (hou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3124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27440" y="4114800"/>
            <a:ext cx="55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3048120"/>
            <a:ext cx="228600" cy="20779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5880" y="3048120"/>
            <a:ext cx="228600" cy="2077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62920" y="4267080"/>
            <a:ext cx="228600" cy="85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10280" y="39924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29400" y="4253040"/>
            <a:ext cx="22860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2666880"/>
            <a:ext cx="60984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543800" y="46022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96080" y="4876920"/>
            <a:ext cx="228600" cy="24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229600" y="3262320"/>
            <a:ext cx="228600" cy="18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001000" y="2971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39924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43600" y="2666880"/>
            <a:ext cx="60948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5715000"/>
            <a:ext cx="4724280" cy="631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2A pass in 21 kind of cooling lubricant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se oil are using in TOYOTA (car manufacture 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3352680"/>
            <a:ext cx="533520" cy="533520"/>
          </a:xfrm>
          <a:prstGeom prst="up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67 test in OM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512136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52070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91320" y="52070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2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772400" y="51213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35920" y="5176800"/>
            <a:ext cx="48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ence    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77120" y="5176800"/>
            <a:ext cx="685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AMATAKE      FL7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0120" y="5186520"/>
            <a:ext cx="53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M  IG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01000" y="5253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P+F   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ＮＢＢ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0520" y="533520"/>
            <a:ext cx="3566880" cy="459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ble material for oil-pro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95600" y="5202360"/>
            <a:ext cx="17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61840" y="46101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4173480"/>
            <a:ext cx="1598400" cy="154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3733920"/>
            <a:ext cx="0" cy="55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60520" y="3733920"/>
            <a:ext cx="0" cy="43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346040" y="3711240"/>
            <a:ext cx="299880" cy="1757160"/>
            <a:chOff x="1346040" y="3711240"/>
            <a:chExt cx="299880" cy="1757160"/>
          </a:xfrm>
        </p:grpSpPr>
        <p:sp>
          <p:nvSpPr>
            <p:cNvPr id="202" name=""/>
            <p:cNvSpPr/>
            <p:nvPr/>
          </p:nvSpPr>
          <p:spPr>
            <a:xfrm flipV="1">
              <a:off x="1604520" y="4869720"/>
              <a:ext cx="1800" cy="8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621080" y="4957920"/>
              <a:ext cx="0" cy="12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450440" y="4836240"/>
              <a:ext cx="0" cy="1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62680" y="4818240"/>
              <a:ext cx="11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464480" y="4742280"/>
              <a:ext cx="10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1462680" y="4726440"/>
              <a:ext cx="0" cy="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1473120" y="4712400"/>
              <a:ext cx="0" cy="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1462680" y="4698360"/>
              <a:ext cx="0" cy="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64840" y="4700520"/>
              <a:ext cx="10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1571400" y="4726440"/>
              <a:ext cx="0" cy="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1560600" y="4716000"/>
              <a:ext cx="216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1571400" y="4698360"/>
              <a:ext cx="1800" cy="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579320" y="4853880"/>
              <a:ext cx="0" cy="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1577520" y="4817880"/>
              <a:ext cx="0" cy="1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1462680" y="4853880"/>
              <a:ext cx="0" cy="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1450440" y="4856040"/>
              <a:ext cx="13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50440" y="4840200"/>
              <a:ext cx="13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1460880" y="4816440"/>
              <a:ext cx="1800" cy="2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1346040" y="5451840"/>
              <a:ext cx="35280" cy="1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1346040" y="543600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1346040" y="542016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1346040" y="5403960"/>
              <a:ext cx="35280" cy="1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1346040" y="538812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1346040" y="537228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1346040" y="535644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346040" y="5340240"/>
              <a:ext cx="35280" cy="1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1346040" y="532440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346040" y="530856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1346040" y="529272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1346040" y="5276520"/>
              <a:ext cx="35280" cy="1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1346040" y="526068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1346040" y="524484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1346040" y="5228280"/>
              <a:ext cx="35280" cy="1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1346040" y="521244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1346040" y="519660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1346040" y="518076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1346040" y="5164560"/>
              <a:ext cx="35280" cy="1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346040" y="514872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1346040" y="513288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1346040" y="5116680"/>
              <a:ext cx="35280" cy="1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1346040" y="510084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1346040" y="5089320"/>
              <a:ext cx="23040" cy="1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1610640" y="5451840"/>
              <a:ext cx="35280" cy="1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1610640" y="543600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1610640" y="542016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1610640" y="5403960"/>
              <a:ext cx="35280" cy="1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1610640" y="538812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1610640" y="537228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1610640" y="535644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flipV="1">
              <a:off x="1610640" y="5340240"/>
              <a:ext cx="35280" cy="1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1610640" y="532440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1610640" y="530856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1610640" y="529272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1610640" y="5276520"/>
              <a:ext cx="35280" cy="1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1610640" y="526068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 flipV="1">
              <a:off x="1610640" y="524484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1610640" y="5228280"/>
              <a:ext cx="35280" cy="1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flipV="1">
              <a:off x="1610640" y="521244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1610640" y="519660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1610640" y="518076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1610640" y="5164560"/>
              <a:ext cx="35280" cy="1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1610640" y="514872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1610640" y="513288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1610640" y="5116680"/>
              <a:ext cx="35280" cy="1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1610640" y="5100840"/>
              <a:ext cx="35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 flipV="1">
              <a:off x="1620720" y="5085360"/>
              <a:ext cx="24840" cy="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381320" y="5468400"/>
              <a:ext cx="23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1432800" y="4923360"/>
              <a:ext cx="1692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1385640" y="4931640"/>
              <a:ext cx="4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450440" y="4869720"/>
              <a:ext cx="0" cy="5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6200000">
              <a:off x="1024560" y="4155480"/>
              <a:ext cx="986760" cy="9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1369080" y="4957560"/>
              <a:ext cx="0" cy="13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1385640" y="4933800"/>
              <a:ext cx="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1612800" y="4959720"/>
              <a:ext cx="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1450440" y="4870080"/>
              <a:ext cx="15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1587960" y="4836240"/>
              <a:ext cx="0" cy="1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1462320" y="4799880"/>
              <a:ext cx="1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1462680" y="4784040"/>
              <a:ext cx="0" cy="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1473120" y="4770360"/>
              <a:ext cx="0" cy="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1462680" y="4756320"/>
              <a:ext cx="0" cy="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64840" y="4758480"/>
              <a:ext cx="10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1571400" y="4784040"/>
              <a:ext cx="0" cy="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1560600" y="4770360"/>
              <a:ext cx="0" cy="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1571400" y="4759920"/>
              <a:ext cx="180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6200000">
              <a:off x="1506240" y="4714560"/>
              <a:ext cx="16200" cy="7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6200000">
              <a:off x="1506600" y="4772880"/>
              <a:ext cx="18000" cy="68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379520" y="5436360"/>
              <a:ext cx="2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81320" y="5404320"/>
              <a:ext cx="23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381320" y="5372640"/>
              <a:ext cx="23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379520" y="5340600"/>
              <a:ext cx="2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81320" y="5308920"/>
              <a:ext cx="23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379520" y="5276880"/>
              <a:ext cx="2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381320" y="5245200"/>
              <a:ext cx="23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381320" y="5212800"/>
              <a:ext cx="23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379520" y="5181120"/>
              <a:ext cx="2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379520" y="5149080"/>
              <a:ext cx="2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69080" y="5083560"/>
              <a:ext cx="25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79520" y="5025600"/>
              <a:ext cx="23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79520" y="5055480"/>
              <a:ext cx="23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377000" y="5117040"/>
              <a:ext cx="23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1377000" y="4959720"/>
              <a:ext cx="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77000" y="4991760"/>
              <a:ext cx="23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369080" y="4957920"/>
              <a:ext cx="25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462680" y="4785840"/>
              <a:ext cx="10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62680" y="4772520"/>
              <a:ext cx="1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61960" y="4728600"/>
              <a:ext cx="1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64840" y="47145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50440" y="4924080"/>
              <a:ext cx="15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688680" y="5410080"/>
            <a:ext cx="17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IL temp.=50deg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14400" y="1447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material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V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48120" y="182880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2438280"/>
            <a:ext cx="411480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gra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keep oil-proof perform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38280" y="4173480"/>
            <a:ext cx="152640" cy="609480"/>
          </a:xfrm>
          <a:custGeom>
            <a:avLst/>
            <a:gdLst>
              <a:gd name="textAreaLeft" fmla="*/ 0 w 152640"/>
              <a:gd name="textAreaRight" fmla="*/ 5508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14600" y="42670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ing sensor also with 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24400" y="4405320"/>
            <a:ext cx="365760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want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provide PUR cable ty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76920" y="274320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86400" y="2438280"/>
            <a:ext cx="2971800" cy="1381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VC cable for E2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at oil-proof applic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10:33:55Z</dcterms:created>
  <dc:creator>tankaz</dc:creator>
  <dc:description/>
  <dc:language>en-US</dc:language>
  <cp:lastModifiedBy>tankaz</cp:lastModifiedBy>
  <dcterms:modified xsi:type="dcterms:W3CDTF">2003-03-17T16:40:14Z</dcterms:modified>
  <cp:revision>10</cp:revision>
  <dc:subject/>
  <dc:title>PowerPoint プレゼンテーション</dc:title>
</cp:coreProperties>
</file>